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7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F12865-70BA-456B-A944-1C6FA2D94A7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64C-DD16-49C0-B5B6-4DA05030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6E2-86C4-4974-A827-849F11A2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FB6-C1D6-4964-B9F8-90E073F5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340-795F-4840-BE70-DB89B1CA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083-4D87-413B-A92A-F2FC8CCB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E92-F469-464D-8A23-73CD207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A63-A002-440C-AE97-09DCFFB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00D-7461-4C2D-B088-524809E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3B3-3725-48E5-8A4E-CD7B1149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B9D4-B9C5-45D8-95A7-61AB190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213-5FA9-4874-A232-32B8CD0D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ED1-7669-432B-875A-5D2BCF7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99D0A2B2-3712-4EE1-9D00-2C62E38F3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omoti.com/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oreillynet.com/pub/a/oreilly/tim/news/2005/09/30/what-is-web-20.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141880"/>
            <a:ext cx="70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７月１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小樽商科大学札幌サテライ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考える技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時代の建設業と</a:t>
            </a: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ﾌﾞｰｹ"/>
              </a:rPr>
              <a:t>原初抑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379600" y="1557360"/>
            <a:ext cx="5505480" cy="51084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84720" y="1989000"/>
            <a:ext cx="15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想像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4494240"/>
            <a:ext cx="172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現実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3080" y="444024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象徴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22880" y="3573360"/>
            <a:ext cx="10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2e18"/>
                </a:solidFill>
                <a:latin typeface="HGP明朝B"/>
                <a:ea typeface="HGPﾌﾞｰｹ"/>
              </a:rPr>
              <a:t>去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08520" y="2997360"/>
            <a:ext cx="879480" cy="115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40360" y="1630440"/>
            <a:ext cx="2303640" cy="1511280"/>
          </a:xfrm>
          <a:prstGeom prst="wedgeEllipseCallout">
            <a:avLst>
              <a:gd name="adj1" fmla="val -32564"/>
              <a:gd name="adj2" fmla="val 72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こと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日本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708000" y="515772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076640"/>
            <a:ext cx="2376360" cy="2157480"/>
          </a:xfrm>
          <a:prstGeom prst="wedgeEllipseCallout">
            <a:avLst>
              <a:gd name="adj1" fmla="val 54476"/>
              <a:gd name="adj2" fmla="val -23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ﾌﾞｰｹ"/>
              </a:rPr>
              <a:t>欲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6560" y="404640"/>
            <a:ext cx="3529080" cy="3168720"/>
          </a:xfrm>
          <a:prstGeom prst="wedgeEllipseCallout">
            <a:avLst>
              <a:gd name="adj1" fmla="val 55398"/>
              <a:gd name="adj2" fmla="val 22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情愛・悲哀の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232000" cy="16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語による抑圧不全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語をデコードす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2565360"/>
            <a:ext cx="6624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32000" y="2565360"/>
            <a:ext cx="6553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漢字 ひらがな　＝カタカ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32000" y="256536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2565360"/>
            <a:ext cx="0" cy="69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2349360"/>
            <a:ext cx="324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234936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07664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35280" y="4076640"/>
            <a:ext cx="0" cy="69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4076640"/>
            <a:ext cx="82818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漢字 ＝古代倭語＝平仮名・片仮名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52100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2359080"/>
            <a:ext cx="5834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新聞をよむ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和歌をよむ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3" name=""/>
          <p:cNvSpPr/>
          <p:nvPr/>
        </p:nvSpPr>
        <p:spPr>
          <a:xfrm>
            <a:off x="5437080" y="137952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読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37080" y="317988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詠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3564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＝ど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8720" y="27306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＝え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51944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読み（漢字の象形）が訓読み（かな）に注釈を与え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32000" y="43920"/>
            <a:ext cx="6549840" cy="86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右脳的な左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58640" y="1071720"/>
            <a:ext cx="5877360" cy="5452920"/>
            <a:chOff x="1358640" y="1071720"/>
            <a:chExt cx="5877360" cy="5452920"/>
          </a:xfrm>
        </p:grpSpPr>
        <p:grpSp>
          <p:nvGrpSpPr>
            <p:cNvPr id="290" name=""/>
            <p:cNvGrpSpPr/>
            <p:nvPr/>
          </p:nvGrpSpPr>
          <p:grpSpPr>
            <a:xfrm>
              <a:off x="1358640" y="1071720"/>
              <a:ext cx="5877360" cy="5452920"/>
              <a:chOff x="1358640" y="1071720"/>
              <a:chExt cx="5877360" cy="5452920"/>
            </a:xfrm>
          </p:grpSpPr>
          <p:sp>
            <p:nvSpPr>
              <p:cNvPr id="291" name=""/>
              <p:cNvSpPr/>
              <p:nvPr/>
            </p:nvSpPr>
            <p:spPr>
              <a:xfrm>
                <a:off x="3344760" y="4707000"/>
                <a:ext cx="2159280" cy="181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爬虫類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85880" y="3205080"/>
                <a:ext cx="3637080" cy="331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哺乳類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697040" y="1476360"/>
                <a:ext cx="5538960" cy="5048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58640" y="1071720"/>
                <a:ext cx="219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人類に形成された新皮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54160" y="1476360"/>
                <a:ext cx="53172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370960" y="1752480"/>
                <a:ext cx="1948320" cy="28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999" y="151"/>
                    </a:moveTo>
                    <a:arcTo wR="10800" hR="10800" stAng="-5976065" swAng="60802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999" y="151"/>
                    </a:moveTo>
                    <a:arcTo wR="10800" hR="10800" stAng="-5976065" swAng="608020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199600">
                <a:off x="4743000" y="1611360"/>
                <a:ext cx="1882440" cy="229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67" y="285"/>
                    </a:moveTo>
                    <a:arcTo wR="10800" hR="10800" stAng="-4607804" swAng="6395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67" y="285"/>
                    </a:moveTo>
                    <a:arcTo wR="10800" hR="10800" stAng="-4607804" swAng="639520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079880" y="1616040"/>
                <a:ext cx="71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脳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84440" y="251604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左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16360" y="250992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右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3321600">
                <a:off x="5578200" y="3612600"/>
                <a:ext cx="447480" cy="4194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3321600">
                <a:off x="4898880" y="4778280"/>
                <a:ext cx="446040" cy="4176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2589120" y="3429000"/>
              <a:ext cx="75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2e18"/>
                  </a:solidFill>
                  <a:latin typeface="HGP明朝B"/>
                  <a:ea typeface="HGPﾌﾞｰｹ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763640" y="3860640"/>
            <a:ext cx="887400" cy="71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32000" y="3598920"/>
            <a:ext cx="50796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197160"/>
            <a:ext cx="17301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漢字の中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左脳</a:t>
            </a:r>
            <a:br>
              <a:rPr sz="8800"/>
            </a:b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3068640"/>
            <a:ext cx="69962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言語的な構造にしたがって働く知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論理的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詳細を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右脳</a:t>
            </a:r>
            <a:br>
              <a:rPr sz="8800"/>
            </a:b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3068640"/>
            <a:ext cx="770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非言語的の情動的な知性の働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対象性の知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大きな全体像としてとらえ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語で考える私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79280" y="2349360"/>
            <a:ext cx="8664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バイロジッ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バイロジッ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4" name=""/>
          <p:cNvSpPr/>
          <p:nvPr/>
        </p:nvSpPr>
        <p:spPr>
          <a:xfrm>
            <a:off x="2338560" y="249228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8560" y="2624040"/>
            <a:ext cx="201744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427280" y="2624040"/>
            <a:ext cx="187164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1628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象性の知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05440" y="155736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論理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486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バイ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19640" y="35701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6560" y="3573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98920" y="169704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587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ｇ◦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4149720"/>
            <a:ext cx="248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ｇ＝写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ｆ＝潜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ｈ＝理論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IT</a:t>
            </a:r>
            <a:r>
              <a:rPr b="0" lang="zh-CN" sz="32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が普通にある時代に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象徴の一部否定＝キアスム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26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分離→結合→再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49640" y="1298160"/>
            <a:ext cx="8340120" cy="3930840"/>
            <a:chOff x="449640" y="1298160"/>
            <a:chExt cx="8340120" cy="3930840"/>
          </a:xfrm>
        </p:grpSpPr>
        <p:sp>
          <p:nvSpPr>
            <p:cNvPr id="328" name=""/>
            <p:cNvSpPr/>
            <p:nvPr/>
          </p:nvSpPr>
          <p:spPr>
            <a:xfrm flipV="1">
              <a:off x="1763640" y="2190600"/>
              <a:ext cx="0" cy="236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63640" y="2190960"/>
              <a:ext cx="5545080" cy="30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763640" y="1298160"/>
              <a:ext cx="5545080" cy="32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08720" y="1298520"/>
              <a:ext cx="0" cy="39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3640" y="2526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640" y="2950200"/>
              <a:ext cx="10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Fx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29680" y="3031920"/>
              <a:ext cx="136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 </a:t>
              </a:r>
              <a:r>
                <a:rPr b="0" lang="en-US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Fa</a:t>
              </a:r>
              <a:r>
                <a:rPr b="0" lang="en-US" sz="2800" spc="-1" strike="noStrike" baseline="30000">
                  <a:solidFill>
                    <a:srgbClr val="00004a"/>
                  </a:solidFill>
                  <a:latin typeface="HGPﾌﾞｰｹ"/>
                  <a:ea typeface="HGPﾌﾞｰｹ"/>
                </a:rPr>
                <a:t>-1</a:t>
              </a:r>
              <a:r>
                <a:rPr b="0" lang="en-US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(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51640" y="2276640"/>
              <a:ext cx="0" cy="21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6360" y="1770840"/>
              <a:ext cx="24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トリックスタ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280" y="26064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話のアルゴリズム</a:t>
            </a:r>
            <a:br>
              <a:rPr sz="4400"/>
            </a:br>
            <a:br>
              <a:rPr sz="4400"/>
            </a:br>
            <a:r>
              <a:rPr b="0" lang="ja-JP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 : Fy(b)</a:t>
            </a:r>
            <a:r>
              <a:rPr b="0" lang="ja-JP" sz="44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ja-JP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</a:t>
            </a:r>
            <a:r>
              <a:rPr b="0" lang="ja-JP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ｘ</a:t>
            </a:r>
            <a:r>
              <a:rPr b="0" lang="ja-JP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b) : Fa</a:t>
            </a:r>
            <a:r>
              <a:rPr b="0" lang="ja-JP" sz="2400" spc="-1" strike="noStrike" baseline="30000">
                <a:solidFill>
                  <a:srgbClr val="00004a"/>
                </a:solidFill>
                <a:latin typeface="HGPﾌﾞｰｹ"/>
                <a:ea typeface="HGPﾌﾞｰｹ"/>
              </a:rPr>
              <a:t>-1</a:t>
            </a:r>
            <a:r>
              <a:rPr b="0" lang="ja-JP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y)</a:t>
            </a:r>
            <a:br>
              <a:rPr sz="4400"/>
            </a:br>
            <a:br>
              <a:rPr sz="1200"/>
            </a:br>
            <a:r>
              <a:rPr b="0" lang="ja-JP" sz="2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はアナロジー関係</a:t>
            </a:r>
            <a:endParaRPr b="0" lang="en-US" sz="2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38" name=""/>
          <p:cNvSpPr/>
          <p:nvPr/>
        </p:nvSpPr>
        <p:spPr>
          <a:xfrm>
            <a:off x="1116000" y="90792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クロード・レヴィ＝ストロー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56176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ひねり＝個体化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40" name=""/>
          <p:cNvSpPr/>
          <p:nvPr/>
        </p:nvSpPr>
        <p:spPr>
          <a:xfrm>
            <a:off x="4932360" y="3860640"/>
            <a:ext cx="35258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ベルナール・スティグレール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「私」と「われわれ」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04640" y="1562040"/>
            <a:ext cx="8272800" cy="49626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300720" y="2781360"/>
            <a:ext cx="2376720" cy="6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私：二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12000" y="4437000"/>
            <a:ext cx="1067040" cy="6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一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0920" y="2650680"/>
            <a:ext cx="7848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ゼマンティク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ミーム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過去把持装置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9440" y="2706840"/>
            <a:ext cx="8207640" cy="50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われわれ＝中景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2680" y="936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47640" y="1195560"/>
            <a:ext cx="6048720" cy="5329080"/>
            <a:chOff x="1547640" y="1195560"/>
            <a:chExt cx="6048720" cy="5329080"/>
          </a:xfrm>
        </p:grpSpPr>
        <p:sp>
          <p:nvSpPr>
            <p:cNvPr id="349" name=""/>
            <p:cNvSpPr/>
            <p:nvPr/>
          </p:nvSpPr>
          <p:spPr>
            <a:xfrm>
              <a:off x="1547640" y="1195560"/>
              <a:ext cx="6048720" cy="532908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06720" y="2127240"/>
              <a:ext cx="4844880" cy="439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20960" y="5127480"/>
              <a:ext cx="1551240" cy="1397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9840" y="2335320"/>
              <a:ext cx="129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49840" y="1338120"/>
              <a:ext cx="12920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843280" y="328464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地域社会　協会   企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学校 　家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57" name=""/>
          <p:cNvSpPr/>
          <p:nvPr/>
        </p:nvSpPr>
        <p:spPr>
          <a:xfrm>
            <a:off x="260280" y="880200"/>
            <a:ext cx="86328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br>
              <a:rPr sz="2000"/>
            </a:br>
            <a:r>
              <a:rPr b="0" lang="en-US" sz="1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http://www.momoti.com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GPﾌﾞｰｹ"/>
                <a:ea typeface="HGPﾌﾞｰｹ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店主戯言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359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9440" y="3209400"/>
            <a:ext cx="820764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中景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の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再構築としての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協会ベースの</a:t>
            </a:r>
            <a:r>
              <a:rPr b="0" lang="en-US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IT</a:t>
            </a:r>
            <a:r>
              <a:rPr b="0" lang="zh-CN" sz="72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化</a:t>
            </a:r>
            <a:br>
              <a:rPr sz="7200"/>
            </a:b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にしこり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70" name=""/>
          <p:cNvSpPr/>
          <p:nvPr/>
        </p:nvSpPr>
        <p:spPr>
          <a:xfrm>
            <a:off x="668160" y="198936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キアスム図式（交差理論法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73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分離→結合→再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0872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5164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278136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が普通にある時代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87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497600" y="6531120"/>
            <a:ext cx="613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a000"/>
                </a:solidFill>
                <a:uFillTx/>
                <a:latin typeface="HGP明朝B"/>
                <a:ea typeface="HGP明朝B"/>
                <a:hlinkClick r:id="rId2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90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というミーム（象徴）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一部否定的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受容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844640"/>
            <a:ext cx="8785440" cy="227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とりあえずは、大きな動きの中で流れて、それ以上のスピードで流れていくことで独自性を保つ。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95" name=""/>
          <p:cNvSpPr/>
          <p:nvPr/>
        </p:nvSpPr>
        <p:spPr>
          <a:xfrm>
            <a:off x="971640" y="6024600"/>
            <a:ext cx="54007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川俣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95400"/>
            <a:ext cx="727848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3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4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208480" y="1413000"/>
            <a:ext cx="1451160" cy="154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ＭＳ Ｐゴシック"/>
                <a:ea typeface="ＭＳ Ｐゴシック"/>
              </a:rPr>
              <a:t>でつ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4000" y="838800"/>
            <a:ext cx="7427880" cy="401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900" spc="-1" strike="noStrike">
              <a:solidFill>
                <a:srgbClr val="00004a"/>
              </a:solidFill>
              <a:latin typeface="HGPﾌﾞｰｹ"/>
              <a:ea typeface="HGPﾌﾞｰｹ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40000" y="2033640"/>
            <a:ext cx="416700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5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借</a:t>
            </a:r>
            <a:endParaRPr b="0" lang="en-US" sz="25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無意識とは象形文字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869000"/>
            <a:ext cx="4824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フロイト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10239" t="32080" r="7848" b="0"/>
          <a:stretch/>
        </p:blipFill>
        <p:spPr>
          <a:xfrm rot="21465000">
            <a:off x="2484000" y="836640"/>
            <a:ext cx="4032360" cy="5667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2840" y="1155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ギャル文字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10239" t="51067" r="7848" b="30814"/>
          <a:stretch/>
        </p:blipFill>
        <p:spPr>
          <a:xfrm rot="21465000">
            <a:off x="2390760" y="2420640"/>
            <a:ext cx="403236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58880" y="1123920"/>
            <a:ext cx="593748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143080" y="445608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統合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10160" y="422604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象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90760" y="20653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並列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ギャル文字の構造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2" name=""/>
          <p:cNvSpPr/>
          <p:nvPr/>
        </p:nvSpPr>
        <p:spPr>
          <a:xfrm>
            <a:off x="177840" y="24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外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8160" y="29210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内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341000">
            <a:off x="1820520" y="692280"/>
            <a:ext cx="950760" cy="5040360"/>
          </a:xfrm>
          <a:custGeom>
            <a:avLst/>
            <a:gdLst>
              <a:gd name="textAreaLeft" fmla="*/ 607320 w 950760"/>
              <a:gd name="textAreaRight" fmla="*/ 951120 w 9507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321156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2e18"/>
                </a:solidFill>
                <a:latin typeface="HGP明朝B"/>
                <a:ea typeface="HGPﾌﾞｰｹ"/>
              </a:rPr>
              <a:t>エンコー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80000" y="4149720"/>
            <a:ext cx="72072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85200" y="4900680"/>
            <a:ext cx="91224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コー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ータ化・スーパーフラッ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機能等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07-03T05:08:09Z</dcterms:modified>
  <cp:revision>1950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