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7.jpeg" ContentType="image/jpeg"/>
  <Override PartName="/ppt/media/CAMERA.WAV" ContentType="audio/x-wav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957E05D-930D-4C5A-8FF6-B6FEB6EA02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529-8581-4289-8E96-223DB7B8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ECC-B2EE-4C23-BC09-40B32592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356-B992-4308-95DC-AC06A758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8C5-45F0-4FA1-9692-48DA9CE6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753-6FBC-4B60-B711-63712169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80A-39E6-43D0-8A06-82EA049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416-5B71-49E9-97A7-A0D69768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B2A-BE4D-4D77-81C1-84FB7DB6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F6C-2833-4FED-BF2D-2D0ABE72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512-B7F8-4AF2-A4EB-BDDEFA8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BD8-1AC2-4C81-AB75-F754A6D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AD9-E63E-4615-9A05-3E6A6B48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B7B2AF4-68D8-499A-A759-072FA673DB29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oreillynet.com/pub/a/oreilly/tim/news/2005/09/30/what-is-web-20.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７月リコーソリューションウェイ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時代と建設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4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</a:t>
            </a:r>
            <a:br>
              <a:rPr sz="11700"/>
            </a:b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市場原理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57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9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然権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ロック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の見えざる手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スミス）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OS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書換え</a:t>
            </a:r>
            <a:br>
              <a:rPr sz="11700"/>
            </a:br>
            <a:r>
              <a:rPr b="0" lang="zh-CN" sz="117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構造改革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56000" y="1539720"/>
            <a:ext cx="424044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Ⅰ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3916440"/>
            <a:ext cx="453708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Ⅳ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ノングローバル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ノンコミュニティ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0000" y="98100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2680" y="1700280"/>
            <a:ext cx="56412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557360"/>
            <a:ext cx="322092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Ⅲ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64522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版 コミュニティ・ソリューション　金子郁容（著）　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波書店 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85 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表を修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572000" y="1485720"/>
            <a:ext cx="0" cy="463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280" y="3789360"/>
            <a:ext cx="757080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987720"/>
            <a:ext cx="322416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920" y="5589720"/>
            <a:ext cx="1463760" cy="1261800"/>
          </a:xfrm>
          <a:prstGeom prst="wedgeEllipseCallout">
            <a:avLst>
              <a:gd name="adj1" fmla="val 34597"/>
              <a:gd name="adj2" fmla="val -5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構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4003560"/>
            <a:ext cx="3598920" cy="1873440"/>
          </a:xfrm>
          <a:prstGeom prst="line">
            <a:avLst/>
          </a:prstGeom>
          <a:ln w="38160">
            <a:solidFill>
              <a:srgbClr val="fc2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-17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ンターネット社会の指向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4" name=""/>
          <p:cNvSpPr/>
          <p:nvPr/>
        </p:nvSpPr>
        <p:spPr>
          <a:xfrm>
            <a:off x="2266920" y="604836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ローカ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0240" y="1628640"/>
            <a:ext cx="56412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パーソナ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000" y="6466680"/>
            <a:ext cx="73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03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4220280"/>
            <a:ext cx="63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失われていく日本的なもの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灰色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5" name=""/>
          <p:cNvSpPr/>
          <p:nvPr/>
        </p:nvSpPr>
        <p:spPr>
          <a:xfrm>
            <a:off x="260280" y="892800"/>
            <a:ext cx="8632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ttp://www.momoti.com/ 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店主戯言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317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2680" y="936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47640" y="1195560"/>
            <a:ext cx="6048720" cy="5329080"/>
            <a:chOff x="1547640" y="1195560"/>
            <a:chExt cx="6048720" cy="5329080"/>
          </a:xfrm>
        </p:grpSpPr>
        <p:sp>
          <p:nvSpPr>
            <p:cNvPr id="327" name=""/>
            <p:cNvSpPr/>
            <p:nvPr/>
          </p:nvSpPr>
          <p:spPr>
            <a:xfrm>
              <a:off x="1547640" y="1195560"/>
              <a:ext cx="6048720" cy="532908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6720" y="2127240"/>
              <a:ext cx="4844880" cy="439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0960" y="5127480"/>
              <a:ext cx="1551240" cy="1397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49840" y="2335320"/>
              <a:ext cx="129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49840" y="1338120"/>
              <a:ext cx="12920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843280" y="328464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地域社会　協会   企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学校 　家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3200" y="263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守・破・離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としてのイントラネット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たずさわる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3640" y="1270080"/>
            <a:ext cx="8569080" cy="2765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欠点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とつながらない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1379160"/>
            <a:ext cx="8569080" cy="310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内と外をつなぐ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遇有性をつくる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想像力を働かせるには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る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キアスム図式（交差理論法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763640" y="249192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2492280"/>
            <a:ext cx="66945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763640" y="1267920"/>
            <a:ext cx="648036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8720" y="1730520"/>
            <a:ext cx="0" cy="33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3640" y="2778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640" y="313992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29680" y="3209760"/>
            <a:ext cx="13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</a:t>
            </a:r>
            <a:r>
              <a:rPr b="0" lang="en-US" sz="2800" spc="-1" strike="noStrike" baseline="30000">
                <a:solidFill>
                  <a:srgbClr val="00004a"/>
                </a:solidFill>
                <a:latin typeface="HGPﾌﾞｰｹ"/>
                <a:ea typeface="HGPﾌﾞｰｹ"/>
              </a:rPr>
              <a:t>-1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0000" y="565776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分離→結合→再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565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24000" y="212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メビウスの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591" t="11882" r="22022" b="22787"/>
          <a:stretch/>
        </p:blipFill>
        <p:spPr>
          <a:xfrm>
            <a:off x="1260360" y="1317600"/>
            <a:ext cx="68407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5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ひねり方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58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497600" y="6531120"/>
            <a:ext cx="613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a000"/>
                </a:solidFill>
                <a:uFillTx/>
                <a:latin typeface="HGP明朝B"/>
                <a:ea typeface="HGP明朝B"/>
                <a:hlinkClick r:id="rId2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Web2.0 </a:t>
            </a:r>
            <a:r>
              <a:rPr b="0" lang="zh-CN" sz="2000" spc="-1" strike="noStrike">
                <a:solidFill>
                  <a:srgbClr val="00004a"/>
                </a:solidFill>
                <a:latin typeface="HGP明朝E"/>
              </a:rPr>
              <a:t>要素 </a:t>
            </a: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MAP</a:t>
            </a:r>
            <a:endParaRPr b="0" lang="en-US" sz="2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878480" y="647388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ceonews.jp/archives/2005/10/web20_7ma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4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では、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どうするのか</a:t>
            </a:r>
            <a:br>
              <a:rPr sz="9600"/>
            </a:br>
            <a:br>
              <a:rPr sz="28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つまり</a:t>
            </a:r>
            <a:br>
              <a:rPr sz="96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誰が円環をひねるのか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280" y="52560"/>
            <a:ext cx="8964720" cy="79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広くて薄い紐帯の為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4000" y="836640"/>
            <a:ext cx="7703640" cy="5897520"/>
            <a:chOff x="324000" y="836640"/>
            <a:chExt cx="7703640" cy="5897520"/>
          </a:xfrm>
        </p:grpSpPr>
        <p:pic>
          <p:nvPicPr>
            <p:cNvPr id="370" name="" descr=""/>
            <p:cNvPicPr/>
            <p:nvPr/>
          </p:nvPicPr>
          <p:blipFill>
            <a:blip r:embed="rId1"/>
            <a:srcRect l="14388" t="12663" r="12607" b="26609"/>
            <a:stretch/>
          </p:blipFill>
          <p:spPr>
            <a:xfrm>
              <a:off x="1023120" y="836640"/>
              <a:ext cx="7004520" cy="57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24000" y="6396840"/>
              <a:ext cx="672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図：アルバート＝ラズロ・バラバシ，「新ネットワーク思考」，</a:t>
              </a:r>
              <a:r>
                <a:rPr b="0" lang="en-US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p66</a:t>
              </a:r>
              <a:r>
                <a:rPr b="0" lang="zh-CN" sz="1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44520" y="1324080"/>
              <a:ext cx="2030400" cy="1973160"/>
            </a:xfrm>
            <a:prstGeom prst="ellipse">
              <a:avLst/>
            </a:prstGeom>
            <a:noFill/>
            <a:ln w="28440">
              <a:solidFill>
                <a:srgbClr val="c2004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6200" y="1394280"/>
              <a:ext cx="1750680" cy="1691640"/>
            </a:xfrm>
            <a:prstGeom prst="ellipse">
              <a:avLst/>
            </a:prstGeom>
            <a:noFill/>
            <a:ln w="2844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3861000"/>
              <a:ext cx="2030040" cy="19731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45680" y="3931200"/>
              <a:ext cx="2030400" cy="1972800"/>
            </a:xfrm>
            <a:prstGeom prst="ellipse">
              <a:avLst/>
            </a:prstGeom>
            <a:noFill/>
            <a:ln w="28440">
              <a:solidFill>
                <a:srgbClr val="0000a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  <p:sndAc>
      <p:stSnd>
        <p:snd r:embed="rId2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々の企業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人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を発信すること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のための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環境を協会や企業が実装する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ルフォルニア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1995480"/>
            <a:ext cx="727848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夢物語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夢は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実現し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少しずつの実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07-13T12:37:17Z</dcterms:modified>
  <cp:revision>1938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