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.png" ContentType="image/pn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CAMERA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05D9994-DB15-4F41-A4DD-35EB15A2C81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29F-1375-4304-BC50-012ECB38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DCC-39D6-4B42-BDC8-7E90C540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038-4227-47A8-8CF7-6E9A9FD0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866-1113-4B97-9A38-33CF5FF7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8D6-6D45-4EE8-BB79-9C8FA9F1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B14-1AA2-4A56-BE8F-BF9BF347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F6D-B77D-47F9-A579-6A7BD44D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FE9-C694-4163-ABAD-A9E00B2E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AD4-E5B8-4C88-9DA9-41E7F401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3880-F35C-4812-8847-3CB4ABE1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E3A-73A6-4CE7-B484-5DA39763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4981-1663-4376-B667-543B40BA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A850E8FC-F705-4394-B73C-6F0C92F163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341440" y="2276640"/>
            <a:ext cx="5129640" cy="4536360"/>
            <a:chOff x="2341440" y="2276640"/>
            <a:chExt cx="5129640" cy="4536360"/>
          </a:xfrm>
        </p:grpSpPr>
        <p:grpSp>
          <p:nvGrpSpPr>
            <p:cNvPr id="50" name=""/>
            <p:cNvGrpSpPr/>
            <p:nvPr/>
          </p:nvGrpSpPr>
          <p:grpSpPr>
            <a:xfrm>
              <a:off x="2827800" y="2503800"/>
              <a:ext cx="4643280" cy="4309200"/>
              <a:chOff x="2827800" y="2503800"/>
              <a:chExt cx="4643280" cy="4309200"/>
            </a:xfrm>
          </p:grpSpPr>
          <p:sp>
            <p:nvSpPr>
              <p:cNvPr id="51" name=""/>
              <p:cNvSpPr/>
              <p:nvPr/>
            </p:nvSpPr>
            <p:spPr>
              <a:xfrm>
                <a:off x="5470560" y="5680800"/>
                <a:ext cx="1983240" cy="111348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304040" y="6079680"/>
                <a:ext cx="151560" cy="37800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240240" y="5934600"/>
                <a:ext cx="1213200" cy="31392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29080" y="5974200"/>
                <a:ext cx="1188360" cy="4896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87480" y="5149080"/>
                <a:ext cx="1083600" cy="2440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264080" y="5203080"/>
                <a:ext cx="173880" cy="89280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87480" y="5172120"/>
                <a:ext cx="958680" cy="92376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487560" y="5267160"/>
                <a:ext cx="751320" cy="66924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832120" y="2503800"/>
                <a:ext cx="2738880" cy="243468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609440" y="4399200"/>
                <a:ext cx="472680" cy="41940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827800" y="3086280"/>
                <a:ext cx="1190880" cy="1027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23520" y="2611080"/>
                <a:ext cx="1342800" cy="16286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579120" y="4171680"/>
                <a:ext cx="521640" cy="4564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98880" y="6389280"/>
                <a:ext cx="1592280" cy="4237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274360" y="5922360"/>
                <a:ext cx="553320" cy="24948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921280" y="6083280"/>
                <a:ext cx="1474200" cy="6033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861440" y="6234120"/>
                <a:ext cx="298800" cy="53316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952880" y="6224040"/>
                <a:ext cx="240480" cy="5374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80680" y="5974200"/>
                <a:ext cx="1405080" cy="8078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14000" y="6710040"/>
                <a:ext cx="676080" cy="9252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69520" y="5456880"/>
                <a:ext cx="793440" cy="6282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848480" y="5399280"/>
                <a:ext cx="546120" cy="46908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61440" y="5403600"/>
                <a:ext cx="532800" cy="14436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21560" y="5591520"/>
                <a:ext cx="160560" cy="2768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185080" y="5512680"/>
                <a:ext cx="120240" cy="29124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46520" y="5479920"/>
                <a:ext cx="318960" cy="16092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69280" y="5618160"/>
                <a:ext cx="48960" cy="30780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61120" y="5717520"/>
                <a:ext cx="93240" cy="2052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323320" y="5678280"/>
                <a:ext cx="57960" cy="5976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69520" y="5775480"/>
                <a:ext cx="452520" cy="30996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89760" y="6211800"/>
                <a:ext cx="729360" cy="24588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67640" y="6422760"/>
                <a:ext cx="95760" cy="29736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16920" y="5535720"/>
                <a:ext cx="69120" cy="57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6600" y="6711840"/>
                <a:ext cx="555120" cy="6840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77800" y="5961240"/>
                <a:ext cx="202680" cy="82908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51960" y="5915880"/>
                <a:ext cx="414720" cy="237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42640" y="6412320"/>
                <a:ext cx="231480" cy="30780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74120" y="6251040"/>
                <a:ext cx="756000" cy="1962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11760" y="5680800"/>
                <a:ext cx="648720" cy="8856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15640" y="6035760"/>
                <a:ext cx="186840" cy="23328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28520" y="6025680"/>
                <a:ext cx="124920" cy="127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68480" y="6102000"/>
                <a:ext cx="178200" cy="16704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88680" y="5823000"/>
                <a:ext cx="169200" cy="12996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01640" y="5839560"/>
                <a:ext cx="158040" cy="14904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02840" y="5852160"/>
                <a:ext cx="428400" cy="21024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950080" y="6102000"/>
                <a:ext cx="1456560" cy="22536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67240" y="6443280"/>
                <a:ext cx="833760" cy="23940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20080" y="5946840"/>
                <a:ext cx="164880" cy="313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63200" y="4359600"/>
                <a:ext cx="934560" cy="144432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47240" y="3634200"/>
                <a:ext cx="2630160" cy="44604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03400" y="3274560"/>
                <a:ext cx="2611440" cy="38844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44200" y="6126840"/>
                <a:ext cx="869760" cy="2210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85520" y="6339600"/>
                <a:ext cx="316440" cy="35136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76640" y="6420240"/>
                <a:ext cx="1449360" cy="359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07960" y="6511320"/>
                <a:ext cx="1139400" cy="281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83680" y="5364360"/>
                <a:ext cx="595080" cy="5760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83680" y="5467320"/>
                <a:ext cx="470160" cy="5976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583680" y="5581440"/>
                <a:ext cx="470160" cy="5544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83680" y="5711400"/>
                <a:ext cx="470160" cy="6156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341440" y="2276640"/>
              <a:ext cx="1324440" cy="1092960"/>
              <a:chOff x="2341440" y="2276640"/>
              <a:chExt cx="1324440" cy="1092960"/>
            </a:xfrm>
          </p:grpSpPr>
          <p:sp>
            <p:nvSpPr>
              <p:cNvPr id="111" name=""/>
              <p:cNvSpPr/>
              <p:nvPr/>
            </p:nvSpPr>
            <p:spPr>
              <a:xfrm>
                <a:off x="3144240" y="3152880"/>
                <a:ext cx="97920" cy="17748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79880" y="3133800"/>
                <a:ext cx="455040" cy="22464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03520" y="3113280"/>
                <a:ext cx="133200" cy="18576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22160" y="2511720"/>
                <a:ext cx="209160" cy="7668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15240" y="2807280"/>
                <a:ext cx="318960" cy="2768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419560" y="2797200"/>
                <a:ext cx="767160" cy="1900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58240" y="2867400"/>
                <a:ext cx="532800" cy="21672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08480" y="2513880"/>
                <a:ext cx="142560" cy="3574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47080" y="2497680"/>
                <a:ext cx="470160" cy="10728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38080" y="2513880"/>
                <a:ext cx="93240" cy="40896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3880" y="2511720"/>
                <a:ext cx="423720" cy="41112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42840" y="2555280"/>
                <a:ext cx="330120" cy="29304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73360" y="2910960"/>
                <a:ext cx="640080" cy="25992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96480" y="2929320"/>
                <a:ext cx="390240" cy="950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96480" y="2970360"/>
                <a:ext cx="398880" cy="17784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341440" y="2867400"/>
                <a:ext cx="71640" cy="82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64760" y="2797200"/>
                <a:ext cx="126720" cy="80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62240" y="2811600"/>
                <a:ext cx="111600" cy="80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08600" y="2780640"/>
                <a:ext cx="66960" cy="180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51520" y="2375280"/>
                <a:ext cx="242640" cy="44460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33080" y="2722680"/>
                <a:ext cx="532800" cy="50400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60080" y="2276640"/>
                <a:ext cx="454320" cy="40032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93640" y="2706120"/>
                <a:ext cx="187560" cy="1422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09120" y="2455920"/>
                <a:ext cx="82080" cy="10332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09120" y="2448000"/>
                <a:ext cx="20160" cy="1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73920" y="2443680"/>
                <a:ext cx="21960" cy="1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85080" y="2553480"/>
                <a:ext cx="35640" cy="284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11720" y="253044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73920" y="2365200"/>
                <a:ext cx="180360" cy="22716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07840" y="2879640"/>
                <a:ext cx="61920" cy="32220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97880" y="2853000"/>
                <a:ext cx="24120" cy="32652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85240" y="3028680"/>
                <a:ext cx="151200" cy="1422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34840" y="3288960"/>
                <a:ext cx="24120" cy="41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79120" y="3237120"/>
                <a:ext cx="0" cy="1033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79880" y="3200040"/>
                <a:ext cx="0" cy="169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91800" y="2603160"/>
                <a:ext cx="231840" cy="2052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91800" y="2662560"/>
                <a:ext cx="231840" cy="1872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91800" y="2716560"/>
                <a:ext cx="231840" cy="144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91800" y="2757600"/>
                <a:ext cx="231840" cy="2448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690440" y="2352960"/>
              <a:ext cx="1328760" cy="1005840"/>
              <a:chOff x="4690440" y="2352960"/>
              <a:chExt cx="1328760" cy="1005840"/>
            </a:xfrm>
          </p:grpSpPr>
          <p:sp>
            <p:nvSpPr>
              <p:cNvPr id="151" name=""/>
              <p:cNvSpPr/>
              <p:nvPr/>
            </p:nvSpPr>
            <p:spPr>
              <a:xfrm>
                <a:off x="4868640" y="2679480"/>
                <a:ext cx="218160" cy="8424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66040" y="2993400"/>
                <a:ext cx="325440" cy="26208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68200" y="2974680"/>
                <a:ext cx="777960" cy="18576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015880" y="3034440"/>
                <a:ext cx="532800" cy="2210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61800" y="2683440"/>
                <a:ext cx="140400" cy="35676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95720" y="2664720"/>
                <a:ext cx="481680" cy="1216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86720" y="2683440"/>
                <a:ext cx="102600" cy="40896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35680" y="2679480"/>
                <a:ext cx="441720" cy="41328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00480" y="2729160"/>
                <a:ext cx="325440" cy="29088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29200" y="3086280"/>
                <a:ext cx="640080" cy="27252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51960" y="3100680"/>
                <a:ext cx="394200" cy="1112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47280" y="3156480"/>
                <a:ext cx="407880" cy="1634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90440" y="3034440"/>
                <a:ext cx="71280" cy="162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19520" y="2968560"/>
                <a:ext cx="129240" cy="9072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13040" y="3001680"/>
                <a:ext cx="122760" cy="7380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65880" y="2948040"/>
                <a:ext cx="66960" cy="223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519520" y="3146040"/>
                <a:ext cx="437400" cy="21240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00680" y="3169080"/>
                <a:ext cx="129240" cy="1897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35360" y="2716560"/>
                <a:ext cx="483840" cy="57852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31480" y="2375280"/>
                <a:ext cx="267480" cy="3801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50920" y="2701800"/>
                <a:ext cx="194040" cy="3348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59000" y="2555280"/>
                <a:ext cx="30600" cy="8244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37960" y="2470320"/>
                <a:ext cx="88920" cy="741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73960" y="2448000"/>
                <a:ext cx="24120" cy="22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25080" y="2448000"/>
                <a:ext cx="2412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83040" y="2546640"/>
                <a:ext cx="19440" cy="392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65040" y="25714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37960" y="2553480"/>
                <a:ext cx="48960" cy="1134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18320" y="2637720"/>
                <a:ext cx="26640" cy="662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15720" y="2701800"/>
                <a:ext cx="178200" cy="316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04480" y="2714400"/>
                <a:ext cx="82080" cy="317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89520" y="2877480"/>
                <a:ext cx="129240" cy="39852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37960" y="2352960"/>
                <a:ext cx="289440" cy="23328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02760" y="2735280"/>
                <a:ext cx="66600" cy="738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58120" y="2796840"/>
                <a:ext cx="84240" cy="2538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64160" y="2877480"/>
                <a:ext cx="51480" cy="35316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022360" y="3206160"/>
                <a:ext cx="151560" cy="14652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7280" y="2791080"/>
                <a:ext cx="234000" cy="1188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47280" y="2852640"/>
                <a:ext cx="234000" cy="1872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47280" y="2894040"/>
                <a:ext cx="234000" cy="2268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47280" y="2941920"/>
                <a:ext cx="234000" cy="144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885400" y="4182480"/>
              <a:ext cx="1302120" cy="887760"/>
              <a:chOff x="2885400" y="4182480"/>
              <a:chExt cx="1302120" cy="887760"/>
            </a:xfrm>
          </p:grpSpPr>
          <p:sp>
            <p:nvSpPr>
              <p:cNvPr id="193" name=""/>
              <p:cNvSpPr/>
              <p:nvPr/>
            </p:nvSpPr>
            <p:spPr>
              <a:xfrm>
                <a:off x="2938680" y="4840920"/>
                <a:ext cx="456840" cy="21492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08800" y="4431960"/>
                <a:ext cx="205200" cy="78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06640" y="4721040"/>
                <a:ext cx="307440" cy="24804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78240" y="4698720"/>
                <a:ext cx="731160" cy="17964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73560" y="4762800"/>
                <a:ext cx="508680" cy="2062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86560" y="4436280"/>
                <a:ext cx="135720" cy="33048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8360" y="4413240"/>
                <a:ext cx="450360" cy="1094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06640" y="4436280"/>
                <a:ext cx="95400" cy="3798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431960"/>
                <a:ext cx="407880" cy="38412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85520" y="4465440"/>
                <a:ext cx="313920" cy="28044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51520" y="4804200"/>
                <a:ext cx="615240" cy="25596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82920" y="4824720"/>
                <a:ext cx="363600" cy="10116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69240" y="4871880"/>
                <a:ext cx="383760" cy="16092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11920" y="4762800"/>
                <a:ext cx="75600" cy="1188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275640" y="4694400"/>
                <a:ext cx="122760" cy="889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91480" y="4727520"/>
                <a:ext cx="111240" cy="702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89400" y="4678200"/>
                <a:ext cx="64440" cy="1872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21040" y="4182480"/>
                <a:ext cx="325440" cy="29736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52360" y="4200480"/>
                <a:ext cx="271800" cy="56412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79440" y="4299840"/>
                <a:ext cx="73800" cy="88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90520" y="4192560"/>
                <a:ext cx="196200" cy="10476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041640" y="4386600"/>
                <a:ext cx="122760" cy="6840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15440" y="4295520"/>
                <a:ext cx="2196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66120" y="4299840"/>
                <a:ext cx="17640" cy="1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85400" y="4525200"/>
                <a:ext cx="481680" cy="474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88000" y="4508280"/>
                <a:ext cx="243000" cy="2541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48040" y="4663440"/>
                <a:ext cx="213840" cy="32040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66120" y="4934160"/>
                <a:ext cx="153720" cy="8640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70960" y="4619880"/>
                <a:ext cx="31320" cy="33264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84200" y="4907160"/>
                <a:ext cx="154080" cy="990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19520" y="4934160"/>
                <a:ext cx="146880" cy="13608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943000" y="4952520"/>
                <a:ext cx="9000" cy="90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333600" y="4962960"/>
                <a:ext cx="0" cy="828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534480" y="4521240"/>
                <a:ext cx="234000" cy="180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34480" y="4584960"/>
                <a:ext cx="234000" cy="165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34480" y="4632480"/>
                <a:ext cx="234000" cy="2052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4480" y="4678200"/>
                <a:ext cx="234000" cy="162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「桃論Ⅱ」</a:t>
            </a:r>
            <a:endParaRPr b="0" lang="en-US" sz="8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1" name=""/>
          <p:cNvSpPr/>
          <p:nvPr/>
        </p:nvSpPr>
        <p:spPr>
          <a:xfrm>
            <a:off x="108000" y="5013360"/>
            <a:ext cx="59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6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２日　砂川青年会議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141300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考える技術（基礎編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692360" y="1052640"/>
            <a:ext cx="6048360" cy="5544720"/>
            <a:chOff x="1692360" y="1052640"/>
            <a:chExt cx="6048360" cy="5544720"/>
          </a:xfrm>
        </p:grpSpPr>
        <p:sp>
          <p:nvSpPr>
            <p:cNvPr id="260" name=""/>
            <p:cNvSpPr/>
            <p:nvPr/>
          </p:nvSpPr>
          <p:spPr>
            <a:xfrm>
              <a:off x="3491280" y="4601520"/>
              <a:ext cx="2358000" cy="1995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HGPﾌﾞｰｹ"/>
                </a:rPr>
                <a:t>爬虫類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64360" y="2951640"/>
              <a:ext cx="3969360" cy="3644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HGPﾌﾞｰｹ"/>
                </a:rPr>
                <a:t>哺乳類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92360" y="1052640"/>
              <a:ext cx="6048360" cy="554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HGPﾌﾞｰｹ"/>
                </a:rPr>
                <a:t>人類に形成された新皮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2000" y="115560"/>
            <a:ext cx="6549840" cy="86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明朝E"/>
                <a:ea typeface="HGPﾌﾞｰｹ"/>
              </a:rPr>
              <a:t>脳の三層構造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32000" y="43920"/>
            <a:ext cx="6549840" cy="86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明朝E"/>
                <a:ea typeface="HGPﾌﾞｰｹ"/>
              </a:rPr>
              <a:t>左脳と右脳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525680" y="1123920"/>
            <a:ext cx="5710320" cy="5400720"/>
            <a:chOff x="1525680" y="1123920"/>
            <a:chExt cx="5710320" cy="5400720"/>
          </a:xfrm>
        </p:grpSpPr>
        <p:grpSp>
          <p:nvGrpSpPr>
            <p:cNvPr id="266" name=""/>
            <p:cNvGrpSpPr/>
            <p:nvPr/>
          </p:nvGrpSpPr>
          <p:grpSpPr>
            <a:xfrm>
              <a:off x="1525680" y="1123920"/>
              <a:ext cx="5710320" cy="5400720"/>
              <a:chOff x="1525680" y="1123920"/>
              <a:chExt cx="5710320" cy="5400720"/>
            </a:xfrm>
          </p:grpSpPr>
          <p:sp>
            <p:nvSpPr>
              <p:cNvPr id="267" name=""/>
              <p:cNvSpPr/>
              <p:nvPr/>
            </p:nvSpPr>
            <p:spPr>
              <a:xfrm>
                <a:off x="3344760" y="4707000"/>
                <a:ext cx="2159280" cy="1817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Pﾌﾞｰｹ"/>
                  </a:rPr>
                  <a:t>爬虫類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85880" y="3205080"/>
                <a:ext cx="3637080" cy="3318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Pﾌﾞｰｹ"/>
                  </a:rPr>
                  <a:t>哺乳類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97040" y="1476360"/>
                <a:ext cx="5538960" cy="5048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525680" y="1123920"/>
                <a:ext cx="185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HGP明朝B"/>
                    <a:ea typeface="HGPﾌﾞｰｹ"/>
                  </a:rPr>
                  <a:t>人類に形成された新皮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54160" y="1476360"/>
                <a:ext cx="531720" cy="4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70960" y="1752480"/>
                <a:ext cx="1948320" cy="28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999" y="151"/>
                    </a:moveTo>
                    <a:arcTo wR="10800" hR="10800" stAng="-5976065" swAng="60802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999" y="151"/>
                    </a:moveTo>
                    <a:arcTo wR="10800" hR="10800" stAng="-5976065" swAng="608020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4199600">
                <a:off x="4743000" y="1611360"/>
                <a:ext cx="1882440" cy="229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267" y="285"/>
                    </a:moveTo>
                    <a:arcTo wR="10800" hR="10800" stAng="-4607804" swAng="6395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267" y="285"/>
                    </a:moveTo>
                    <a:arcTo wR="10800" hR="10800" stAng="-4607804" swAng="639520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79880" y="161604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HGP明朝B"/>
                    <a:ea typeface="HGPﾌﾞｰｹ"/>
                  </a:rPr>
                  <a:t>脳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84440" y="251604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HGP明朝B"/>
                    <a:ea typeface="HGPﾌﾞｰｹ"/>
                  </a:rPr>
                  <a:t>左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16360" y="2509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HGP明朝B"/>
                    <a:ea typeface="HGPﾌﾞｰｹ"/>
                  </a:rPr>
                  <a:t>右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3321600">
                <a:off x="5578200" y="3612600"/>
                <a:ext cx="447480" cy="419400"/>
              </a:xfrm>
              <a:prstGeom prst="can">
                <a:avLst>
                  <a:gd name="adj" fmla="val 25000"/>
                </a:avLst>
              </a:prstGeom>
              <a:solidFill>
                <a:srgbClr val="d2d2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3321600">
                <a:off x="4898880" y="4778280"/>
                <a:ext cx="446040" cy="417600"/>
              </a:xfrm>
              <a:prstGeom prst="can">
                <a:avLst>
                  <a:gd name="adj" fmla="val 25000"/>
                </a:avLst>
              </a:prstGeom>
              <a:solidFill>
                <a:srgbClr val="d2d2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2589120" y="3429000"/>
              <a:ext cx="75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2e18"/>
                  </a:solidFill>
                  <a:latin typeface="HGP明朝B"/>
                  <a:ea typeface="HGPﾌﾞｰｹ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280" y="141264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明朝E"/>
                <a:ea typeface="HGPﾌﾞｰｹ"/>
              </a:rPr>
              <a:t>左脳</a:t>
            </a:r>
            <a:br>
              <a:rPr sz="8800"/>
            </a:b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1" name=""/>
          <p:cNvSpPr/>
          <p:nvPr/>
        </p:nvSpPr>
        <p:spPr>
          <a:xfrm>
            <a:off x="1187280" y="3068640"/>
            <a:ext cx="6996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B"/>
                <a:ea typeface="HGPﾌﾞｰｹ"/>
              </a:rPr>
              <a:t>言語的な構造にしたがって働く知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B"/>
                <a:ea typeface="HGPﾌﾞｰｹ"/>
              </a:rPr>
              <a:t>論理的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280" y="141264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明朝E"/>
                <a:ea typeface="HGPﾌﾞｰｹ"/>
              </a:rPr>
              <a:t>右脳</a:t>
            </a:r>
            <a:br>
              <a:rPr sz="8800"/>
            </a:b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3068640"/>
            <a:ext cx="77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明朝B"/>
                <a:ea typeface="HGPﾌﾞｰｹ"/>
              </a:rPr>
              <a:t>非言語的の情動的な知性の働き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HGP明朝B"/>
                <a:ea typeface="HGPﾌﾞｰｹ"/>
              </a:rPr>
              <a:t>かたち的認識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HGP明朝B"/>
                <a:ea typeface="HGPﾌﾞｰｹ"/>
              </a:rPr>
              <a:t>無意識とつながった対象性の知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3640" y="2492280"/>
            <a:ext cx="83451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さて、皆さんの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右脳は動いていますか？</a:t>
            </a:r>
            <a:endParaRPr b="0" lang="en-US" sz="6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903920" cy="4086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ペンローズの三角形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つくってみましょう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85800" y="1514520"/>
            <a:ext cx="2806560" cy="2739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027320" y="225432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では、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どうするのか</a:t>
            </a:r>
            <a:br>
              <a:rPr sz="2800"/>
            </a:b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3534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日本語を使う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6840720" cy="5832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縦に書く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考える技術とは何か？</a:t>
            </a:r>
            <a:endParaRPr b="0" lang="en-US" sz="129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1521000"/>
            <a:ext cx="91440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2359080"/>
            <a:ext cx="58341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新聞をよむ</a:t>
            </a:r>
            <a:br>
              <a:rPr sz="6000"/>
            </a:b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和歌をよむ</a:t>
            </a:r>
            <a:endParaRPr b="0" lang="en-US" sz="6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96" name=""/>
          <p:cNvSpPr/>
          <p:nvPr/>
        </p:nvSpPr>
        <p:spPr>
          <a:xfrm>
            <a:off x="5437080" y="137952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読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37080" y="317988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詠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98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音＝ど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08720" y="27306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音＝え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519444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音読み（漢字の象形）が訓読み（かな）に注釈を与え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081080" y="2944800"/>
            <a:ext cx="6985080" cy="2073240"/>
          </a:xfrm>
          <a:prstGeom prst="cube">
            <a:avLst>
              <a:gd name="adj" fmla="val 47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Pﾌﾞｰｹ"/>
              </a:rPr>
              <a:t>倭心（やまとごこ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91400" y="2546280"/>
            <a:ext cx="116532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4120" y="2565360"/>
            <a:ext cx="116352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80000" y="2565360"/>
            <a:ext cx="116532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52800" y="2565360"/>
            <a:ext cx="116352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56000" y="2565360"/>
            <a:ext cx="116388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79760" y="2851200"/>
            <a:ext cx="116352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1320" y="2851200"/>
            <a:ext cx="116352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00840" y="2851200"/>
            <a:ext cx="116352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76760" y="2851200"/>
            <a:ext cx="116352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18280" y="3133800"/>
            <a:ext cx="1163520" cy="668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24040" y="3137040"/>
            <a:ext cx="116532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5360" y="3137040"/>
            <a:ext cx="116352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3800" y="3137040"/>
            <a:ext cx="116388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16000" y="1989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HGPﾌﾞｰｹ"/>
              </a:rPr>
              <a:t>漢心（からごこ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明朝E"/>
                <a:ea typeface="HGPﾌﾞｰｹ"/>
              </a:rPr>
              <a:t>日本語の構造（ハイブリッド）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7" name=""/>
          <p:cNvSpPr/>
          <p:nvPr/>
        </p:nvSpPr>
        <p:spPr>
          <a:xfrm>
            <a:off x="1392120" y="3141720"/>
            <a:ext cx="116388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1341360"/>
            <a:ext cx="53294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既に構成された秩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5229360"/>
            <a:ext cx="705780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みずからを構成しつつある秩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1989000"/>
            <a:ext cx="0" cy="3240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2000" y="43920"/>
            <a:ext cx="6549840" cy="86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明朝E"/>
                <a:ea typeface="HGPﾌﾞｰｹ"/>
              </a:rPr>
              <a:t>日本人の右脳的な左脳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358640" y="1071720"/>
            <a:ext cx="5877360" cy="5452920"/>
            <a:chOff x="1358640" y="1071720"/>
            <a:chExt cx="5877360" cy="5452920"/>
          </a:xfrm>
        </p:grpSpPr>
        <p:grpSp>
          <p:nvGrpSpPr>
            <p:cNvPr id="323" name=""/>
            <p:cNvGrpSpPr/>
            <p:nvPr/>
          </p:nvGrpSpPr>
          <p:grpSpPr>
            <a:xfrm>
              <a:off x="1358640" y="1071720"/>
              <a:ext cx="5877360" cy="5452920"/>
              <a:chOff x="1358640" y="1071720"/>
              <a:chExt cx="5877360" cy="5452920"/>
            </a:xfrm>
          </p:grpSpPr>
          <p:sp>
            <p:nvSpPr>
              <p:cNvPr id="324" name=""/>
              <p:cNvSpPr/>
              <p:nvPr/>
            </p:nvSpPr>
            <p:spPr>
              <a:xfrm>
                <a:off x="3344760" y="4707000"/>
                <a:ext cx="2159280" cy="1817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HGPﾌﾞｰｹ"/>
                  </a:rPr>
                  <a:t>爬虫類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85880" y="3205080"/>
                <a:ext cx="3637080" cy="3318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  <a:ea typeface="HGPﾌﾞｰｹ"/>
                  </a:rPr>
                  <a:t>哺乳類脳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97040" y="1476360"/>
                <a:ext cx="5538960" cy="5048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358640" y="1071720"/>
                <a:ext cx="219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HGP明朝B"/>
                    <a:ea typeface="HGPﾌﾞｰｹ"/>
                  </a:rPr>
                  <a:t>人類に形成された新皮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54160" y="1476360"/>
                <a:ext cx="531720" cy="4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70960" y="1752480"/>
                <a:ext cx="1948320" cy="28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999" y="151"/>
                    </a:moveTo>
                    <a:arcTo wR="10800" hR="10800" stAng="-5976065" swAng="60802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999" y="151"/>
                    </a:moveTo>
                    <a:arcTo wR="10800" hR="10800" stAng="-5976065" swAng="6080201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4199600">
                <a:off x="4743000" y="1611360"/>
                <a:ext cx="1882440" cy="2298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267" y="285"/>
                    </a:moveTo>
                    <a:arcTo wR="10800" hR="10800" stAng="-4607804" swAng="63952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267" y="285"/>
                    </a:moveTo>
                    <a:arcTo wR="10800" hR="10800" stAng="-4607804" swAng="639520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079880" y="1616040"/>
                <a:ext cx="71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HGP明朝B"/>
                    <a:ea typeface="HGPﾌﾞｰｹ"/>
                  </a:rPr>
                  <a:t>脳梁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84440" y="2516040"/>
                <a:ext cx="1316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HGP明朝B"/>
                    <a:ea typeface="HGPﾌﾞｰｹ"/>
                  </a:rPr>
                  <a:t>左脳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16360" y="2509920"/>
                <a:ext cx="1316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HGP明朝B"/>
                    <a:ea typeface="HGPﾌﾞｰｹ"/>
                  </a:rPr>
                  <a:t>右脳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3321600">
                <a:off x="5578200" y="3612600"/>
                <a:ext cx="447480" cy="419400"/>
              </a:xfrm>
              <a:prstGeom prst="can">
                <a:avLst>
                  <a:gd name="adj" fmla="val 25000"/>
                </a:avLst>
              </a:prstGeom>
              <a:solidFill>
                <a:srgbClr val="d2d2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3321600">
                <a:off x="4898880" y="4778280"/>
                <a:ext cx="446040" cy="417600"/>
              </a:xfrm>
              <a:prstGeom prst="can">
                <a:avLst>
                  <a:gd name="adj" fmla="val 25000"/>
                </a:avLst>
              </a:prstGeom>
              <a:solidFill>
                <a:srgbClr val="d2d2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2589120" y="3429000"/>
              <a:ext cx="75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2e18"/>
                  </a:solidFill>
                  <a:latin typeface="HGP明朝B"/>
                  <a:ea typeface="HGPﾌﾞｰｹ"/>
                </a:rPr>
                <a:t>×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763640" y="3860640"/>
            <a:ext cx="887400" cy="717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32000" y="3598920"/>
            <a:ext cx="50796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8000" y="3197160"/>
            <a:ext cx="173016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漢字の中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6560" y="40464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バイロジック</a:t>
            </a:r>
            <a:endParaRPr b="0" lang="en-US" sz="44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41" name=""/>
          <p:cNvSpPr/>
          <p:nvPr/>
        </p:nvSpPr>
        <p:spPr>
          <a:xfrm>
            <a:off x="2338560" y="234936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66920" y="2565360"/>
            <a:ext cx="2017800" cy="21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428720" y="2624040"/>
            <a:ext cx="1871640" cy="21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8000" y="1209600"/>
            <a:ext cx="28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対象性の知性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右脳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32640" y="1123920"/>
            <a:ext cx="323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論理思考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左脳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4869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バイ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64000" y="35701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06560" y="3573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98920" y="1697040"/>
            <a:ext cx="15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56000" y="587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h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ｇ◦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59640" y="4149720"/>
            <a:ext cx="248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ｇ＝写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ｆ＝潜在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ｈ＝理論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明朝E"/>
                <a:ea typeface="HGPﾌﾞｰｹ"/>
              </a:rPr>
              <a:t>日本語で情報を発信すること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53" name=""/>
          <p:cNvSpPr/>
          <p:nvPr/>
        </p:nvSpPr>
        <p:spPr>
          <a:xfrm>
            <a:off x="468360" y="1328760"/>
            <a:ext cx="8128080" cy="41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HGPﾌﾞｰｹ"/>
              </a:rPr>
              <a:t>情報が見える能力（信頼の能力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HGPﾌﾞｰｹ"/>
              </a:rPr>
              <a:t>情報を発信する能力（信頼性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HGPﾌﾞｰｹ"/>
              </a:rPr>
              <a:t>バイロジカルな知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381800" y="4508640"/>
            <a:ext cx="1838520" cy="2349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16360" y="2125080"/>
            <a:ext cx="2873160" cy="664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共進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16360" y="3780360"/>
            <a:ext cx="2873160" cy="664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共進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280" y="270792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そして</a:t>
            </a:r>
            <a:br>
              <a:rPr sz="10600"/>
            </a:br>
            <a:r>
              <a:rPr b="0" lang="zh-CN" sz="14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ひねる</a:t>
            </a:r>
            <a:endParaRPr b="0" lang="en-US" sz="14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5280" y="250632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象徴の一部否定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あたりまえ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を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疑ってみる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133720" y="3322800"/>
            <a:ext cx="51814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Pﾌﾞｰｹ"/>
              </a:rPr>
              <a:t>神話のアルゴリズ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133360" y="254016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HGP明朝E"/>
                <a:ea typeface="HGPﾌﾞｰｹ"/>
              </a:rPr>
              <a:t>キアスム</a:t>
            </a:r>
            <a:endParaRPr b="0" lang="en-US" sz="3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41440" y="231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キアスム図式（交差理論法）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49640" y="1298520"/>
            <a:ext cx="8340120" cy="3930840"/>
            <a:chOff x="449640" y="1298520"/>
            <a:chExt cx="8340120" cy="3930840"/>
          </a:xfrm>
        </p:grpSpPr>
        <p:sp>
          <p:nvSpPr>
            <p:cNvPr id="364" name=""/>
            <p:cNvSpPr/>
            <p:nvPr/>
          </p:nvSpPr>
          <p:spPr>
            <a:xfrm flipV="1">
              <a:off x="1763640" y="2190600"/>
              <a:ext cx="0" cy="236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63640" y="2190600"/>
              <a:ext cx="5545080" cy="303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763640" y="1298520"/>
              <a:ext cx="5545080" cy="32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08720" y="1298520"/>
              <a:ext cx="0" cy="393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76720" y="263376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9640" y="2951280"/>
              <a:ext cx="10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4a"/>
                  </a:solidFill>
                  <a:latin typeface="HGPﾌﾞｰｹ"/>
                  <a:ea typeface="HGPﾌﾞｰｹ"/>
                </a:rPr>
                <a:t>Fx(a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29680" y="3032280"/>
              <a:ext cx="136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 </a:t>
              </a:r>
              <a:r>
                <a:rPr b="0" lang="en-US" sz="3200" spc="-1" strike="noStrike">
                  <a:solidFill>
                    <a:srgbClr val="00004a"/>
                  </a:solidFill>
                  <a:latin typeface="HGPﾌﾞｰｹ"/>
                  <a:ea typeface="HGPﾌﾞｰｹ"/>
                </a:rPr>
                <a:t>Fa</a:t>
              </a:r>
              <a:r>
                <a:rPr b="0" lang="en-US" sz="2800" spc="-1" strike="noStrike" baseline="30000">
                  <a:solidFill>
                    <a:srgbClr val="00004a"/>
                  </a:solidFill>
                  <a:latin typeface="HGPﾌﾞｰｹ"/>
                  <a:ea typeface="HGPﾌﾞｰｹ"/>
                </a:rPr>
                <a:t>-1</a:t>
              </a:r>
              <a:r>
                <a:rPr b="0" lang="en-US" sz="3200" spc="-1" strike="noStrike">
                  <a:solidFill>
                    <a:srgbClr val="00004a"/>
                  </a:solidFill>
                  <a:latin typeface="HGPﾌﾞｰｹ"/>
                  <a:ea typeface="HGPﾌﾞｰｹ"/>
                </a:rPr>
                <a:t>(y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51640" y="2276640"/>
              <a:ext cx="0" cy="21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84360" y="177156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トリックスタ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41440" y="5219640"/>
            <a:ext cx="80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x(a) : Fy(b)</a:t>
            </a:r>
            <a:r>
              <a:rPr b="0" lang="ja-JP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＝</a:t>
            </a:r>
            <a:r>
              <a:rPr b="0" lang="ja-JP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</a:t>
            </a:r>
            <a:r>
              <a:rPr b="0" lang="ja-JP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ｘ</a:t>
            </a:r>
            <a:r>
              <a:rPr b="0" lang="ja-JP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(b) : Fa-1(y)</a:t>
            </a:r>
            <a:br>
              <a:rPr sz="2800"/>
            </a:br>
            <a:r>
              <a:rPr b="0" lang="ja-JP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 </a:t>
            </a:r>
            <a:r>
              <a:rPr b="0" lang="ja-JP" sz="1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：はアナロジー関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55280" y="270792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一人まえ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創造する力</a:t>
            </a:r>
            <a:endParaRPr b="0" lang="en-US" sz="129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6200" y="2707920"/>
            <a:ext cx="8425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君に任せた！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絶対信頼</a:t>
            </a:r>
            <a:endParaRPr b="0" lang="en-US" sz="129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半人まえ</a:t>
            </a:r>
            <a:r>
              <a:rPr b="0" lang="en-US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/</a:t>
            </a: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一人まえ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78" name=""/>
          <p:cNvSpPr/>
          <p:nvPr/>
        </p:nvSpPr>
        <p:spPr>
          <a:xfrm>
            <a:off x="179280" y="3371760"/>
            <a:ext cx="8425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不信</a:t>
            </a:r>
            <a:r>
              <a:rPr b="0" lang="en-US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/</a:t>
            </a: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信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1440" y="231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半人前／一人前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13200" y="1298520"/>
            <a:ext cx="8478360" cy="3930840"/>
            <a:chOff x="313200" y="1298520"/>
            <a:chExt cx="8478360" cy="3930840"/>
          </a:xfrm>
        </p:grpSpPr>
        <p:sp>
          <p:nvSpPr>
            <p:cNvPr id="381" name=""/>
            <p:cNvSpPr/>
            <p:nvPr/>
          </p:nvSpPr>
          <p:spPr>
            <a:xfrm flipV="1">
              <a:off x="1763640" y="2190600"/>
              <a:ext cx="0" cy="236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63640" y="2190600"/>
              <a:ext cx="5545080" cy="303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1763640" y="1298520"/>
              <a:ext cx="5545080" cy="32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08720" y="1298520"/>
              <a:ext cx="0" cy="393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76720" y="263376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3200" y="2951280"/>
              <a:ext cx="115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4a"/>
                  </a:solidFill>
                  <a:latin typeface="HGPﾌﾞｰｹ"/>
                  <a:ea typeface="HGPﾌﾞｰｹ"/>
                </a:rPr>
                <a:t>半人まえ</a:t>
              </a:r>
              <a:br>
                <a:rPr sz="3200"/>
              </a:br>
              <a:r>
                <a:rPr b="0" lang="zh-CN" sz="3200" spc="-1" strike="noStrike">
                  <a:solidFill>
                    <a:srgbClr val="00004a"/>
                  </a:solidFill>
                  <a:latin typeface="HGPﾌﾞｰｹ"/>
                  <a:ea typeface="HGPﾌﾞｰｹ"/>
                </a:rPr>
                <a:t>不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35600" y="3032280"/>
              <a:ext cx="115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一人まえ</a:t>
              </a:r>
              <a:br>
                <a:rPr sz="3200"/>
              </a:b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絶対信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51640" y="2276640"/>
              <a:ext cx="0" cy="21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11280" y="2128680"/>
              <a:ext cx="28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〈私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541440" y="5219640"/>
            <a:ext cx="80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x(a) : Fy(b)</a:t>
            </a:r>
            <a:r>
              <a:rPr b="0" lang="ja-JP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＝</a:t>
            </a:r>
            <a:r>
              <a:rPr b="0" lang="ja-JP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</a:t>
            </a:r>
            <a:r>
              <a:rPr b="0" lang="ja-JP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ｘ</a:t>
            </a:r>
            <a:r>
              <a:rPr b="0" lang="ja-JP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(b) : Fa-1(y)</a:t>
            </a:r>
            <a:br>
              <a:rPr sz="2800"/>
            </a:br>
            <a:r>
              <a:rPr b="0" lang="ja-JP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 </a:t>
            </a:r>
            <a:r>
              <a:rPr b="0" lang="ja-JP" sz="1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：はアナロジー関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3640" y="2492280"/>
            <a:ext cx="83451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想像力（〈他者〉を顧みる心）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は働いているか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ひねるのは〈私〉</a:t>
            </a:r>
            <a:br>
              <a:rPr sz="44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ひねられてはならない</a:t>
            </a:r>
            <a:endParaRPr b="0" lang="en-US" sz="6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33720" y="3322800"/>
            <a:ext cx="51814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Pﾌﾞｰｹ"/>
              </a:rPr>
              <a:t>ヒューリスティッ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33360" y="254016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HGP明朝E"/>
                <a:ea typeface="HGPﾌﾞｰｹ"/>
              </a:rPr>
              <a:t>フレーム問題</a:t>
            </a:r>
            <a:endParaRPr b="0" lang="en-US" sz="3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619280" y="17668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19280" y="321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19280" y="465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80000" y="17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80000" y="321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80000" y="465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0360" y="17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0360" y="321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40360" y="465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619280" y="17668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19280" y="321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19280" y="465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80000" y="17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21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80000" y="465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40360" y="17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40360" y="321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940360" y="465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340000" y="333360"/>
            <a:ext cx="0" cy="324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340000" y="333360"/>
            <a:ext cx="6337440" cy="454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340000" y="487512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340000" y="1988640"/>
            <a:ext cx="4392720" cy="28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9640" y="1700280"/>
            <a:ext cx="820908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63640" y="170028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763640" y="4076640"/>
            <a:ext cx="252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84720" y="2421000"/>
            <a:ext cx="0" cy="16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284720" y="2421000"/>
            <a:ext cx="345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740720" y="2421000"/>
            <a:ext cx="0" cy="28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68360" y="270180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76720" y="4221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33720" y="3322800"/>
            <a:ext cx="518148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Pﾌﾞｰｹ"/>
              </a:rPr>
              <a:t>象徴の一部否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33360" y="254016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HGP明朝E"/>
                <a:ea typeface="HGPﾌﾞｰｹ"/>
              </a:rPr>
              <a:t>創造力について</a:t>
            </a:r>
            <a:endParaRPr b="0" lang="en-US" sz="3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39640" y="1700280"/>
            <a:ext cx="820908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63640" y="3213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63640" y="4076640"/>
            <a:ext cx="252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284720" y="2421000"/>
            <a:ext cx="0" cy="16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84720" y="2421000"/>
            <a:ext cx="345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740720" y="2421000"/>
            <a:ext cx="0" cy="28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68360" y="270180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76720" y="4221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P明朝B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39640" y="1700280"/>
            <a:ext cx="19447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32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84360" y="170028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9640" y="1700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9640" y="170028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08000" y="2612880"/>
            <a:ext cx="4724640" cy="2502000"/>
          </a:xfrm>
          <a:custGeom>
            <a:avLst/>
            <a:gdLst/>
            <a:ahLst/>
            <a:rect l="l" t="t" r="r" b="b"/>
            <a:pathLst>
              <a:path w="2976" h="1576">
                <a:moveTo>
                  <a:pt x="1239" y="164"/>
                </a:moveTo>
                <a:cubicBezTo>
                  <a:pt x="1129" y="109"/>
                  <a:pt x="985" y="100"/>
                  <a:pt x="864" y="91"/>
                </a:cubicBezTo>
                <a:cubicBezTo>
                  <a:pt x="808" y="80"/>
                  <a:pt x="745" y="69"/>
                  <a:pt x="691" y="55"/>
                </a:cubicBezTo>
                <a:cubicBezTo>
                  <a:pt x="663" y="48"/>
                  <a:pt x="637" y="31"/>
                  <a:pt x="608" y="27"/>
                </a:cubicBezTo>
                <a:cubicBezTo>
                  <a:pt x="587" y="24"/>
                  <a:pt x="565" y="22"/>
                  <a:pt x="544" y="18"/>
                </a:cubicBezTo>
                <a:cubicBezTo>
                  <a:pt x="519" y="13"/>
                  <a:pt x="471" y="0"/>
                  <a:pt x="471" y="0"/>
                </a:cubicBezTo>
                <a:cubicBezTo>
                  <a:pt x="420" y="6"/>
                  <a:pt x="373" y="11"/>
                  <a:pt x="325" y="27"/>
                </a:cubicBezTo>
                <a:cubicBezTo>
                  <a:pt x="299" y="54"/>
                  <a:pt x="291" y="78"/>
                  <a:pt x="270" y="109"/>
                </a:cubicBezTo>
                <a:cubicBezTo>
                  <a:pt x="259" y="142"/>
                  <a:pt x="242" y="156"/>
                  <a:pt x="224" y="183"/>
                </a:cubicBezTo>
                <a:cubicBezTo>
                  <a:pt x="210" y="203"/>
                  <a:pt x="201" y="226"/>
                  <a:pt x="188" y="247"/>
                </a:cubicBezTo>
                <a:cubicBezTo>
                  <a:pt x="180" y="288"/>
                  <a:pt x="164" y="317"/>
                  <a:pt x="151" y="356"/>
                </a:cubicBezTo>
                <a:cubicBezTo>
                  <a:pt x="139" y="430"/>
                  <a:pt x="121" y="505"/>
                  <a:pt x="96" y="576"/>
                </a:cubicBezTo>
                <a:cubicBezTo>
                  <a:pt x="88" y="647"/>
                  <a:pt x="77" y="715"/>
                  <a:pt x="69" y="786"/>
                </a:cubicBezTo>
                <a:cubicBezTo>
                  <a:pt x="74" y="1077"/>
                  <a:pt x="0" y="1166"/>
                  <a:pt x="115" y="1335"/>
                </a:cubicBezTo>
                <a:cubicBezTo>
                  <a:pt x="155" y="1456"/>
                  <a:pt x="332" y="1510"/>
                  <a:pt x="444" y="1527"/>
                </a:cubicBezTo>
                <a:cubicBezTo>
                  <a:pt x="591" y="1576"/>
                  <a:pt x="485" y="1544"/>
                  <a:pt x="855" y="1527"/>
                </a:cubicBezTo>
                <a:cubicBezTo>
                  <a:pt x="1007" y="1520"/>
                  <a:pt x="1137" y="1485"/>
                  <a:pt x="1285" y="1472"/>
                </a:cubicBezTo>
                <a:cubicBezTo>
                  <a:pt x="1536" y="1450"/>
                  <a:pt x="1653" y="1459"/>
                  <a:pt x="1980" y="1453"/>
                </a:cubicBezTo>
                <a:cubicBezTo>
                  <a:pt x="2041" y="1444"/>
                  <a:pt x="2102" y="1444"/>
                  <a:pt x="2163" y="1435"/>
                </a:cubicBezTo>
                <a:cubicBezTo>
                  <a:pt x="2312" y="1412"/>
                  <a:pt x="2477" y="1365"/>
                  <a:pt x="2620" y="1316"/>
                </a:cubicBezTo>
                <a:cubicBezTo>
                  <a:pt x="2640" y="1309"/>
                  <a:pt x="2663" y="1311"/>
                  <a:pt x="2684" y="1307"/>
                </a:cubicBezTo>
                <a:cubicBezTo>
                  <a:pt x="2757" y="1293"/>
                  <a:pt x="2832" y="1276"/>
                  <a:pt x="2903" y="1252"/>
                </a:cubicBezTo>
                <a:cubicBezTo>
                  <a:pt x="2920" y="1236"/>
                  <a:pt x="2928" y="1227"/>
                  <a:pt x="2949" y="1216"/>
                </a:cubicBezTo>
                <a:cubicBezTo>
                  <a:pt x="2957" y="1212"/>
                  <a:pt x="2976" y="1207"/>
                  <a:pt x="2976" y="12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1332000" y="1406520"/>
            <a:ext cx="5976720" cy="49021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656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明朝E"/>
              </a:rPr>
              <a:t>フレーム＝円環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3640" y="2637000"/>
            <a:ext cx="83451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明朝E"/>
                <a:ea typeface="HGPﾌﾞｰｹ"/>
              </a:rPr>
              <a:t>ヒューリスティクス</a:t>
            </a:r>
            <a:br>
              <a:rPr sz="6600"/>
            </a:br>
            <a:br>
              <a:rPr sz="6600"/>
            </a:br>
            <a:r>
              <a:rPr b="0" lang="zh-CN" sz="4000" spc="-1" strike="noStrike">
                <a:solidFill>
                  <a:srgbClr val="00004a"/>
                </a:solidFill>
                <a:latin typeface="HGP明朝E"/>
                <a:ea typeface="HGPﾌﾞｰｹ"/>
              </a:rPr>
              <a:t>反対語は、アルゴリズム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525240"/>
            <a:ext cx="8569080" cy="5567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じつは、意外と右脳的な思考に支配されている。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であれば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右脳を鍛える。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0560" y="99720"/>
            <a:ext cx="8569080" cy="337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囚われれば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円環的なので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外とつながらない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47" name=""/>
          <p:cNvSpPr/>
          <p:nvPr/>
        </p:nvSpPr>
        <p:spPr>
          <a:xfrm>
            <a:off x="250920" y="3457440"/>
            <a:ext cx="8569080" cy="22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偶然性がない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想像力が働かな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016000"/>
            <a:ext cx="8569080" cy="227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非合理に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合理を上書きする。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1123920"/>
            <a:ext cx="8569080" cy="4470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して、ひねり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基底（会社・組織・地域社会）が、しっかりとしていないとできない。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788000" y="6165720"/>
            <a:ext cx="4225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6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1349640"/>
            <a:ext cx="7278480" cy="33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情報システムコンサルタン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4500720" y="228276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03360" y="1341360"/>
            <a:ext cx="8145360" cy="2768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882080" y="5918400"/>
            <a:ext cx="55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At.Jennie Richee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」　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Henry Darger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「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ssion and Action - 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生の芸術 アール・ブリュット展」配布チラシより）</a:t>
            </a:r>
            <a:r>
              <a:rPr b="0" lang="ja-JP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rcRect l="23872" t="0" r="42526" b="0"/>
          <a:stretch/>
        </p:blipFill>
        <p:spPr>
          <a:xfrm>
            <a:off x="2556000" y="1341360"/>
            <a:ext cx="2736720" cy="276876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ヘンリー・ダーガー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71640" y="1123920"/>
            <a:ext cx="7129440" cy="50925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54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松本国三さんの作品（２）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10239" t="32080" r="7848" b="0"/>
          <a:stretch/>
        </p:blipFill>
        <p:spPr>
          <a:xfrm rot="21465000">
            <a:off x="2484000" y="836640"/>
            <a:ext cx="4032360" cy="56674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2840" y="11556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ギャル文字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rcRect l="10239" t="51067" r="7848" b="30814"/>
          <a:stretch/>
        </p:blipFill>
        <p:spPr>
          <a:xfrm rot="21465000">
            <a:off x="2390760" y="2420640"/>
            <a:ext cx="403236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24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280" y="270792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7200" spc="-1" strike="noStrike">
                <a:solidFill>
                  <a:srgbClr val="00004a"/>
                </a:solidFill>
                <a:latin typeface="HGP明朝E"/>
              </a:rPr>
              <a:t>ゐ</a:t>
            </a:r>
            <a:r>
              <a:rPr b="0" lang="ja-JP" sz="7200" spc="-1" strike="noStrike">
                <a:solidFill>
                  <a:srgbClr val="00004a"/>
                </a:solidFill>
                <a:latin typeface="HGP明朝E"/>
              </a:rPr>
              <a:t>T</a:t>
            </a:r>
            <a:r>
              <a:rPr b="0" lang="ja-JP" sz="7200" spc="-1" strike="noStrike">
                <a:solidFill>
                  <a:srgbClr val="00004a"/>
                </a:solidFill>
                <a:latin typeface="HGP明朝E"/>
              </a:rPr>
              <a:t>ょ</a:t>
            </a:r>
            <a:r>
              <a:rPr b="0" lang="ja-JP" sz="7200" spc="-1" strike="noStrike">
                <a:solidFill>
                  <a:srgbClr val="00004a"/>
                </a:solidFill>
                <a:latin typeface="HGP明朝E"/>
              </a:rPr>
              <a:t>±ω⊇ω</a:t>
            </a:r>
            <a:r>
              <a:rPr b="0" lang="ja-JP" sz="7200" spc="-1" strike="noStrike">
                <a:solidFill>
                  <a:srgbClr val="00004a"/>
                </a:solidFill>
                <a:latin typeface="HGP明朝E"/>
              </a:rPr>
              <a:t>ﾚﾆちﾚ￡★</a:t>
            </a:r>
            <a:br>
              <a:rPr sz="7200"/>
            </a:br>
            <a:r>
              <a:rPr b="0" lang="ja-JP" sz="7200" spc="-1" strike="noStrike">
                <a:solidFill>
                  <a:srgbClr val="00004a"/>
                </a:solidFill>
                <a:latin typeface="HGP明朝E"/>
              </a:rPr>
              <a:t>今日ﾚ￡宜Ｕ＜ぉ願ﾚヽＵ</a:t>
            </a:r>
            <a:r>
              <a:rPr b="0" lang="ja-JP" sz="7200" spc="-1" strike="noStrike">
                <a:solidFill>
                  <a:srgbClr val="00004a"/>
                </a:solidFill>
                <a:latin typeface="HGP明朝E"/>
              </a:rPr>
              <a:t>ма</a:t>
            </a:r>
            <a:r>
              <a:rPr b="0" lang="ja-JP" sz="7200" spc="-1" strike="noStrike">
                <a:solidFill>
                  <a:srgbClr val="00004a"/>
                </a:solidFill>
                <a:latin typeface="HGP明朝E"/>
              </a:rPr>
              <a:t>￡★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658880" y="1123920"/>
            <a:ext cx="5937480" cy="5616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143080" y="4456080"/>
            <a:ext cx="20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統合連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10160" y="4226040"/>
            <a:ext cx="34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象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90760" y="206532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並列連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明朝E"/>
                <a:ea typeface="HGPﾌﾞｰｹ"/>
              </a:rPr>
              <a:t>象徴の一部否定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53" name=""/>
          <p:cNvSpPr/>
          <p:nvPr/>
        </p:nvSpPr>
        <p:spPr>
          <a:xfrm>
            <a:off x="177840" y="2421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外的連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8160" y="2921040"/>
            <a:ext cx="18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内的連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341000">
            <a:off x="1820520" y="692280"/>
            <a:ext cx="950760" cy="5040360"/>
          </a:xfrm>
          <a:custGeom>
            <a:avLst/>
            <a:gdLst>
              <a:gd name="textAreaLeft" fmla="*/ 607320 w 950760"/>
              <a:gd name="textAreaRight" fmla="*/ 951120 w 95076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40000" y="321156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2e18"/>
                </a:solidFill>
                <a:latin typeface="HGP明朝B"/>
                <a:ea typeface="HGPﾌﾞｰｹ"/>
              </a:rPr>
              <a:t>エンコー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580000" y="4149720"/>
            <a:ext cx="720720" cy="7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85200" y="4900680"/>
            <a:ext cx="91224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デコー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データ化・スーパーフラッ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機能等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6-10-04T06:15:04Z</dcterms:modified>
  <cp:revision>1895</cp:revision>
  <dc:subject>中小建設業IT化概論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