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image6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image4.jpeg" ContentType="image/jpe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A28EB01-9650-44AC-80C0-E19E3B6205F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715-F63C-4FBE-92F0-EE020AF1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382-6C20-442F-B54F-C037A238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1BD-329C-4607-88FF-49FA645C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FB0-AE29-48D4-B2EF-7EACA4C3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47F-A1E2-460E-9FC2-4E082575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F4C-6E89-4E8A-996A-1024AF84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C44-0108-480B-9616-F944F12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27B-A19C-4757-8AC2-CD6B48BA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BDD-0535-43EC-8472-01291CC6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244-BD07-48F1-9AFE-228D0FB4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B47-0477-4D4F-B0FE-6999C08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393-018C-4AB9-B74F-60386572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14D77D67-973A-4597-A73A-E63E799A6284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76760" y="2989440"/>
            <a:ext cx="4071240" cy="3534480"/>
            <a:chOff x="4676760" y="2989440"/>
            <a:chExt cx="4071240" cy="3534480"/>
          </a:xfrm>
        </p:grpSpPr>
        <p:grpSp>
          <p:nvGrpSpPr>
            <p:cNvPr id="50" name=""/>
            <p:cNvGrpSpPr/>
            <p:nvPr/>
          </p:nvGrpSpPr>
          <p:grpSpPr>
            <a:xfrm>
              <a:off x="5062680" y="3166560"/>
              <a:ext cx="3685320" cy="3357360"/>
              <a:chOff x="5062680" y="3166560"/>
              <a:chExt cx="3685320" cy="3357360"/>
            </a:xfrm>
          </p:grpSpPr>
          <p:sp>
            <p:nvSpPr>
              <p:cNvPr id="51" name=""/>
              <p:cNvSpPr/>
              <p:nvPr/>
            </p:nvSpPr>
            <p:spPr>
              <a:xfrm>
                <a:off x="7160040" y="5641920"/>
                <a:ext cx="1573920" cy="86760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15160" y="5952600"/>
                <a:ext cx="120240" cy="29448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70960" y="5839560"/>
                <a:ext cx="963000" cy="24444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62320" y="5870520"/>
                <a:ext cx="943200" cy="381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87960" y="5227560"/>
                <a:ext cx="860040" cy="190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83480" y="5269680"/>
                <a:ext cx="137880" cy="6955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87960" y="5245560"/>
                <a:ext cx="761040" cy="719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67160" y="5319720"/>
                <a:ext cx="596520" cy="521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66280" y="3166560"/>
                <a:ext cx="2173680" cy="189720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76760" y="4643280"/>
                <a:ext cx="375120" cy="326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62680" y="3620160"/>
                <a:ext cx="945360" cy="8002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70400" y="3250080"/>
                <a:ext cx="1065600" cy="12690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59200" y="4466160"/>
                <a:ext cx="414000" cy="3556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20680" y="6193800"/>
                <a:ext cx="1263600" cy="3301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04160" y="5830200"/>
                <a:ext cx="438840" cy="194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17880" y="5955480"/>
                <a:ext cx="1170000" cy="4701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76560" y="6073200"/>
                <a:ext cx="237240" cy="41544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49280" y="6064920"/>
                <a:ext cx="190800" cy="4186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0440" y="5870520"/>
                <a:ext cx="1114920" cy="62928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32560" y="6443640"/>
                <a:ext cx="536400" cy="72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41800" y="5467680"/>
                <a:ext cx="629640" cy="4896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66120" y="5422680"/>
                <a:ext cx="433440" cy="3654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76560" y="5425920"/>
                <a:ext cx="423000" cy="1123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24440" y="5572440"/>
                <a:ext cx="127440" cy="2156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33600" y="5510880"/>
                <a:ext cx="95400" cy="22680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20160" y="5485320"/>
                <a:ext cx="253080" cy="1252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17720" y="5593320"/>
                <a:ext cx="38880" cy="2397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73280" y="5670720"/>
                <a:ext cx="741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43040" y="56397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41800" y="5715360"/>
                <a:ext cx="359280" cy="2415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37200" y="6055560"/>
                <a:ext cx="578520" cy="1915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75040" y="6219720"/>
                <a:ext cx="75960" cy="2318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17560" y="5528880"/>
                <a:ext cx="547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4280" y="6445080"/>
                <a:ext cx="440640" cy="532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48640" y="5860440"/>
                <a:ext cx="160920" cy="6458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6960" y="5825160"/>
                <a:ext cx="329040" cy="18504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96480" y="6211800"/>
                <a:ext cx="183600" cy="2397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0440" y="6086160"/>
                <a:ext cx="600120" cy="1530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51560" y="5641920"/>
                <a:ext cx="514800" cy="687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5240" y="5918760"/>
                <a:ext cx="148320" cy="1818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06120" y="5910480"/>
                <a:ext cx="99000" cy="99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37800" y="5970240"/>
                <a:ext cx="141480" cy="130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50720" y="5752800"/>
                <a:ext cx="134280" cy="10152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61160" y="5765400"/>
                <a:ext cx="125640" cy="11592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23920" y="5775480"/>
                <a:ext cx="339840" cy="16380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40560" y="5970240"/>
                <a:ext cx="1155960" cy="17532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92200" y="6235920"/>
                <a:ext cx="661680" cy="1864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55120" y="5849280"/>
                <a:ext cx="130680" cy="241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95520" y="4612680"/>
                <a:ext cx="741600" cy="11253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78160" y="4047120"/>
                <a:ext cx="2087280" cy="347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22800" y="3767040"/>
                <a:ext cx="2072520" cy="30240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74200" y="5989320"/>
                <a:ext cx="690480" cy="1720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2000" y="6155280"/>
                <a:ext cx="251280" cy="2736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2240" y="6217920"/>
                <a:ext cx="1150200" cy="280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7440" y="6288840"/>
                <a:ext cx="904320" cy="218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43480" y="5395320"/>
                <a:ext cx="472320" cy="446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43480" y="5475600"/>
                <a:ext cx="373320" cy="4644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43480" y="5564160"/>
                <a:ext cx="373320" cy="43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3480" y="5665680"/>
                <a:ext cx="373320" cy="478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676760" y="2989440"/>
              <a:ext cx="1051200" cy="851400"/>
              <a:chOff x="4676760" y="2989440"/>
              <a:chExt cx="1051200" cy="85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5313960" y="367200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42040" y="3657240"/>
                <a:ext cx="361080" cy="17496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98720" y="36414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20400" y="3172680"/>
                <a:ext cx="165960" cy="597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35080" y="3403080"/>
                <a:ext cx="253080" cy="2156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38680" y="3394800"/>
                <a:ext cx="608760" cy="1479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28400" y="3449520"/>
                <a:ext cx="423000" cy="1688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600" y="3174480"/>
                <a:ext cx="113040" cy="2782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19400" y="3161520"/>
                <a:ext cx="372960" cy="8352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12200" y="3174480"/>
                <a:ext cx="74160" cy="31860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6480" y="3172680"/>
                <a:ext cx="336240" cy="32040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95360" y="3206520"/>
                <a:ext cx="261720" cy="2282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40280" y="3483720"/>
                <a:ext cx="507960" cy="2023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37840" y="3497760"/>
                <a:ext cx="309600" cy="738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037840" y="3529800"/>
                <a:ext cx="316440" cy="1386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76760" y="3449520"/>
                <a:ext cx="5688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29800" y="3394800"/>
                <a:ext cx="100440" cy="626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28000" y="3406320"/>
                <a:ext cx="88560" cy="6264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85520" y="3382200"/>
                <a:ext cx="53280" cy="140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8920" y="3066120"/>
                <a:ext cx="192600" cy="34632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04960" y="3336840"/>
                <a:ext cx="423000" cy="392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26200" y="2989440"/>
                <a:ext cx="360720" cy="3121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32400" y="3323880"/>
                <a:ext cx="148680" cy="11088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44640" y="3129120"/>
                <a:ext cx="65160" cy="806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44640" y="3123000"/>
                <a:ext cx="15840" cy="1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96120" y="311976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05120" y="320508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26360" y="3187080"/>
                <a:ext cx="10800" cy="32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96120" y="3058200"/>
                <a:ext cx="142920" cy="1767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02320" y="3459240"/>
                <a:ext cx="49320" cy="2509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56440" y="3438360"/>
                <a:ext cx="19080" cy="25416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49640" y="3575160"/>
                <a:ext cx="119880" cy="11088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23920" y="3778200"/>
                <a:ext cx="19080" cy="32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59200" y="3737520"/>
                <a:ext cx="0" cy="80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42040" y="3708720"/>
                <a:ext cx="0" cy="132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34240" y="3243600"/>
                <a:ext cx="183960" cy="1584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34240" y="3290040"/>
                <a:ext cx="183960" cy="144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3332160"/>
                <a:ext cx="183960" cy="1116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34240" y="3364200"/>
                <a:ext cx="183960" cy="190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40840" y="3048840"/>
              <a:ext cx="1054080" cy="783720"/>
              <a:chOff x="6540840" y="3048840"/>
              <a:chExt cx="1054080" cy="783720"/>
            </a:xfrm>
          </p:grpSpPr>
          <p:sp>
            <p:nvSpPr>
              <p:cNvPr id="151" name=""/>
              <p:cNvSpPr/>
              <p:nvPr/>
            </p:nvSpPr>
            <p:spPr>
              <a:xfrm>
                <a:off x="6682320" y="3303360"/>
                <a:ext cx="173160" cy="65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00960" y="3547800"/>
                <a:ext cx="258120" cy="2044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2400" y="3533400"/>
                <a:ext cx="617400" cy="1447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98960" y="3579840"/>
                <a:ext cx="423000" cy="1720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76560" y="3306600"/>
                <a:ext cx="111240" cy="2779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83120" y="3291840"/>
                <a:ext cx="382320" cy="94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75920" y="3306600"/>
                <a:ext cx="81360" cy="3186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14800" y="3303360"/>
                <a:ext cx="350640" cy="32184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66280" y="3341880"/>
                <a:ext cx="258120" cy="2264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09400" y="3620160"/>
                <a:ext cx="507960" cy="2124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06960" y="3631680"/>
                <a:ext cx="312840" cy="86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03360" y="3674880"/>
                <a:ext cx="323640" cy="127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40840" y="3579840"/>
                <a:ext cx="5652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98920" y="3528360"/>
                <a:ext cx="102600" cy="7056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93520" y="3554280"/>
                <a:ext cx="97200" cy="576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6440" y="3512520"/>
                <a:ext cx="5328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98920" y="3666960"/>
                <a:ext cx="347040" cy="1656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22120" y="3684960"/>
                <a:ext cx="102600" cy="1476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11160" y="3332160"/>
                <a:ext cx="383760" cy="4507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87480" y="3066120"/>
                <a:ext cx="212040" cy="29628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03320" y="3320640"/>
                <a:ext cx="154080" cy="2610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68200" y="3206520"/>
                <a:ext cx="24480" cy="64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92880" y="3140280"/>
                <a:ext cx="70560" cy="579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21320" y="3122640"/>
                <a:ext cx="19080" cy="1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62000" y="3122640"/>
                <a:ext cx="19080" cy="2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08080" y="3199680"/>
                <a:ext cx="15480" cy="306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93680" y="32191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92880" y="3205080"/>
                <a:ext cx="38880" cy="882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36160" y="3270600"/>
                <a:ext cx="21240" cy="518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54440" y="3320640"/>
                <a:ext cx="141480" cy="24624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66240" y="3330720"/>
                <a:ext cx="65160" cy="2476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13120" y="3457800"/>
                <a:ext cx="102600" cy="31068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92880" y="3048840"/>
                <a:ext cx="229680" cy="1818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44000" y="3346560"/>
                <a:ext cx="52920" cy="576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8720" y="3394800"/>
                <a:ext cx="66960" cy="197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34200" y="3457800"/>
                <a:ext cx="40680" cy="2750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04360" y="3713760"/>
                <a:ext cx="120240" cy="1141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03360" y="3390120"/>
                <a:ext cx="185760" cy="936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3360" y="3438360"/>
                <a:ext cx="185760" cy="144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3360" y="3470400"/>
                <a:ext cx="185760" cy="176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03360" y="3507840"/>
                <a:ext cx="185760" cy="1116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108400" y="4474440"/>
              <a:ext cx="1033560" cy="691920"/>
              <a:chOff x="5108400" y="4474440"/>
              <a:chExt cx="1033560" cy="691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150880" y="4987800"/>
                <a:ext cx="362520" cy="1674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41000" y="4668840"/>
                <a:ext cx="162720" cy="6120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9560" y="4894200"/>
                <a:ext cx="243720" cy="1933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99360" y="4876560"/>
                <a:ext cx="580320" cy="1400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95760" y="4926600"/>
                <a:ext cx="403560" cy="1609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02920" y="4672080"/>
                <a:ext cx="107640" cy="25776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47240" y="4654440"/>
                <a:ext cx="357480" cy="8532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39560" y="4672080"/>
                <a:ext cx="75600" cy="2959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47240" y="4668840"/>
                <a:ext cx="323640" cy="2991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84680" y="4694760"/>
                <a:ext cx="249120" cy="21852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8920" y="4958640"/>
                <a:ext cx="488160" cy="1994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03320" y="4974840"/>
                <a:ext cx="288360" cy="788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92160" y="5011560"/>
                <a:ext cx="304560" cy="1252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81840" y="492660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18000" y="4873320"/>
                <a:ext cx="97200" cy="691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30600" y="4899240"/>
                <a:ext cx="88200" cy="5472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08360" y="4860720"/>
                <a:ext cx="511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36840" y="4474440"/>
                <a:ext cx="258120" cy="23184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61680" y="4488480"/>
                <a:ext cx="215640" cy="43956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62480" y="4565880"/>
                <a:ext cx="58320" cy="691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91560" y="4482360"/>
                <a:ext cx="155520" cy="817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32240" y="4633560"/>
                <a:ext cx="97200" cy="532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90920" y="4562640"/>
                <a:ext cx="1764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52040" y="4565880"/>
                <a:ext cx="1404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08400" y="4741560"/>
                <a:ext cx="382320" cy="37008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9760" y="4728240"/>
                <a:ext cx="192960" cy="19800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58080" y="4849200"/>
                <a:ext cx="169560" cy="2494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52040" y="5060160"/>
                <a:ext cx="121680" cy="6732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14400" y="4815360"/>
                <a:ext cx="24840" cy="25920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45280" y="5039280"/>
                <a:ext cx="122400" cy="774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70440" y="5060160"/>
                <a:ext cx="116640" cy="1062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54480" y="5074560"/>
                <a:ext cx="7200" cy="70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64080" y="5082480"/>
                <a:ext cx="0" cy="64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23560" y="4738320"/>
                <a:ext cx="18576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23560" y="4788000"/>
                <a:ext cx="185760" cy="129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23560" y="4825080"/>
                <a:ext cx="185760" cy="1584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23560" y="4860720"/>
                <a:ext cx="185760" cy="126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Times New Roman"/>
                <a:ea typeface="HGPﾌﾞｰｹ"/>
              </a:rPr>
              <a:t>桃論Ⅱ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237960" y="5430960"/>
            <a:ext cx="66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 宮崎（桃組）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413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今という時代のヒン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市場原理化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カリフォルニアン・イデオロギー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25426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反体制的イデオロギ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資本主義のゲームを全肯定するリバタリア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無邪気な技術信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324000" y="1628640"/>
            <a:ext cx="8554680" cy="4630680"/>
            <a:chOff x="324000" y="1628640"/>
            <a:chExt cx="8554680" cy="4630680"/>
          </a:xfrm>
        </p:grpSpPr>
        <p:sp>
          <p:nvSpPr>
            <p:cNvPr id="258" name=""/>
            <p:cNvSpPr/>
            <p:nvPr/>
          </p:nvSpPr>
          <p:spPr>
            <a:xfrm rot="3456600">
              <a:off x="6461640" y="3783600"/>
              <a:ext cx="1324800" cy="5994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000" y="3087000"/>
              <a:ext cx="6159600" cy="2405880"/>
            </a:xfrm>
            <a:prstGeom prst="cube">
              <a:avLst>
                <a:gd name="adj" fmla="val 478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＝インフラ部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60240" y="264636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5760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812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09600" y="408060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7756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3472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700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484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894000">
              <a:off x="562896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3208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72880" y="330624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8008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9104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8876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12400">
              <a:off x="6911640" y="45237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431800">
              <a:off x="5713560" y="430164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93440" y="1628640"/>
              <a:ext cx="615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アプリケーション部分＝価値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6641280" y="3952800"/>
              <a:ext cx="884160" cy="2908080"/>
            </a:xfrm>
            <a:custGeom>
              <a:avLst/>
              <a:gdLst>
                <a:gd name="textAreaLeft" fmla="*/ 0 w 884160"/>
                <a:gd name="textAreaRight" fmla="*/ 319320 w 884160"/>
                <a:gd name="textAreaTop" fmla="*/ 75600 h 2908080"/>
                <a:gd name="textAreaBottom" fmla="*/ 2832480 h 29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48"/>
                  </a:lnTo>
                  <a:cubicBezTo>
                    <a:pt x="10800" y="10348"/>
                    <a:pt x="16200" y="11248"/>
                    <a:pt x="21600" y="11248"/>
                  </a:cubicBezTo>
                  <a:cubicBezTo>
                    <a:pt x="16200" y="11248"/>
                    <a:pt x="10800" y="12148"/>
                    <a:pt x="10800" y="130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5880" y="5738760"/>
              <a:ext cx="359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非適応－排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素朴なリバタリアン的価値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0" name=""/>
          <p:cNvSpPr/>
          <p:nvPr/>
        </p:nvSpPr>
        <p:spPr>
          <a:xfrm>
            <a:off x="2617560" y="498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リバタリアニズム」（自由至上主義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2346" r="4133" b="0"/>
          <a:stretch/>
        </p:blipFill>
        <p:spPr>
          <a:xfrm>
            <a:off x="179280" y="853920"/>
            <a:ext cx="7777440" cy="52912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229440" y="1844640"/>
            <a:ext cx="2663640" cy="2305080"/>
          </a:xfrm>
          <a:prstGeom prst="wedgeEllipseCallout">
            <a:avLst>
              <a:gd name="adj1" fmla="val -55481"/>
              <a:gd name="adj2" fmla="val 20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d2d2d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リンク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80" y="2997360"/>
            <a:ext cx="45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ハブの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8000" y="6466680"/>
            <a:ext cx="73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グローバル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0" t="0" r="1565" b="0"/>
          <a:stretch/>
        </p:blipFill>
        <p:spPr>
          <a:xfrm>
            <a:off x="179280" y="765000"/>
            <a:ext cx="4465800" cy="338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88" name=""/>
          <p:cNvSpPr/>
          <p:nvPr/>
        </p:nvSpPr>
        <p:spPr>
          <a:xfrm>
            <a:off x="4645080" y="1457280"/>
            <a:ext cx="39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ベキ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パレート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対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5680" y="4584600"/>
            <a:ext cx="8879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不公平性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スケール・フリー性」、あるいはフラクタル（自己相似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無限大の分散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4220280"/>
            <a:ext cx="633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-27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スケールフリー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今という時代のヒント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560" y="27954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5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2.0</a:t>
            </a:r>
            <a:endParaRPr b="0" lang="en-US" sz="15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7240" y="278100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戦略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とりあえずは大きな流れで流れて、それ以上のスピードで流れることで独自性を保つ。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58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4a"/>
                </a:solidFill>
                <a:latin typeface="HGP明朝E"/>
              </a:rPr>
              <a:t>Web2.0 Meme Map</a:t>
            </a:r>
            <a:endParaRPr b="0" lang="en-US" sz="1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96" name="" descr="Web2MemeMa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497600" y="6531120"/>
            <a:ext cx="61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Data as the “intel inside”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55640" y="819000"/>
            <a:ext cx="7608960" cy="5705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0"/>
            <a:ext cx="9088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はあったの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42472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明朝E"/>
              </a:rPr>
              <a:t>Web2.0 meme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00" name=""/>
          <p:cNvSpPr/>
          <p:nvPr/>
        </p:nvSpPr>
        <p:spPr>
          <a:xfrm>
            <a:off x="264960" y="975960"/>
            <a:ext cx="8194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１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Tagging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cial Tagg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つまりは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olksonomy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階層分類学としての分類では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つまりユーザーの手で自由に分類するというこ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lickr,del.licio.u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「デリシャス」と発音する）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２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ich User Experience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直感的操作性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,GoogleMap,AJAX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３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ser as contributor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寄稿者、投稿者としてのユーザ、つまりユーザーの意見が力をもつ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geRank,eBay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ユーザ評価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,Amaz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レビュー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４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ustomer self-service enabling the long tail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ロングテールを巻き込むために、ユーザーが自分でできる機能を与える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oogle Adsense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５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rticipation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ot publissh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，つまり出版のように押し付けではなく、ユーザーが参加して作り出すコンテンツ。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６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Trust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信頼への過剰な期待。（笑）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ikipedia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７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Decentralizati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進歩的分散志向。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itT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Taggig</a:t>
            </a:r>
            <a:br>
              <a:rPr sz="7200"/>
            </a:b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権威の崩壊</a:t>
            </a:r>
            <a:br>
              <a:rPr sz="7200"/>
            </a:b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草の根化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96472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草の根化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ンシュマー（消費者）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時代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750760"/>
            <a:ext cx="896472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CALS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は何故進展しないのか？</a:t>
            </a:r>
            <a:br>
              <a:rPr sz="5400"/>
            </a:br>
            <a:br>
              <a:rPr sz="54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ンシュマー（大衆）が必要としていないから。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280" y="11379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三法則：（≒無限大）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≒ゼロ）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mething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あるいは、消えて失われていったはずの価値の集積</a:t>
            </a:r>
            <a:br>
              <a:rPr sz="3600"/>
            </a:b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52608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裏浅草グルメマップ</a:t>
            </a:r>
            <a:br>
              <a:rPr sz="7200"/>
            </a:br>
            <a:br>
              <a:rPr sz="7200"/>
            </a:br>
            <a:br>
              <a:rPr sz="1800"/>
            </a:br>
            <a:r>
              <a:rPr b="0" lang="ja-JP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http://www.momoti.com/</a:t>
            </a:r>
            <a:endParaRPr b="0" lang="en-US" sz="4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419640" y="6359400"/>
            <a:ext cx="5627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2008080"/>
            <a:ext cx="727848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</a:t>
            </a:r>
            <a:r>
              <a:rPr b="1" lang="zh-CN" sz="2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桃知　利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ttp://www.momoti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をおかけいたしますが、ご連絡はメールでお願いいたし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003640" y="1741320"/>
            <a:ext cx="1451160" cy="154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入札は簡単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納品は外注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外注できないもの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情報の共有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つまり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ケーション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ケーション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段階へ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の精神文化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0" name=""/>
          <p:cNvSpPr/>
          <p:nvPr/>
        </p:nvSpPr>
        <p:spPr>
          <a:xfrm>
            <a:off x="668160" y="2061000"/>
            <a:ext cx="8151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発性（ボランティ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草の根（グラスルーツ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開放系（オープン）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代は変わる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2" name=""/>
          <p:cNvSpPr/>
          <p:nvPr/>
        </p:nvSpPr>
        <p:spPr>
          <a:xfrm>
            <a:off x="1655640" y="5661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キアス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76364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2190600"/>
            <a:ext cx="6242040" cy="332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763640" y="981000"/>
            <a:ext cx="6048360" cy="35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126828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24210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4040" y="168264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の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55600" y="94500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2255760"/>
            <a:ext cx="0" cy="210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9080" y="1916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ひね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9640" y="96264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何が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変わったのか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10-07T23:54:07Z</dcterms:modified>
  <cp:revision>1961</cp:revision>
  <dc:subject>法大EC2006-1</dc:subject>
  <dc:title>考える技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