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mera.wav" ContentType="audio/x-wav"/>
  <Override PartName="/ppt/media/image6.png" ContentType="image/png"/>
  <Override PartName="/ppt/media/CAMERA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5A2AD86-340A-463C-9523-D80155C9F2D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6BE-1118-4937-BE2D-464119E9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539C-4E54-46DA-BB4F-A2DBC99D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C94-1F4F-47AA-9575-1EDD6323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B18-981D-4AAE-B8B0-8574F631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647-543E-4BBA-A64A-F7620438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563-9E88-45B4-99F3-3553D531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770-8E99-4341-85C3-12EA8B2A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2BA-7427-416D-BACE-D41291F8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C72-34A9-4212-9308-36775A51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BBD-74DC-4497-8722-C921D3B5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D81-9657-4895-A4EB-E09B7F18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94F2-8F3A-415F-A1D0-6335E1C8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44AA5BF8-EC89-433F-BA2E-B87AB309D3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676760" y="2989440"/>
            <a:ext cx="4071240" cy="3534480"/>
            <a:chOff x="4676760" y="2989440"/>
            <a:chExt cx="4071240" cy="3534480"/>
          </a:xfrm>
        </p:grpSpPr>
        <p:grpSp>
          <p:nvGrpSpPr>
            <p:cNvPr id="50" name=""/>
            <p:cNvGrpSpPr/>
            <p:nvPr/>
          </p:nvGrpSpPr>
          <p:grpSpPr>
            <a:xfrm>
              <a:off x="5062680" y="3166560"/>
              <a:ext cx="3685320" cy="3357360"/>
              <a:chOff x="5062680" y="3166560"/>
              <a:chExt cx="3685320" cy="3357360"/>
            </a:xfrm>
          </p:grpSpPr>
          <p:sp>
            <p:nvSpPr>
              <p:cNvPr id="51" name=""/>
              <p:cNvSpPr/>
              <p:nvPr/>
            </p:nvSpPr>
            <p:spPr>
              <a:xfrm>
                <a:off x="7160040" y="5641920"/>
                <a:ext cx="1573920" cy="86760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615160" y="5952600"/>
                <a:ext cx="120240" cy="29448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770960" y="5839560"/>
                <a:ext cx="963000" cy="24444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762320" y="5870520"/>
                <a:ext cx="943200" cy="3816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87960" y="5227560"/>
                <a:ext cx="860040" cy="19008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83480" y="5269680"/>
                <a:ext cx="137880" cy="69552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87960" y="5245560"/>
                <a:ext cx="761040" cy="71964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967160" y="5319720"/>
                <a:ext cx="596520" cy="52128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066280" y="3166560"/>
                <a:ext cx="2173680" cy="189720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476760" y="4643280"/>
                <a:ext cx="375120" cy="3265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62680" y="3620160"/>
                <a:ext cx="945360" cy="80028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170400" y="3250080"/>
                <a:ext cx="1065600" cy="126900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659200" y="4466160"/>
                <a:ext cx="414000" cy="3556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420680" y="6193800"/>
                <a:ext cx="1263600" cy="33012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04160" y="5830200"/>
                <a:ext cx="438840" cy="19440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517880" y="5955480"/>
                <a:ext cx="1170000" cy="4701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676560" y="6073200"/>
                <a:ext cx="237240" cy="41544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749280" y="6064920"/>
                <a:ext cx="190800" cy="4186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50440" y="5870520"/>
                <a:ext cx="1114920" cy="62928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432560" y="6443640"/>
                <a:ext cx="536400" cy="7200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841800" y="5467680"/>
                <a:ext cx="629640" cy="48960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666120" y="5422680"/>
                <a:ext cx="433440" cy="3654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76560" y="5425920"/>
                <a:ext cx="423000" cy="11232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24440" y="5572440"/>
                <a:ext cx="127440" cy="21564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933600" y="5510880"/>
                <a:ext cx="95400" cy="22680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20160" y="5485320"/>
                <a:ext cx="253080" cy="12528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317720" y="5593320"/>
                <a:ext cx="38880" cy="23976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73280" y="5670720"/>
                <a:ext cx="74160" cy="1584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43040" y="563976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41800" y="5715360"/>
                <a:ext cx="359280" cy="24156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937200" y="6055560"/>
                <a:ext cx="578520" cy="19152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75040" y="6219720"/>
                <a:ext cx="75960" cy="23184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117560" y="5528880"/>
                <a:ext cx="5472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514280" y="6445080"/>
                <a:ext cx="440640" cy="532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848640" y="5860440"/>
                <a:ext cx="160920" cy="64584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06960" y="5825160"/>
                <a:ext cx="329040" cy="18504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96480" y="6211800"/>
                <a:ext cx="183600" cy="23976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80440" y="6086160"/>
                <a:ext cx="600120" cy="15300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51560" y="5641920"/>
                <a:ext cx="514800" cy="6876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75240" y="5918760"/>
                <a:ext cx="148320" cy="18180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206120" y="5910480"/>
                <a:ext cx="99000" cy="9936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37800" y="5970240"/>
                <a:ext cx="141480" cy="13032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50720" y="5752800"/>
                <a:ext cx="134280" cy="10152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61160" y="5765400"/>
                <a:ext cx="125640" cy="11592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423920" y="5775480"/>
                <a:ext cx="339840" cy="16380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40560" y="5970240"/>
                <a:ext cx="1155960" cy="17532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792200" y="6235920"/>
                <a:ext cx="661680" cy="18648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55120" y="5849280"/>
                <a:ext cx="130680" cy="241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95520" y="4612680"/>
                <a:ext cx="741600" cy="11253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078160" y="4047120"/>
                <a:ext cx="2087280" cy="34740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22800" y="3767040"/>
                <a:ext cx="2072520" cy="30240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74200" y="5989320"/>
                <a:ext cx="690480" cy="17208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442000" y="6155280"/>
                <a:ext cx="251280" cy="2736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82240" y="6217920"/>
                <a:ext cx="1150200" cy="280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07440" y="6288840"/>
                <a:ext cx="904320" cy="218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43480" y="5395320"/>
                <a:ext cx="472320" cy="4464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043480" y="5475600"/>
                <a:ext cx="373320" cy="4644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043480" y="5564160"/>
                <a:ext cx="373320" cy="4320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43480" y="5665680"/>
                <a:ext cx="373320" cy="4788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676760" y="2989440"/>
              <a:ext cx="1051200" cy="851400"/>
              <a:chOff x="4676760" y="2989440"/>
              <a:chExt cx="1051200" cy="851400"/>
            </a:xfrm>
          </p:grpSpPr>
          <p:sp>
            <p:nvSpPr>
              <p:cNvPr id="111" name=""/>
              <p:cNvSpPr/>
              <p:nvPr/>
            </p:nvSpPr>
            <p:spPr>
              <a:xfrm>
                <a:off x="5313960" y="3672000"/>
                <a:ext cx="77760" cy="1382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42040" y="3657240"/>
                <a:ext cx="361080" cy="17496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98720" y="3641400"/>
                <a:ext cx="105840" cy="14472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820400" y="3172680"/>
                <a:ext cx="165960" cy="5976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35080" y="3403080"/>
                <a:ext cx="253080" cy="21564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38680" y="3394800"/>
                <a:ext cx="608760" cy="14796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928400" y="3449520"/>
                <a:ext cx="423000" cy="16884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09600" y="3174480"/>
                <a:ext cx="113040" cy="27828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19400" y="3161520"/>
                <a:ext cx="372960" cy="8352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912200" y="3174480"/>
                <a:ext cx="74160" cy="31860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56480" y="3172680"/>
                <a:ext cx="336240" cy="32040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95360" y="3206520"/>
                <a:ext cx="261720" cy="22824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40280" y="3483720"/>
                <a:ext cx="507960" cy="20232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37840" y="3497760"/>
                <a:ext cx="309600" cy="7380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037840" y="3529800"/>
                <a:ext cx="316440" cy="13860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76760" y="3449520"/>
                <a:ext cx="56880" cy="648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329800" y="3394800"/>
                <a:ext cx="100440" cy="6264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28000" y="3406320"/>
                <a:ext cx="88560" cy="6264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285520" y="3382200"/>
                <a:ext cx="53280" cy="140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98920" y="3066120"/>
                <a:ext cx="192600" cy="34632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04960" y="3336840"/>
                <a:ext cx="423000" cy="39276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26200" y="2989440"/>
                <a:ext cx="360720" cy="31212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432400" y="3323880"/>
                <a:ext cx="148680" cy="11088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444640" y="3129120"/>
                <a:ext cx="65160" cy="806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444640" y="3123000"/>
                <a:ext cx="15840" cy="1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96120" y="3119760"/>
                <a:ext cx="17640" cy="14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05120" y="3205080"/>
                <a:ext cx="2844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26360" y="3187080"/>
                <a:ext cx="10800" cy="3204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96120" y="3058200"/>
                <a:ext cx="142920" cy="17676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02320" y="3459240"/>
                <a:ext cx="49320" cy="25092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56440" y="3438360"/>
                <a:ext cx="19080" cy="25416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49640" y="3575160"/>
                <a:ext cx="119880" cy="11088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23920" y="3778200"/>
                <a:ext cx="19080" cy="32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59200" y="3737520"/>
                <a:ext cx="0" cy="806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342040" y="3708720"/>
                <a:ext cx="0" cy="132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34240" y="3243600"/>
                <a:ext cx="183960" cy="1584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034240" y="3290040"/>
                <a:ext cx="183960" cy="1440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034240" y="3332160"/>
                <a:ext cx="183960" cy="1116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34240" y="3364200"/>
                <a:ext cx="183960" cy="1908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540840" y="3048840"/>
              <a:ext cx="1054080" cy="783720"/>
              <a:chOff x="6540840" y="3048840"/>
              <a:chExt cx="1054080" cy="783720"/>
            </a:xfrm>
          </p:grpSpPr>
          <p:sp>
            <p:nvSpPr>
              <p:cNvPr id="151" name=""/>
              <p:cNvSpPr/>
              <p:nvPr/>
            </p:nvSpPr>
            <p:spPr>
              <a:xfrm>
                <a:off x="6682320" y="3303360"/>
                <a:ext cx="173160" cy="655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600960" y="3547800"/>
                <a:ext cx="258120" cy="20448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02400" y="3533400"/>
                <a:ext cx="617400" cy="1447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798960" y="3579840"/>
                <a:ext cx="423000" cy="17208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76560" y="3306600"/>
                <a:ext cx="111240" cy="27792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83120" y="3291840"/>
                <a:ext cx="382320" cy="9468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75920" y="3306600"/>
                <a:ext cx="81360" cy="31860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814800" y="3303360"/>
                <a:ext cx="350640" cy="32184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66280" y="3341880"/>
                <a:ext cx="258120" cy="22644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09400" y="3620160"/>
                <a:ext cx="507960" cy="21240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906960" y="3631680"/>
                <a:ext cx="312840" cy="8676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903360" y="3674880"/>
                <a:ext cx="323640" cy="12744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40840" y="3579840"/>
                <a:ext cx="56520" cy="126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198920" y="3528360"/>
                <a:ext cx="102600" cy="7056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193520" y="3554280"/>
                <a:ext cx="97200" cy="5760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56440" y="3512520"/>
                <a:ext cx="53280" cy="172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98920" y="3666960"/>
                <a:ext cx="347040" cy="16560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422120" y="3684960"/>
                <a:ext cx="102600" cy="14760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211160" y="3332160"/>
                <a:ext cx="383760" cy="45072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287480" y="3066120"/>
                <a:ext cx="212040" cy="29628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303320" y="3320640"/>
                <a:ext cx="154080" cy="26100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68200" y="3206520"/>
                <a:ext cx="24480" cy="640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92880" y="3140280"/>
                <a:ext cx="70560" cy="5796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21320" y="3122640"/>
                <a:ext cx="19080" cy="17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362000" y="3122640"/>
                <a:ext cx="19080" cy="25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408080" y="3199680"/>
                <a:ext cx="15480" cy="3060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93680" y="3219120"/>
                <a:ext cx="212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92880" y="3205080"/>
                <a:ext cx="38880" cy="8820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36160" y="3270600"/>
                <a:ext cx="21240" cy="5184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54440" y="3320640"/>
                <a:ext cx="141480" cy="24624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266240" y="3330720"/>
                <a:ext cx="65160" cy="2476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413120" y="3457800"/>
                <a:ext cx="102600" cy="31068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92880" y="3048840"/>
                <a:ext cx="229680" cy="18180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44000" y="3346560"/>
                <a:ext cx="52920" cy="5760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08720" y="3394800"/>
                <a:ext cx="66960" cy="19764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34200" y="3457800"/>
                <a:ext cx="40680" cy="2750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04360" y="3713760"/>
                <a:ext cx="120240" cy="11412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903360" y="3390120"/>
                <a:ext cx="185760" cy="936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3360" y="3438360"/>
                <a:ext cx="185760" cy="1440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03360" y="3470400"/>
                <a:ext cx="185760" cy="1764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03360" y="3507840"/>
                <a:ext cx="185760" cy="1116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108400" y="4474440"/>
              <a:ext cx="1033560" cy="691920"/>
              <a:chOff x="5108400" y="4474440"/>
              <a:chExt cx="1033560" cy="691920"/>
            </a:xfrm>
          </p:grpSpPr>
          <p:sp>
            <p:nvSpPr>
              <p:cNvPr id="193" name=""/>
              <p:cNvSpPr/>
              <p:nvPr/>
            </p:nvSpPr>
            <p:spPr>
              <a:xfrm>
                <a:off x="5150880" y="4987800"/>
                <a:ext cx="362520" cy="16740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41000" y="4668840"/>
                <a:ext cx="162720" cy="6120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39560" y="4894200"/>
                <a:ext cx="243720" cy="19332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99360" y="4876560"/>
                <a:ext cx="580320" cy="14004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95760" y="4926600"/>
                <a:ext cx="403560" cy="16092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902920" y="4672080"/>
                <a:ext cx="107640" cy="25776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547240" y="4654440"/>
                <a:ext cx="357480" cy="8532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39560" y="4672080"/>
                <a:ext cx="75600" cy="29592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47240" y="4668840"/>
                <a:ext cx="323640" cy="29916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584680" y="4694760"/>
                <a:ext cx="249120" cy="21852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98920" y="4958640"/>
                <a:ext cx="488160" cy="19944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503320" y="4974840"/>
                <a:ext cx="288360" cy="788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92160" y="5011560"/>
                <a:ext cx="304560" cy="12528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81840" y="4926600"/>
                <a:ext cx="60120" cy="936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18000" y="4873320"/>
                <a:ext cx="97200" cy="6912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30600" y="4899240"/>
                <a:ext cx="88200" cy="5472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508360" y="4860720"/>
                <a:ext cx="51120" cy="144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136840" y="4474440"/>
                <a:ext cx="258120" cy="23184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61680" y="4488480"/>
                <a:ext cx="215640" cy="43956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62480" y="4565880"/>
                <a:ext cx="58320" cy="691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91560" y="4482360"/>
                <a:ext cx="155520" cy="8172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32240" y="4633560"/>
                <a:ext cx="97200" cy="532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90920" y="4562640"/>
                <a:ext cx="1764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52040" y="4565880"/>
                <a:ext cx="14040" cy="12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08400" y="4741560"/>
                <a:ext cx="382320" cy="37008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89760" y="4728240"/>
                <a:ext cx="192960" cy="19800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58080" y="4849200"/>
                <a:ext cx="169560" cy="2494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52040" y="5060160"/>
                <a:ext cx="121680" cy="6732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14400" y="4815360"/>
                <a:ext cx="24840" cy="25920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345280" y="5039280"/>
                <a:ext cx="122400" cy="7740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70440" y="5060160"/>
                <a:ext cx="116640" cy="1062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154480" y="5074560"/>
                <a:ext cx="7200" cy="705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464080" y="5082480"/>
                <a:ext cx="0" cy="64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23560" y="4738320"/>
                <a:ext cx="185760" cy="140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23560" y="4788000"/>
                <a:ext cx="185760" cy="129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623560" y="4825080"/>
                <a:ext cx="185760" cy="1584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623560" y="4860720"/>
                <a:ext cx="185760" cy="126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200" spc="-1" strike="noStrike">
                <a:solidFill>
                  <a:srgbClr val="00004a"/>
                </a:solidFill>
                <a:latin typeface="Times New Roman"/>
                <a:ea typeface="HGPﾌﾞｰｹ"/>
              </a:rPr>
              <a:t>桃論Ⅱ</a:t>
            </a:r>
            <a:endParaRPr b="0" lang="en-US" sz="82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1" name=""/>
          <p:cNvSpPr/>
          <p:nvPr/>
        </p:nvSpPr>
        <p:spPr>
          <a:xfrm>
            <a:off x="237960" y="5430960"/>
            <a:ext cx="66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6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１０月１２日 広島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1413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―</a:t>
            </a: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中小建設業の未来を考える―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026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インターネットの精神文化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3" name=""/>
          <p:cNvSpPr/>
          <p:nvPr/>
        </p:nvSpPr>
        <p:spPr>
          <a:xfrm>
            <a:off x="668160" y="2061000"/>
            <a:ext cx="81518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自発性（ボランティア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草の根（グラスルーツ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開放系（オープン）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ユートピア論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でしかなかった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41440" y="231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時代は変わる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6" name=""/>
          <p:cNvSpPr/>
          <p:nvPr/>
        </p:nvSpPr>
        <p:spPr>
          <a:xfrm>
            <a:off x="1655640" y="566100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キアス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63640" y="2190600"/>
            <a:ext cx="0" cy="236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63640" y="2190600"/>
            <a:ext cx="6242040" cy="332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763640" y="981000"/>
            <a:ext cx="6048360" cy="357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08720" y="1268280"/>
            <a:ext cx="0" cy="393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56000" y="24210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インターネッ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040" y="1682640"/>
            <a:ext cx="11552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年前の現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55600" y="945000"/>
            <a:ext cx="66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ウェブ化する現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2255760"/>
            <a:ext cx="0" cy="210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29080" y="191628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ひね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09640" y="962640"/>
            <a:ext cx="66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ウェ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280" y="272232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何が</a:t>
            </a:r>
            <a:br>
              <a:rPr sz="10600"/>
            </a:b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変わったのか</a:t>
            </a:r>
            <a:endParaRPr b="0" lang="en-US" sz="10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356000" y="1539720"/>
            <a:ext cx="4240440" cy="210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Ⅰ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グローバル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＋コミュニティ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3916440"/>
            <a:ext cx="4537080" cy="21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Ⅳ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ノングローバル指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＋ノンコミュニティ指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40000" y="981000"/>
            <a:ext cx="453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グローバ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92680" y="1700280"/>
            <a:ext cx="56412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コミュニテ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1557360"/>
            <a:ext cx="3220920" cy="21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Ⅲ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グローバル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63640" y="645228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 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新版 コミュニティ・ソリューション　金子郁容（著）　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岩波書店 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85 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表を修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572000" y="1485720"/>
            <a:ext cx="0" cy="463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280" y="3789360"/>
            <a:ext cx="7570800" cy="1440"/>
          </a:xfrm>
          <a:prstGeom prst="line">
            <a:avLst/>
          </a:prstGeom>
          <a:ln w="76320">
            <a:solidFill>
              <a:srgbClr val="c200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3987720"/>
            <a:ext cx="3224160" cy="210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Ⅱ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コミュニティ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920" y="5589720"/>
            <a:ext cx="1463760" cy="1261800"/>
          </a:xfrm>
          <a:prstGeom prst="wedgeEllipseCallout">
            <a:avLst>
              <a:gd name="adj1" fmla="val 34597"/>
              <a:gd name="adj2" fmla="val -546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構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4003560"/>
            <a:ext cx="3598920" cy="1873440"/>
          </a:xfrm>
          <a:prstGeom prst="line">
            <a:avLst/>
          </a:prstGeom>
          <a:ln w="38160">
            <a:solidFill>
              <a:srgbClr val="fc2e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920" y="-1764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インターネット社会の指向性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70" name=""/>
          <p:cNvSpPr/>
          <p:nvPr/>
        </p:nvSpPr>
        <p:spPr>
          <a:xfrm>
            <a:off x="2266920" y="6048360"/>
            <a:ext cx="453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ローカ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0240" y="1628640"/>
            <a:ext cx="564120" cy="41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パーソナ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2026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カリフォルニアン・イデオロギー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54268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反体制的イデオロギ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資本主義のゲームを全肯定するリバタリア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無邪気な技術信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324000" y="1628640"/>
            <a:ext cx="8554680" cy="4630680"/>
            <a:chOff x="324000" y="1628640"/>
            <a:chExt cx="8554680" cy="4630680"/>
          </a:xfrm>
        </p:grpSpPr>
        <p:sp>
          <p:nvSpPr>
            <p:cNvPr id="275" name=""/>
            <p:cNvSpPr/>
            <p:nvPr/>
          </p:nvSpPr>
          <p:spPr>
            <a:xfrm rot="3456600">
              <a:off x="6461640" y="3783600"/>
              <a:ext cx="1324800" cy="59940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4000" y="3087000"/>
              <a:ext cx="6159600" cy="2405880"/>
            </a:xfrm>
            <a:prstGeom prst="cube">
              <a:avLst>
                <a:gd name="adj" fmla="val 4784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OS</a:t>
              </a: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＝インフラ部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0240" y="2646360"/>
              <a:ext cx="102528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57600" y="26463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08120" y="26463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09600" y="4080600"/>
              <a:ext cx="1025280" cy="77400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77560" y="26463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3472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700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484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894000">
              <a:off x="562896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3208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72880" y="330624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80080" y="330840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91040" y="330840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88760" y="330840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12400">
              <a:off x="6911640" y="45237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2431800">
              <a:off x="5713560" y="430164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93440" y="1628640"/>
              <a:ext cx="615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アプリケーション部分＝価値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6641280" y="3952800"/>
              <a:ext cx="884160" cy="2908080"/>
            </a:xfrm>
            <a:custGeom>
              <a:avLst/>
              <a:gdLst>
                <a:gd name="textAreaLeft" fmla="*/ 0 w 884160"/>
                <a:gd name="textAreaRight" fmla="*/ 319320 w 884160"/>
                <a:gd name="textAreaTop" fmla="*/ 75600 h 2908080"/>
                <a:gd name="textAreaBottom" fmla="*/ 2832480 h 29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448"/>
                  </a:lnTo>
                  <a:cubicBezTo>
                    <a:pt x="10800" y="10348"/>
                    <a:pt x="16200" y="11248"/>
                    <a:pt x="21600" y="11248"/>
                  </a:cubicBezTo>
                  <a:cubicBezTo>
                    <a:pt x="16200" y="11248"/>
                    <a:pt x="10800" y="12148"/>
                    <a:pt x="10800" y="1304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85880" y="5738760"/>
              <a:ext cx="359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OS</a:t>
              </a: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非適応－排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70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素朴なリバタリアン的価値観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97" name=""/>
          <p:cNvSpPr/>
          <p:nvPr/>
        </p:nvSpPr>
        <p:spPr>
          <a:xfrm>
            <a:off x="2617560" y="49867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リバタリアニズム」（自由至上主義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自然権</a:t>
            </a:r>
            <a:br>
              <a:rPr sz="88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（ロック）</a:t>
            </a: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神の見えざる手</a:t>
            </a:r>
            <a:br>
              <a:rPr sz="88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（スミス）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0" t="12346" r="4133" b="0"/>
          <a:stretch/>
        </p:blipFill>
        <p:spPr>
          <a:xfrm>
            <a:off x="179280" y="853920"/>
            <a:ext cx="7777440" cy="52912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229440" y="1844640"/>
            <a:ext cx="2663640" cy="2305080"/>
          </a:xfrm>
          <a:prstGeom prst="wedgeEllipseCallout">
            <a:avLst>
              <a:gd name="adj1" fmla="val -55481"/>
              <a:gd name="adj2" fmla="val 20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d2d2d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5600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リンク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80" y="2997360"/>
            <a:ext cx="4546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ハブの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8000" y="6466680"/>
            <a:ext cx="734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図： 新ネットワーク思考　アルバート＝ラズロ・バラバシ（著）　青木薫（訳） 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HK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出版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1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グローバル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rcRect l="0" t="0" r="1565" b="0"/>
          <a:stretch/>
        </p:blipFill>
        <p:spPr>
          <a:xfrm>
            <a:off x="179280" y="765000"/>
            <a:ext cx="4465800" cy="3380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06" name=""/>
          <p:cNvSpPr/>
          <p:nvPr/>
        </p:nvSpPr>
        <p:spPr>
          <a:xfrm>
            <a:off x="4645080" y="1457280"/>
            <a:ext cx="3959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ベキ法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＝パレートの法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80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対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法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5680" y="4584600"/>
            <a:ext cx="8879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90000"/>
              <a:buFont typeface="HGPﾌﾞｰｹ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不公平性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90000"/>
              <a:buFont typeface="HGPﾌﾞｰｹ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スケール・フリー性」、あるいはフラクタル（自己相似）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90000"/>
              <a:buFont typeface="HGPﾌﾞｰｹ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無限大の分散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9280" y="4220280"/>
            <a:ext cx="633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図： 新ネットワーク思考　アルバート＝ラズロ・バラバシ（著）　青木薫（訳） 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2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HK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出版　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1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-27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スケールフリー性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23640" y="2650680"/>
            <a:ext cx="532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起業８年</a:t>
            </a:r>
            <a:endParaRPr b="0" lang="en-US" sz="1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7240" y="278100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戦略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とりあえずは大きな流れで流れて、それ以上のスピードで流れることで独自性を保つ。</a:t>
            </a:r>
            <a:endParaRPr b="0" lang="en-US" sz="6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7240" y="2679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今という時代のヒント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279540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5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Web2.0</a:t>
            </a:r>
            <a:endParaRPr b="0" lang="en-US" sz="15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583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4a"/>
                </a:solidFill>
                <a:latin typeface="HGP明朝E"/>
              </a:rPr>
              <a:t>Web2.0 Meme Map</a:t>
            </a:r>
            <a:endParaRPr b="0" lang="en-US" sz="1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14" name="" descr="Web2MemeMa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497600" y="6531120"/>
            <a:ext cx="61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http://www.oreillynet.com/pub/a/oreilly/tim/news/2005/09/30/what-is-web-20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7240" y="2492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Data as the “intel inside”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424720" cy="562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4a"/>
                </a:solidFill>
                <a:latin typeface="HGP明朝E"/>
              </a:rPr>
              <a:t>Web2.0 meme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8" name=""/>
          <p:cNvSpPr/>
          <p:nvPr/>
        </p:nvSpPr>
        <p:spPr>
          <a:xfrm>
            <a:off x="264960" y="975960"/>
            <a:ext cx="8194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１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Tagging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Social Tagging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、つまりは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olksonomy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階層分類学としての分類ではな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つまりユーザーの手で自由に分類するということ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lickr,del.licio.us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「デリシャス」と発音する）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２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ich User Experiences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：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直感的操作性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mail,GoogleMap,AJAX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３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ser as contributor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寄稿者、投稿者としてのユーザ、つまりユーザーの意見が力をもつ。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ageRank,eBay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ユーザ評価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,Amazon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レビュー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４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customer self-service enabling the long tail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ロングテールを巻き込むために、ユーザーが自分でできる機能を与える。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oogle Adsense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５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articipation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ot publisshing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，つまり出版のように押し付けではなく、ユーザーが参加して作り出すコンテンツ。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B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６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adical Trust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信頼への過剰な期待。（笑）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ikipedia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７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adical Decentralization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：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進歩的分散志向。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BitT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7240" y="2492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Taggig</a:t>
            </a:r>
            <a:br>
              <a:rPr sz="7200"/>
            </a:br>
            <a:r>
              <a:rPr b="0" lang="ja-JP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権威の崩壊</a:t>
            </a:r>
            <a:br>
              <a:rPr sz="7200"/>
            </a:br>
            <a:r>
              <a:rPr b="0" lang="ja-JP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草の根化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96472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草の根化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コンシュマー（消費者）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の時代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750760"/>
            <a:ext cx="896472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5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CALS</a:t>
            </a:r>
            <a:r>
              <a:rPr b="0" lang="zh-CN" sz="5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は何故進展しないのか？</a:t>
            </a:r>
            <a:br>
              <a:rPr sz="5400"/>
            </a:br>
            <a:br>
              <a:rPr sz="54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コンシュマー（大衆）が必要としていないから。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55280" y="113796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三法則：（≒無限大）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×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≒ゼロ）＝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Something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、あるいは、消えて失われていったはずの価値の集積</a:t>
            </a:r>
            <a:br>
              <a:rPr sz="3600"/>
            </a:b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52608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272232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建設</a:t>
            </a:r>
            <a:r>
              <a:rPr b="0" lang="en-US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CALS</a:t>
            </a:r>
            <a:endParaRPr b="0" lang="en-US" sz="117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7240" y="2492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裏浅草グルメマップ</a:t>
            </a:r>
            <a:br>
              <a:rPr sz="7200"/>
            </a:br>
            <a:br>
              <a:rPr sz="7200"/>
            </a:br>
            <a:br>
              <a:rPr sz="1800"/>
            </a:br>
            <a:r>
              <a:rPr b="0" lang="ja-JP" sz="4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http://www.momoti.com/</a:t>
            </a:r>
            <a:endParaRPr b="0" lang="en-US" sz="4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419640" y="6359400"/>
            <a:ext cx="5627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6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1995480"/>
            <a:ext cx="727848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</a:t>
            </a:r>
            <a:r>
              <a:rPr b="1" lang="zh-CN" sz="2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3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桃知　利男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en-US" sz="20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dc4.so-net.ne.j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en-US" sz="20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1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をおかけいたしますが、ご連絡はメールでお願いいたし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5003640" y="1741320"/>
            <a:ext cx="1451160" cy="1543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55640" y="819000"/>
            <a:ext cx="7608960" cy="570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0"/>
            <a:ext cx="9088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CALS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はあったの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少しずつの実現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電子入札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電子納品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電子入札は簡単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電子納品は外注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外注できないもの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情報の共有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つまり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コミュニケーション</a:t>
            </a:r>
            <a:endParaRPr b="0" lang="en-US" sz="8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CALS/EC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は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コミュニケーション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段階へ</a:t>
            </a:r>
            <a:endParaRPr b="0" lang="en-US" sz="8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23640" y="2650680"/>
            <a:ext cx="532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0</a:t>
            </a:r>
            <a:r>
              <a:rPr b="0" lang="zh-CN" sz="1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endParaRPr b="0" lang="en-US" sz="1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MOMOＴＩ</dc:creator>
  <dc:description/>
  <dc:language>en-US</dc:language>
  <cp:lastModifiedBy>桃知利男</cp:lastModifiedBy>
  <cp:lastPrinted>1999-08-20T13:59:28Z</cp:lastPrinted>
  <dcterms:modified xsi:type="dcterms:W3CDTF">2006-10-05T04:16:12Z</dcterms:modified>
  <cp:revision>1961</cp:revision>
  <dc:subject>法大EC2006-1</dc:subject>
  <dc:title>考える技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