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2.jpeg" ContentType="image/jpeg"/>
  <Override PartName="/ppt/media/CAMERA.WAV" ContentType="audio/x-wav"/>
  <Override PartName="/ppt/media/image4.jpeg" ContentType="image/jpeg"/>
  <Override PartName="/ppt/media/image5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714BB19-25B6-4F30-B8A1-40AC3AC40EA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980-0A29-40BB-93EF-F1DE7171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AFE-EDE5-48E0-BC50-6A404DC3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464-69CB-44E6-861C-04C4AB03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3C1-649A-4D9F-9D5D-49DCE968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B41-0EE0-4E08-AB4B-30845828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B68-3F55-47E8-8D87-F8417F0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568-5B26-4F8B-8578-0C460BA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C43-0B2E-49AF-A5EE-D304D94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2F5-D55D-4C81-BBFB-874AF5A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B04-6F5A-4CF2-B452-ACF26D3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44A9-5C10-4508-8834-62D1782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041-467C-4247-A29D-2190E1E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964BB49-0E44-4E48-980D-E5A90A1D3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341440" y="2276640"/>
            <a:ext cx="5129640" cy="4536360"/>
            <a:chOff x="2341440" y="2276640"/>
            <a:chExt cx="5129640" cy="4536360"/>
          </a:xfrm>
        </p:grpSpPr>
        <p:grpSp>
          <p:nvGrpSpPr>
            <p:cNvPr id="50" name=""/>
            <p:cNvGrpSpPr/>
            <p:nvPr/>
          </p:nvGrpSpPr>
          <p:grpSpPr>
            <a:xfrm>
              <a:off x="2827800" y="2503800"/>
              <a:ext cx="4643280" cy="4309200"/>
              <a:chOff x="2827800" y="2503800"/>
              <a:chExt cx="4643280" cy="4309200"/>
            </a:xfrm>
          </p:grpSpPr>
          <p:sp>
            <p:nvSpPr>
              <p:cNvPr id="51" name=""/>
              <p:cNvSpPr/>
              <p:nvPr/>
            </p:nvSpPr>
            <p:spPr>
              <a:xfrm>
                <a:off x="5470560" y="5680800"/>
                <a:ext cx="1983240" cy="111348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4040" y="6079680"/>
                <a:ext cx="151560" cy="37800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240240" y="5934600"/>
                <a:ext cx="1213200" cy="3139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229080" y="5974200"/>
                <a:ext cx="1188360" cy="489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87480" y="5149080"/>
                <a:ext cx="1083600" cy="244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264080" y="5203080"/>
                <a:ext cx="173880" cy="89280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87480" y="5172120"/>
                <a:ext cx="958680" cy="9237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87560" y="5267160"/>
                <a:ext cx="751320" cy="66924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832120" y="2503800"/>
                <a:ext cx="2738880" cy="243468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09440" y="4399200"/>
                <a:ext cx="472680" cy="41940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827800" y="3086280"/>
                <a:ext cx="1190880" cy="1027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23520" y="2611080"/>
                <a:ext cx="1342800" cy="16286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79120" y="4171680"/>
                <a:ext cx="521640" cy="4564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98880" y="6389280"/>
                <a:ext cx="1592280" cy="4237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74360" y="5922360"/>
                <a:ext cx="553320" cy="24948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21280" y="6083280"/>
                <a:ext cx="1474200" cy="6033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61440" y="6234120"/>
                <a:ext cx="298800" cy="5331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2880" y="6224040"/>
                <a:ext cx="240480" cy="5374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80680" y="5974200"/>
                <a:ext cx="1405080" cy="8078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14000" y="6710040"/>
                <a:ext cx="676080" cy="925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69520" y="5456880"/>
                <a:ext cx="793440" cy="6282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8480" y="5399280"/>
                <a:ext cx="546120" cy="46908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61440" y="5403600"/>
                <a:ext cx="532800" cy="14436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560" y="5591520"/>
                <a:ext cx="160560" cy="2768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185080" y="5512680"/>
                <a:ext cx="120240" cy="2912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46520" y="5479920"/>
                <a:ext cx="318960" cy="16092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69280" y="5618160"/>
                <a:ext cx="48960" cy="3078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61120" y="5717520"/>
                <a:ext cx="93240" cy="205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323320" y="5678280"/>
                <a:ext cx="57960" cy="597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69520" y="5775480"/>
                <a:ext cx="452520" cy="3099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89760" y="6211800"/>
                <a:ext cx="729360" cy="24588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7640" y="6422760"/>
                <a:ext cx="95760" cy="29736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16920" y="5535720"/>
                <a:ext cx="69120" cy="57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6600" y="6711840"/>
                <a:ext cx="555120" cy="6840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7800" y="5961240"/>
                <a:ext cx="202680" cy="82908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51960" y="5915880"/>
                <a:ext cx="414720" cy="237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42640" y="6412320"/>
                <a:ext cx="231480" cy="3078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74120" y="6251040"/>
                <a:ext cx="756000" cy="1962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11760" y="5680800"/>
                <a:ext cx="648720" cy="885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15640" y="6035760"/>
                <a:ext cx="186840" cy="23328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28520" y="6025680"/>
                <a:ext cx="124920" cy="1278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568480" y="6102000"/>
                <a:ext cx="178200" cy="16704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88680" y="5823000"/>
                <a:ext cx="169200" cy="12996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1640" y="5839560"/>
                <a:ext cx="158040" cy="14904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02840" y="5852160"/>
                <a:ext cx="428400" cy="21024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50080" y="6102000"/>
                <a:ext cx="1456560" cy="22536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67240" y="6443280"/>
                <a:ext cx="833760" cy="23940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20080" y="5946840"/>
                <a:ext cx="164880" cy="313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63200" y="4359600"/>
                <a:ext cx="934560" cy="144432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47240" y="3634200"/>
                <a:ext cx="2630160" cy="44604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03400" y="3274560"/>
                <a:ext cx="2611440" cy="3884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44200" y="6126840"/>
                <a:ext cx="869760" cy="2210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5520" y="6339600"/>
                <a:ext cx="316440" cy="3513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76640" y="6420240"/>
                <a:ext cx="1449360" cy="359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07960" y="6511320"/>
                <a:ext cx="1139400" cy="281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83680" y="5364360"/>
                <a:ext cx="595080" cy="5760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3680" y="5467320"/>
                <a:ext cx="470160" cy="597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583680" y="5581440"/>
                <a:ext cx="470160" cy="5544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83680" y="5711400"/>
                <a:ext cx="470160" cy="6156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341440" y="2276640"/>
              <a:ext cx="1324440" cy="1092960"/>
              <a:chOff x="2341440" y="2276640"/>
              <a:chExt cx="1324440" cy="1092960"/>
            </a:xfrm>
          </p:grpSpPr>
          <p:sp>
            <p:nvSpPr>
              <p:cNvPr id="111" name=""/>
              <p:cNvSpPr/>
              <p:nvPr/>
            </p:nvSpPr>
            <p:spPr>
              <a:xfrm>
                <a:off x="3144240" y="3152880"/>
                <a:ext cx="97920" cy="17748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79880" y="3133800"/>
                <a:ext cx="455040" cy="22464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3520" y="3113280"/>
                <a:ext cx="133200" cy="18576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22160" y="2511720"/>
                <a:ext cx="209160" cy="7668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15240" y="2807280"/>
                <a:ext cx="318960" cy="2768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419560" y="2797200"/>
                <a:ext cx="767160" cy="1900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58240" y="2867400"/>
                <a:ext cx="532800" cy="21672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8480" y="2513880"/>
                <a:ext cx="142560" cy="3574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47080" y="2497680"/>
                <a:ext cx="470160" cy="10728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38080" y="2513880"/>
                <a:ext cx="93240" cy="40896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3880" y="2511720"/>
                <a:ext cx="423720" cy="41112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42840" y="2555280"/>
                <a:ext cx="330120" cy="2930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73360" y="2910960"/>
                <a:ext cx="640080" cy="2599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96480" y="2929320"/>
                <a:ext cx="390240" cy="950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96480" y="2970360"/>
                <a:ext cx="398880" cy="17784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41440" y="2867400"/>
                <a:ext cx="71640" cy="82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64760" y="2797200"/>
                <a:ext cx="126720" cy="80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62240" y="2811600"/>
                <a:ext cx="111600" cy="80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08600" y="2780640"/>
                <a:ext cx="66960" cy="180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51520" y="2375280"/>
                <a:ext cx="242640" cy="44460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33080" y="2722680"/>
                <a:ext cx="532800" cy="504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60080" y="2276640"/>
                <a:ext cx="454320" cy="4003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93640" y="2706120"/>
                <a:ext cx="187560" cy="1422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309120" y="2455920"/>
                <a:ext cx="82080" cy="10332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09120" y="2448000"/>
                <a:ext cx="20160" cy="1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73920" y="2443680"/>
                <a:ext cx="21960" cy="1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85080" y="2553480"/>
                <a:ext cx="35640" cy="284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1720" y="253044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73920" y="2365200"/>
                <a:ext cx="180360" cy="2271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7840" y="2879640"/>
                <a:ext cx="61920" cy="32220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97880" y="2853000"/>
                <a:ext cx="24120" cy="3265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685240" y="3028680"/>
                <a:ext cx="151200" cy="1422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4840" y="3288960"/>
                <a:ext cx="24120" cy="41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79120" y="3237120"/>
                <a:ext cx="0" cy="103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79880" y="3200040"/>
                <a:ext cx="0" cy="169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91800" y="2603160"/>
                <a:ext cx="231840" cy="205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91800" y="2662560"/>
                <a:ext cx="231840" cy="1872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91800" y="2716560"/>
                <a:ext cx="231840" cy="144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791800" y="2757600"/>
                <a:ext cx="231840" cy="244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690440" y="2352960"/>
              <a:ext cx="1328760" cy="1005840"/>
              <a:chOff x="4690440" y="2352960"/>
              <a:chExt cx="1328760" cy="1005840"/>
            </a:xfrm>
          </p:grpSpPr>
          <p:sp>
            <p:nvSpPr>
              <p:cNvPr id="151" name=""/>
              <p:cNvSpPr/>
              <p:nvPr/>
            </p:nvSpPr>
            <p:spPr>
              <a:xfrm>
                <a:off x="4868640" y="2679480"/>
                <a:ext cx="218160" cy="8424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66040" y="2993400"/>
                <a:ext cx="325440" cy="2620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68200" y="2974680"/>
                <a:ext cx="777960" cy="1857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15880" y="3034440"/>
                <a:ext cx="532800" cy="2210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61800" y="2683440"/>
                <a:ext cx="140400" cy="3567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95720" y="2664720"/>
                <a:ext cx="481680" cy="121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6720" y="2683440"/>
                <a:ext cx="102600" cy="4089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35680" y="2679480"/>
                <a:ext cx="441720" cy="413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0480" y="2729160"/>
                <a:ext cx="325440" cy="2908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29200" y="3086280"/>
                <a:ext cx="640080" cy="27252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51960" y="3100680"/>
                <a:ext cx="394200" cy="1112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47280" y="3156480"/>
                <a:ext cx="407880" cy="163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0440" y="3034440"/>
                <a:ext cx="71280" cy="16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19520" y="2968560"/>
                <a:ext cx="129240" cy="907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13040" y="3001680"/>
                <a:ext cx="122760" cy="738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465880" y="294804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19520" y="3146040"/>
                <a:ext cx="437400" cy="2124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00680" y="3169080"/>
                <a:ext cx="129240" cy="1897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35360" y="2716560"/>
                <a:ext cx="483840" cy="5785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31480" y="2375280"/>
                <a:ext cx="267480" cy="3801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50920" y="2701800"/>
                <a:ext cx="194040" cy="3348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59000" y="2555280"/>
                <a:ext cx="30600" cy="82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37960" y="2470320"/>
                <a:ext cx="88920" cy="741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73960" y="2448000"/>
                <a:ext cx="24120" cy="22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25080" y="2448000"/>
                <a:ext cx="24120" cy="3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83040" y="2546640"/>
                <a:ext cx="19440" cy="39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65040" y="25714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37960" y="2553480"/>
                <a:ext cx="48960" cy="1134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18320" y="2637720"/>
                <a:ext cx="26640" cy="66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720" y="2701800"/>
                <a:ext cx="178200" cy="316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4480" y="2714400"/>
                <a:ext cx="82080" cy="317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89520" y="2877480"/>
                <a:ext cx="129240" cy="3985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37960" y="2352960"/>
                <a:ext cx="289440" cy="23328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02760" y="2735280"/>
                <a:ext cx="66600" cy="738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58120" y="2796840"/>
                <a:ext cx="84240" cy="2538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4160" y="2877480"/>
                <a:ext cx="51480" cy="35316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22360" y="3206160"/>
                <a:ext cx="151560" cy="1465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47280" y="2791080"/>
                <a:ext cx="234000" cy="1188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47280" y="2852640"/>
                <a:ext cx="234000" cy="1872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47280" y="2894040"/>
                <a:ext cx="234000" cy="2268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47280" y="2941920"/>
                <a:ext cx="234000" cy="144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885400" y="4182480"/>
              <a:ext cx="1302120" cy="887760"/>
              <a:chOff x="2885400" y="4182480"/>
              <a:chExt cx="1302120" cy="887760"/>
            </a:xfrm>
          </p:grpSpPr>
          <p:sp>
            <p:nvSpPr>
              <p:cNvPr id="193" name=""/>
              <p:cNvSpPr/>
              <p:nvPr/>
            </p:nvSpPr>
            <p:spPr>
              <a:xfrm>
                <a:off x="2938680" y="4840920"/>
                <a:ext cx="456840" cy="214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08800" y="4431960"/>
                <a:ext cx="205200" cy="78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06640" y="4721040"/>
                <a:ext cx="307440" cy="248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78240" y="4698720"/>
                <a:ext cx="731160" cy="1796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73560" y="4762800"/>
                <a:ext cx="508680" cy="2062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86560" y="4436280"/>
                <a:ext cx="135720" cy="3304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360" y="4413240"/>
                <a:ext cx="450360" cy="1094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06640" y="4436280"/>
                <a:ext cx="95400" cy="3798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8360" y="4431960"/>
                <a:ext cx="407880" cy="3841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85520" y="4465440"/>
                <a:ext cx="313920" cy="28044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251520" y="4804200"/>
                <a:ext cx="615240" cy="2559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82920" y="4824720"/>
                <a:ext cx="363600" cy="1011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369240" y="4871880"/>
                <a:ext cx="383760" cy="16092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11920" y="4762800"/>
                <a:ext cx="75600" cy="1188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75640" y="4694400"/>
                <a:ext cx="122760" cy="889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91480" y="4727520"/>
                <a:ext cx="111240" cy="702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389400" y="4678200"/>
                <a:ext cx="64440" cy="1872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21040" y="4182480"/>
                <a:ext cx="325440" cy="2973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2360" y="4200480"/>
                <a:ext cx="271800" cy="56412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79440" y="4299840"/>
                <a:ext cx="73800" cy="88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90520" y="4192560"/>
                <a:ext cx="196200" cy="10476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041640" y="4386600"/>
                <a:ext cx="122760" cy="684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15440" y="4295520"/>
                <a:ext cx="2196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066120" y="4299840"/>
                <a:ext cx="17640" cy="1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85400" y="4525200"/>
                <a:ext cx="481680" cy="474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88000" y="4508280"/>
                <a:ext cx="243000" cy="2541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48040" y="4663440"/>
                <a:ext cx="213840" cy="32040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66120" y="4934160"/>
                <a:ext cx="153720" cy="864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270960" y="4619880"/>
                <a:ext cx="31320" cy="33264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84200" y="4907160"/>
                <a:ext cx="154080" cy="99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19520" y="4934160"/>
                <a:ext cx="146880" cy="1360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943000" y="4952520"/>
                <a:ext cx="9000" cy="90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333600" y="4962960"/>
                <a:ext cx="0" cy="82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34480" y="4521240"/>
                <a:ext cx="234000" cy="180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34480" y="4584960"/>
                <a:ext cx="234000" cy="16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34480" y="4632480"/>
                <a:ext cx="234000" cy="205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4480" y="4678200"/>
                <a:ext cx="234000" cy="16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桃論Ⅱ」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5059440"/>
            <a:ext cx="61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１１月１４日　地域再生セミナ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141300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常識をひねると新しい世界が見えてく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3200" y="189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明朝E"/>
                <a:ea typeface="HGPﾌﾞｰｹ"/>
              </a:rPr>
              <a:t>観音様＝卵子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270828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な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320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仮想的な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〈死／生〉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3200" y="2937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迷宮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097600" cy="4581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52100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920" y="3068640"/>
            <a:ext cx="74901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浅草には「無」の深淵に引き寄せられた、いろんな人達が住んでいる。</a:t>
            </a:r>
            <a:br>
              <a:rPr sz="5400"/>
            </a:b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52100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3840" y="2575080"/>
            <a:ext cx="74898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浅草は利己的な街なのである。だからこそ自己複製子（遺伝子・ミーム）的に利他的なのである。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908000" y="1488960"/>
            <a:ext cx="5505480" cy="5108760"/>
            <a:chOff x="1908000" y="1488960"/>
            <a:chExt cx="5505480" cy="510876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1908000" y="1488960"/>
              <a:ext cx="550548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428920" y="458460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明朝B"/>
                  <a:ea typeface="HGP明朝B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48360" y="4497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明朝B"/>
                  <a:ea typeface="HGP明朝B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23382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明朝B"/>
                  <a:ea typeface="HGP明朝B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77680" y="458460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5766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59280" y="35701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572000" y="2136600"/>
            <a:ext cx="1440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9209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粋消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15920"/>
            <a:ext cx="8640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互恵的利他性＝贈与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521000"/>
            <a:ext cx="91440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920" y="2575080"/>
            <a:ext cx="86407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安心の日本／信頼のアメリカ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 </a:t>
            </a: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788000" y="6165720"/>
            <a:ext cx="42256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1349640"/>
            <a:ext cx="727848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システムコンサルタン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500720" y="228276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3200" y="189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浅草寺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69040" cy="5376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1920" y="25750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浅草寺の観音様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1920" y="25750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明朝E"/>
                <a:ea typeface="HGPﾌﾞｰｹ"/>
              </a:rPr>
              <a:t>無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1920" y="25750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浅草寺の子宮的構造</a:t>
            </a:r>
            <a:br>
              <a:rPr sz="6600"/>
            </a:b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3200" y="189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浅草寺概観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4360" y="971640"/>
            <a:ext cx="7424640" cy="574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332000" y="3933720"/>
            <a:ext cx="1079280" cy="647640"/>
          </a:xfrm>
          <a:prstGeom prst="wedgeRoundRectCallout">
            <a:avLst>
              <a:gd name="adj1" fmla="val -67351"/>
              <a:gd name="adj2" fmla="val 568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雷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3933720"/>
            <a:ext cx="1511280" cy="647640"/>
          </a:xfrm>
          <a:prstGeom prst="wedgeRoundRectCallout">
            <a:avLst>
              <a:gd name="adj1" fmla="val -62393"/>
              <a:gd name="adj2" fmla="val 568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仲見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2720" y="3933720"/>
            <a:ext cx="1511280" cy="647640"/>
          </a:xfrm>
          <a:prstGeom prst="wedgeRoundRectCallout">
            <a:avLst>
              <a:gd name="adj1" fmla="val -62393"/>
              <a:gd name="adj2" fmla="val 5686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浅草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3200" y="260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雷門＝あそこ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032600" cy="527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3200" y="26028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明朝E"/>
                <a:ea typeface="HGPﾌﾞｰｹ"/>
              </a:rPr>
              <a:t>仲見世＝参道＝産道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116000" y="1285920"/>
            <a:ext cx="7026120" cy="5270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851280" y="2708280"/>
            <a:ext cx="3241800" cy="1079640"/>
          </a:xfrm>
          <a:prstGeom prst="wedgeRoundRectCallout">
            <a:avLst>
              <a:gd name="adj1" fmla="val -22037"/>
              <a:gd name="adj2" fmla="val 68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精子の皆さ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3200" y="189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400" spc="-1" strike="noStrike">
                <a:solidFill>
                  <a:srgbClr val="00004a"/>
                </a:solidFill>
                <a:latin typeface="HGP明朝E"/>
                <a:ea typeface="HGPﾌﾞｰｹ"/>
              </a:rPr>
              <a:t>浅草寺＝子宮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169040" cy="5376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11-14T03:57:51Z</dcterms:modified>
  <cp:revision>1918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