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wmf" ContentType="image/x-wmf"/>
  <Override PartName="/ppt/media/image8.png" ContentType="image/png"/>
  <Override PartName="/ppt/media/image12.png" ContentType="image/png"/>
  <Override PartName="/ppt/media/click.wav" ContentType="audio/x-wav"/>
  <Override PartName="/ppt/media/image7.png" ContentType="image/png"/>
  <Override PartName="/ppt/media/image1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J0097487.WAV" ContentType="audio/x-wav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780DFB-B313-4DAC-9E92-2A60A231500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D94-8BF0-4318-8BD3-8F6003AD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CAC-A9F8-4FAB-85E4-0E4E05A1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086-0872-49B3-B9CB-4755CE90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6E0-C9D5-461B-A305-0C77BEB8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DDF-77D6-404E-8F02-C690197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27A-122C-435F-BD2A-BA0BD1D5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5BA-D082-4EB7-9556-B9A4B3F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685-3DF1-499D-8F0C-A1F6BF52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383-2655-417E-B5D1-D4A19347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3B2-FA88-4058-A5E6-A4E05F9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C8F-AA55-400A-9DDE-5D8D76E9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4FD-CC2A-46F4-9E53-0A249A14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ﾌﾞｰｹ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HGPﾌﾞｰｹ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HGPﾌﾞｰｹ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HGPﾌﾞｰｹ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HGPﾌﾞｰｹ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B663ACD5-BA34-479E-87D2-8821C92B4B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J0097487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37080" y="2276640"/>
            <a:ext cx="4355280" cy="4020120"/>
            <a:chOff x="4537080" y="2276640"/>
            <a:chExt cx="4355280" cy="4020120"/>
          </a:xfrm>
        </p:grpSpPr>
        <p:grpSp>
          <p:nvGrpSpPr>
            <p:cNvPr id="50" name=""/>
            <p:cNvGrpSpPr/>
            <p:nvPr/>
          </p:nvGrpSpPr>
          <p:grpSpPr>
            <a:xfrm>
              <a:off x="4950000" y="2477880"/>
              <a:ext cx="3942360" cy="3818880"/>
              <a:chOff x="4950000" y="2477880"/>
              <a:chExt cx="3942360" cy="3818880"/>
            </a:xfrm>
          </p:grpSpPr>
          <p:sp>
            <p:nvSpPr>
              <p:cNvPr id="51" name=""/>
              <p:cNvSpPr/>
              <p:nvPr/>
            </p:nvSpPr>
            <p:spPr>
              <a:xfrm>
                <a:off x="7193520" y="5293440"/>
                <a:ext cx="1683720" cy="9867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50160" y="5646960"/>
                <a:ext cx="128520" cy="33516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47280" y="5518440"/>
                <a:ext cx="1029960" cy="278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7920" y="5553360"/>
                <a:ext cx="1009080" cy="4338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72200" y="4822200"/>
                <a:ext cx="920160" cy="21636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716320" y="4870080"/>
                <a:ext cx="147600" cy="79128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972200" y="4842720"/>
                <a:ext cx="813960" cy="818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057160" y="4926960"/>
                <a:ext cx="637920" cy="59292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953600" y="2477880"/>
                <a:ext cx="2325240" cy="215784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62720" y="4157640"/>
                <a:ext cx="401400" cy="371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950000" y="2994120"/>
                <a:ext cx="1011240" cy="91044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35120" y="2572920"/>
                <a:ext cx="1140120" cy="14432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87920" y="3956040"/>
                <a:ext cx="443160" cy="4042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72160" y="5921280"/>
                <a:ext cx="1351800" cy="3754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6840" y="5507640"/>
                <a:ext cx="469800" cy="221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76200" y="5650200"/>
                <a:ext cx="1251720" cy="5349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5783760"/>
                <a:ext cx="253440" cy="47268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54320" y="5774760"/>
                <a:ext cx="204120" cy="4762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62680" y="5553360"/>
                <a:ext cx="1192680" cy="7160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85120" y="6205320"/>
                <a:ext cx="573840" cy="8208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52960" y="5095080"/>
                <a:ext cx="673560" cy="55692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5400" y="5043960"/>
                <a:ext cx="463680" cy="4158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047920"/>
                <a:ext cx="452520" cy="1278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7680" y="5214240"/>
                <a:ext cx="136440" cy="2451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51600" y="5144400"/>
                <a:ext cx="101880" cy="25812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57960" y="5115600"/>
                <a:ext cx="270720" cy="142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62360" y="5238000"/>
                <a:ext cx="41400" cy="27288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01000" y="5326200"/>
                <a:ext cx="79200" cy="1800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68600" y="5291280"/>
                <a:ext cx="49320" cy="529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2960" y="5377320"/>
                <a:ext cx="384120" cy="2746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55200" y="5763960"/>
                <a:ext cx="619200" cy="21780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530840" y="5950800"/>
                <a:ext cx="81360" cy="2635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48160" y="5164920"/>
                <a:ext cx="5868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72240" y="6207120"/>
                <a:ext cx="471240" cy="604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60520" y="5542200"/>
                <a:ext cx="172080" cy="7347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3160" y="5501880"/>
                <a:ext cx="352080" cy="21060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39680" y="5941800"/>
                <a:ext cx="196560" cy="27288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36240" y="5798880"/>
                <a:ext cx="641880" cy="1738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98360" y="5293440"/>
                <a:ext cx="550800" cy="7848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17000" y="5608080"/>
                <a:ext cx="158760" cy="2066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42840" y="5599080"/>
                <a:ext cx="105840" cy="1134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7040" y="5666760"/>
                <a:ext cx="151560" cy="14796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718400" y="5419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29560" y="5434200"/>
                <a:ext cx="134280" cy="13176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75760" y="5445360"/>
                <a:ext cx="363600" cy="18648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00680" y="5666760"/>
                <a:ext cx="1236600" cy="1998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869960" y="5969160"/>
                <a:ext cx="708120" cy="21204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30000" y="5529240"/>
                <a:ext cx="139680" cy="277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17480" y="4122720"/>
                <a:ext cx="793440" cy="1280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66560" y="3479760"/>
                <a:ext cx="2232720" cy="39528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4080" y="3161160"/>
                <a:ext cx="2216880" cy="34416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50520" y="5688720"/>
                <a:ext cx="738360" cy="19584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64760" y="5877360"/>
                <a:ext cx="268560" cy="3114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38400" y="5948640"/>
                <a:ext cx="1230480" cy="318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5040" y="6029280"/>
                <a:ext cx="967320" cy="249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138880" y="501300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138880" y="5104440"/>
                <a:ext cx="399240" cy="5292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38880" y="5205240"/>
                <a:ext cx="399240" cy="493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138880" y="5320800"/>
                <a:ext cx="399240" cy="5472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537080" y="2276640"/>
              <a:ext cx="1124640" cy="968760"/>
              <a:chOff x="4537080" y="2276640"/>
              <a:chExt cx="1124640" cy="96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5218560" y="3053160"/>
                <a:ext cx="83160" cy="15732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48800" y="3036600"/>
                <a:ext cx="386280" cy="1990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23480" y="3018240"/>
                <a:ext cx="113040" cy="1648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90440" y="2485080"/>
                <a:ext cx="177480" cy="6804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99720" y="2747160"/>
                <a:ext cx="270720" cy="2451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03320" y="2737800"/>
                <a:ext cx="651240" cy="16848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6000" y="2800080"/>
                <a:ext cx="452520" cy="1922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78920" y="2486880"/>
                <a:ext cx="120960" cy="31680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96640" y="2472480"/>
                <a:ext cx="399240" cy="9504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89080" y="2486880"/>
                <a:ext cx="79200" cy="3625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36240" y="2485080"/>
                <a:ext cx="359640" cy="36468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77640" y="2523600"/>
                <a:ext cx="280080" cy="259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18960" y="2838960"/>
                <a:ext cx="543240" cy="23040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3360" y="2855160"/>
                <a:ext cx="331200" cy="842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23360" y="2891520"/>
                <a:ext cx="338760" cy="15768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37080" y="2800080"/>
                <a:ext cx="6084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35840" y="2737800"/>
                <a:ext cx="107640" cy="71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33680" y="2750760"/>
                <a:ext cx="94680" cy="71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88320" y="272340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09640" y="2364120"/>
                <a:ext cx="205920" cy="39384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09200" y="2671920"/>
                <a:ext cx="452520" cy="446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31880" y="2276640"/>
                <a:ext cx="385920" cy="35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45280" y="2657520"/>
                <a:ext cx="159120" cy="1260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358600" y="2435400"/>
                <a:ext cx="69840" cy="914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58600" y="2428560"/>
                <a:ext cx="1692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13680" y="2424600"/>
                <a:ext cx="18720" cy="16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23040" y="252180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45720" y="2501640"/>
                <a:ext cx="11520" cy="36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13680" y="2355120"/>
                <a:ext cx="153000" cy="20124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27440" y="2810880"/>
                <a:ext cx="52560" cy="2854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64280" y="2787480"/>
                <a:ext cx="20520" cy="2894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29040" y="2943000"/>
                <a:ext cx="128160" cy="126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50120" y="3174120"/>
                <a:ext cx="20520" cy="36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87920" y="3128040"/>
                <a:ext cx="0" cy="91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248800" y="3095280"/>
                <a:ext cx="0" cy="15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19400" y="2566080"/>
                <a:ext cx="196920" cy="1800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19400" y="2618640"/>
                <a:ext cx="196920" cy="1656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919400" y="2666520"/>
                <a:ext cx="196920" cy="126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19400" y="2702880"/>
                <a:ext cx="196920" cy="219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31120" y="2344320"/>
              <a:ext cx="1127880" cy="891360"/>
              <a:chOff x="6531120" y="2344320"/>
              <a:chExt cx="1127880" cy="891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2633760"/>
                <a:ext cx="185400" cy="74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95200" y="2912040"/>
                <a:ext cx="276120" cy="23256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597000" y="2895120"/>
                <a:ext cx="660600" cy="1645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07240" y="2948400"/>
                <a:ext cx="452160" cy="19584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2637360"/>
                <a:ext cx="119160" cy="31644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90320" y="2620800"/>
                <a:ext cx="408960" cy="1076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82400" y="2637360"/>
                <a:ext cx="87120" cy="36252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24160" y="2633760"/>
                <a:ext cx="375120" cy="36612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79240" y="2677680"/>
                <a:ext cx="276120" cy="25776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18400" y="2994120"/>
                <a:ext cx="543240" cy="2415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22800" y="3007080"/>
                <a:ext cx="334800" cy="986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18840" y="3056400"/>
                <a:ext cx="346320" cy="144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31120" y="2948400"/>
                <a:ext cx="60480" cy="144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34920" y="2889720"/>
                <a:ext cx="109800" cy="8028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29520" y="2919240"/>
                <a:ext cx="104040" cy="6552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89560" y="287172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34920" y="3047400"/>
                <a:ext cx="371160" cy="18828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73600" y="3067560"/>
                <a:ext cx="109800" cy="16812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48240" y="2666520"/>
                <a:ext cx="410760" cy="51264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29960" y="2364120"/>
                <a:ext cx="226800" cy="33696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46520" y="2653560"/>
                <a:ext cx="164520" cy="296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22920" y="2523600"/>
                <a:ext cx="25920" cy="73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35360" y="2448360"/>
                <a:ext cx="75240" cy="6588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65960" y="2428560"/>
                <a:ext cx="20520" cy="1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09160" y="2428560"/>
                <a:ext cx="20520" cy="2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58480" y="2516040"/>
                <a:ext cx="16560" cy="345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43000" y="2538000"/>
                <a:ext cx="2268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35360" y="2521800"/>
                <a:ext cx="41400" cy="10044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88720" y="2596680"/>
                <a:ext cx="22680" cy="5868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401600" y="2653560"/>
                <a:ext cx="151200" cy="28008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6920" y="2664720"/>
                <a:ext cx="69840" cy="2818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64240" y="2809440"/>
                <a:ext cx="109800" cy="35316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35360" y="2344320"/>
                <a:ext cx="245880" cy="20664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90440" y="2683080"/>
                <a:ext cx="56520" cy="6552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52640" y="2737800"/>
                <a:ext cx="71640" cy="22500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72720" y="2809440"/>
                <a:ext cx="43560" cy="3128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13000" y="3100320"/>
                <a:ext cx="128520" cy="12996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18840" y="2732400"/>
                <a:ext cx="198720" cy="1044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18840" y="2787120"/>
                <a:ext cx="198720" cy="1656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18840" y="2823840"/>
                <a:ext cx="198720" cy="2016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18840" y="2866320"/>
                <a:ext cx="198720" cy="1260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998960" y="3965400"/>
              <a:ext cx="1105200" cy="786960"/>
              <a:chOff x="4998960" y="3965400"/>
              <a:chExt cx="1105200" cy="786960"/>
            </a:xfrm>
          </p:grpSpPr>
          <p:sp>
            <p:nvSpPr>
              <p:cNvPr id="193" name=""/>
              <p:cNvSpPr/>
              <p:nvPr/>
            </p:nvSpPr>
            <p:spPr>
              <a:xfrm>
                <a:off x="5044320" y="4548960"/>
                <a:ext cx="387720" cy="19044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82680" y="4186440"/>
                <a:ext cx="174240" cy="6948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80880" y="4442760"/>
                <a:ext cx="261000" cy="2199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17280" y="4422960"/>
                <a:ext cx="620640" cy="15912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13320" y="4479840"/>
                <a:ext cx="431640" cy="18288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848920" y="4190400"/>
                <a:ext cx="115200" cy="2930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68400" y="4169880"/>
                <a:ext cx="382320" cy="968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80880" y="4190400"/>
                <a:ext cx="81000" cy="33660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68400" y="4186440"/>
                <a:ext cx="346320" cy="34020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08360" y="4215960"/>
                <a:ext cx="266400" cy="248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09640" y="4516200"/>
                <a:ext cx="522360" cy="22680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21240" y="4534560"/>
                <a:ext cx="308520" cy="896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09720" y="4576320"/>
                <a:ext cx="325800" cy="142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40080" y="4479840"/>
                <a:ext cx="64080" cy="1044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30160" y="4419000"/>
                <a:ext cx="104040" cy="7884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43480" y="4448520"/>
                <a:ext cx="94320" cy="6228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26640" y="4404600"/>
                <a:ext cx="54720" cy="1656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29200" y="3965400"/>
                <a:ext cx="276120" cy="2635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055840" y="3981240"/>
                <a:ext cx="230760" cy="49968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63480" y="4069440"/>
                <a:ext cx="62640" cy="788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88240" y="3974400"/>
                <a:ext cx="166320" cy="92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31440" y="4146120"/>
                <a:ext cx="104040" cy="604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94080" y="4065840"/>
                <a:ext cx="18720" cy="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52320" y="4069440"/>
                <a:ext cx="1476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98960" y="4269240"/>
                <a:ext cx="408960" cy="42084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86080" y="4254120"/>
                <a:ext cx="206280" cy="22536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51880" y="4391640"/>
                <a:ext cx="181440" cy="2836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52320" y="4631760"/>
                <a:ext cx="130320" cy="7668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326200" y="4353120"/>
                <a:ext cx="26280" cy="29448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52400" y="4607640"/>
                <a:ext cx="130680" cy="8784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7080" y="4631760"/>
                <a:ext cx="124920" cy="1206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047920" y="4647960"/>
                <a:ext cx="7560" cy="80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79480" y="4656960"/>
                <a:ext cx="0" cy="73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50120" y="4265280"/>
                <a:ext cx="19872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50120" y="4321800"/>
                <a:ext cx="198720" cy="147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50120" y="4364280"/>
                <a:ext cx="198720" cy="1800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50120" y="4404600"/>
                <a:ext cx="198720" cy="144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200" spc="-1" strike="noStrike">
                <a:solidFill>
                  <a:srgbClr val="00004a"/>
                </a:solidFill>
                <a:latin typeface="Times New Roman"/>
              </a:rPr>
              <a:t>Being Digital</a:t>
            </a:r>
            <a:endParaRPr b="0" lang="en-US" sz="62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484280"/>
            <a:ext cx="8664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組のこ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200" y="4997520"/>
            <a:ext cx="53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･３･</a:t>
            </a: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チーム・バイタリジェン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0.33295 L 8.33333E-007 -3.52601E-006 E">
                                      <p:cBhvr>
                                        <p:cTn id="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9748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</a:rPr>
              <a:t>楔（くさび）と呼ばれる方々の誕生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457" name=""/>
          <p:cNvSpPr/>
          <p:nvPr/>
        </p:nvSpPr>
        <p:spPr>
          <a:xfrm>
            <a:off x="1405080" y="1595520"/>
            <a:ext cx="1295280" cy="12571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27640" y="3068640"/>
            <a:ext cx="1513080" cy="129708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47640" y="3573360"/>
            <a:ext cx="1368720" cy="122400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00720" y="1809720"/>
            <a:ext cx="1513080" cy="11145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84800" y="4005360"/>
            <a:ext cx="1231920" cy="122400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346560" y="2021040"/>
            <a:ext cx="2442960" cy="145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486240" y="4005360"/>
            <a:ext cx="1949400" cy="20160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597120" y="3500280"/>
            <a:ext cx="1830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ジタ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403280" y="1946160"/>
            <a:ext cx="1224000" cy="6289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5472000" y="4508640"/>
            <a:ext cx="1024200" cy="5252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6443640" y="2111400"/>
            <a:ext cx="1303200" cy="668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1690560" y="3963960"/>
            <a:ext cx="1152720" cy="592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6300720" y="3411360"/>
            <a:ext cx="1297080" cy="665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3132000" y="1341360"/>
            <a:ext cx="2303280" cy="2070000"/>
            <a:chOff x="3132000" y="1341360"/>
            <a:chExt cx="2303280" cy="2070000"/>
          </a:xfrm>
        </p:grpSpPr>
        <p:grpSp>
          <p:nvGrpSpPr>
            <p:cNvPr id="471" name=""/>
            <p:cNvGrpSpPr/>
            <p:nvPr/>
          </p:nvGrpSpPr>
          <p:grpSpPr>
            <a:xfrm>
              <a:off x="3350160" y="1445040"/>
              <a:ext cx="2085120" cy="1966320"/>
              <a:chOff x="3350160" y="1445040"/>
              <a:chExt cx="2085120" cy="1966320"/>
            </a:xfrm>
          </p:grpSpPr>
          <p:sp>
            <p:nvSpPr>
              <p:cNvPr id="472" name=""/>
              <p:cNvSpPr/>
              <p:nvPr/>
            </p:nvSpPr>
            <p:spPr>
              <a:xfrm>
                <a:off x="4536720" y="2894400"/>
                <a:ext cx="890280" cy="50796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60040" y="3076560"/>
                <a:ext cx="68040" cy="17244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882320" y="3010680"/>
                <a:ext cx="544680" cy="14328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77280" y="3028320"/>
                <a:ext cx="533520" cy="2232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948560" y="2652120"/>
                <a:ext cx="486720" cy="11124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42040" y="2676600"/>
                <a:ext cx="78120" cy="4071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48560" y="2662560"/>
                <a:ext cx="430560" cy="42156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93560" y="2705760"/>
                <a:ext cx="337320" cy="305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51960" y="1445040"/>
                <a:ext cx="1229760" cy="111096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50080" y="2309760"/>
                <a:ext cx="212040" cy="19116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350160" y="1710720"/>
                <a:ext cx="534600" cy="46872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76920" y="1494000"/>
                <a:ext cx="603000" cy="74304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687480" y="2206080"/>
                <a:ext cx="234360" cy="2080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83960" y="3218040"/>
                <a:ext cx="714960" cy="1933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448520" y="3004920"/>
                <a:ext cx="248400" cy="11376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39040" y="3078360"/>
                <a:ext cx="662040" cy="27540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63120" y="3147120"/>
                <a:ext cx="133920" cy="24336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04520" y="3142440"/>
                <a:ext cx="108000" cy="24516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61760" y="3028320"/>
                <a:ext cx="630720" cy="36864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90800" y="3364200"/>
                <a:ext cx="303480" cy="4212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56720" y="2792520"/>
                <a:ext cx="356040" cy="28656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57360" y="2766240"/>
                <a:ext cx="245160" cy="21384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63120" y="2768040"/>
                <a:ext cx="239040" cy="655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90120" y="2854080"/>
                <a:ext cx="72000" cy="12636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08560" y="2818080"/>
                <a:ext cx="54000" cy="13284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0920" y="2802960"/>
                <a:ext cx="143280" cy="7344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26000" y="2865960"/>
                <a:ext cx="21960" cy="14040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87760" y="2911320"/>
                <a:ext cx="41760" cy="936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470480" y="2893680"/>
                <a:ext cx="25920" cy="2736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356720" y="2937960"/>
                <a:ext cx="203040" cy="14148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10720" y="3137040"/>
                <a:ext cx="327240" cy="11196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714920" y="3233160"/>
                <a:ext cx="42840" cy="1357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12600" y="2828520"/>
                <a:ext cx="3096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36880" y="3365280"/>
                <a:ext cx="249120" cy="3096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60320" y="3022560"/>
                <a:ext cx="90720" cy="37836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93800" y="3002040"/>
                <a:ext cx="186120" cy="1083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14120" y="3228480"/>
                <a:ext cx="103680" cy="14040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7800" y="3155040"/>
                <a:ext cx="339480" cy="8928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45080" y="2894400"/>
                <a:ext cx="291240" cy="4032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01880" y="3056760"/>
                <a:ext cx="83880" cy="1062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63000" y="3052080"/>
                <a:ext cx="55800" cy="5832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80640" y="3087000"/>
                <a:ext cx="79920" cy="76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14280" y="2959560"/>
                <a:ext cx="75960" cy="5940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20040" y="2967120"/>
                <a:ext cx="70920" cy="676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86120" y="2972880"/>
                <a:ext cx="192240" cy="957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52000" y="3087000"/>
                <a:ext cx="654120" cy="10260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94560" y="3242520"/>
                <a:ext cx="374400" cy="1090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3320" y="3016080"/>
                <a:ext cx="73800" cy="1404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43480" y="2291760"/>
                <a:ext cx="419400" cy="6591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58800" y="1960920"/>
                <a:ext cx="1180800" cy="203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84000" y="1796760"/>
                <a:ext cx="1172520" cy="17712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84120" y="3098160"/>
                <a:ext cx="390600" cy="10080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61760" y="3195360"/>
                <a:ext cx="141840" cy="1602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19240" y="3232080"/>
                <a:ext cx="650880" cy="164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733280" y="3273480"/>
                <a:ext cx="511560" cy="128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36760" y="2750040"/>
                <a:ext cx="267120" cy="2628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36760" y="2797200"/>
                <a:ext cx="210960" cy="2736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36760" y="284940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36760" y="2908800"/>
                <a:ext cx="210960" cy="280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3132000" y="1341360"/>
              <a:ext cx="594360" cy="498960"/>
              <a:chOff x="3132000" y="1341360"/>
              <a:chExt cx="594360" cy="498960"/>
            </a:xfrm>
          </p:grpSpPr>
          <p:sp>
            <p:nvSpPr>
              <p:cNvPr id="532" name=""/>
              <p:cNvSpPr/>
              <p:nvPr/>
            </p:nvSpPr>
            <p:spPr>
              <a:xfrm>
                <a:off x="3492360" y="1741320"/>
                <a:ext cx="43920" cy="8100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08200" y="1732680"/>
                <a:ext cx="204120" cy="10260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653640" y="1723320"/>
                <a:ext cx="59760" cy="8460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13000" y="144864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165120" y="1583640"/>
                <a:ext cx="142920" cy="12636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66920" y="1578960"/>
                <a:ext cx="344160" cy="867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274200" y="1611000"/>
                <a:ext cx="239040" cy="9900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206880" y="1449720"/>
                <a:ext cx="63720" cy="1630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9160" y="1442160"/>
                <a:ext cx="210960" cy="489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265200" y="1449720"/>
                <a:ext cx="41760" cy="18648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90040" y="1448640"/>
                <a:ext cx="190080" cy="1875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12000" y="1468440"/>
                <a:ext cx="147960" cy="13392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281040" y="1630800"/>
                <a:ext cx="287280" cy="11844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36120" y="1639080"/>
                <a:ext cx="174960" cy="432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336120" y="1658160"/>
                <a:ext cx="178920" cy="810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2000" y="1611000"/>
                <a:ext cx="32040" cy="36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501360" y="1578960"/>
                <a:ext cx="56880" cy="367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500280" y="1585440"/>
                <a:ext cx="50040" cy="3672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476160" y="1571400"/>
                <a:ext cx="29880" cy="82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540600" y="1386360"/>
                <a:ext cx="108720" cy="20268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87320" y="1544760"/>
                <a:ext cx="239040" cy="23004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99560" y="1341360"/>
                <a:ext cx="203760" cy="18288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59320" y="15372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66520" y="1423080"/>
                <a:ext cx="36720" cy="471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6520" y="1419480"/>
                <a:ext cx="900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95320" y="1417680"/>
                <a:ext cx="9720" cy="8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00360" y="1467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612600" y="1457280"/>
                <a:ext cx="6120" cy="187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95320" y="1381680"/>
                <a:ext cx="81000" cy="10368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55440" y="1616400"/>
                <a:ext cx="27720" cy="14688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16480" y="1604160"/>
                <a:ext cx="10800" cy="14904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86080" y="1684440"/>
                <a:ext cx="67680" cy="648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67680" y="1803600"/>
                <a:ext cx="10800" cy="18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87480" y="1779840"/>
                <a:ext cx="0" cy="471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08200" y="1762920"/>
                <a:ext cx="0" cy="77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333960" y="1490400"/>
                <a:ext cx="104040" cy="936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333960" y="1517400"/>
                <a:ext cx="104040" cy="828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33960" y="1542240"/>
                <a:ext cx="104040" cy="648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333960" y="1560960"/>
                <a:ext cx="104040" cy="1116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186440" y="1375920"/>
              <a:ext cx="596520" cy="458640"/>
              <a:chOff x="4186440" y="1375920"/>
              <a:chExt cx="596520" cy="458640"/>
            </a:xfrm>
          </p:grpSpPr>
          <p:sp>
            <p:nvSpPr>
              <p:cNvPr id="572" name=""/>
              <p:cNvSpPr/>
              <p:nvPr/>
            </p:nvSpPr>
            <p:spPr>
              <a:xfrm>
                <a:off x="4266360" y="1524960"/>
                <a:ext cx="97920" cy="381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20280" y="1668240"/>
                <a:ext cx="146160" cy="119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21360" y="1659600"/>
                <a:ext cx="349560" cy="8460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32600" y="1686960"/>
                <a:ext cx="239400" cy="10080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3120" y="1526760"/>
                <a:ext cx="63000" cy="1627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23600" y="1518120"/>
                <a:ext cx="216360" cy="5544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319280" y="1526760"/>
                <a:ext cx="46080" cy="18648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41240" y="1524960"/>
                <a:ext cx="198360" cy="18828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70400" y="1547640"/>
                <a:ext cx="146160" cy="13248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38360" y="1710360"/>
                <a:ext cx="287280" cy="1242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93800" y="1717200"/>
                <a:ext cx="177120" cy="50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91640" y="1742400"/>
                <a:ext cx="183240" cy="745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86440" y="168696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58680" y="1656720"/>
                <a:ext cx="57960" cy="4140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555800" y="1671840"/>
                <a:ext cx="55080" cy="3348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34920" y="1647360"/>
                <a:ext cx="29880" cy="100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58680" y="1737720"/>
                <a:ext cx="196200" cy="9684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85040" y="1748160"/>
                <a:ext cx="57960" cy="864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65880" y="1541520"/>
                <a:ext cx="217080" cy="2638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609080" y="13860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617720" y="1535040"/>
                <a:ext cx="87120" cy="15264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11320" y="1468080"/>
                <a:ext cx="13680" cy="3744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611960" y="1429560"/>
                <a:ext cx="39960" cy="338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628160" y="1419120"/>
                <a:ext cx="1080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51200" y="1419120"/>
                <a:ext cx="10800" cy="1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77120" y="1464120"/>
                <a:ext cx="8640" cy="176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68840" y="1475640"/>
                <a:ext cx="11880" cy="7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11960" y="1467360"/>
                <a:ext cx="21960" cy="514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92960" y="1505880"/>
                <a:ext cx="11880" cy="302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46880" y="1535040"/>
                <a:ext cx="79920" cy="14400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96840" y="1540800"/>
                <a:ext cx="36720" cy="1450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80000" y="1615320"/>
                <a:ext cx="57960" cy="18180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11960" y="1375920"/>
                <a:ext cx="129960" cy="1062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1120" y="155016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20960" y="1578600"/>
                <a:ext cx="37800" cy="1155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78840" y="1615320"/>
                <a:ext cx="23040" cy="1609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335480" y="1765080"/>
                <a:ext cx="68040" cy="6660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91640" y="1575720"/>
                <a:ext cx="105120" cy="540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391640" y="16038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391640" y="1622880"/>
                <a:ext cx="105120" cy="104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91640" y="1644480"/>
                <a:ext cx="105120" cy="648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376080" y="2210760"/>
              <a:ext cx="584640" cy="405000"/>
              <a:chOff x="3376080" y="2210760"/>
              <a:chExt cx="584640" cy="405000"/>
            </a:xfrm>
          </p:grpSpPr>
          <p:sp>
            <p:nvSpPr>
              <p:cNvPr id="614" name=""/>
              <p:cNvSpPr/>
              <p:nvPr/>
            </p:nvSpPr>
            <p:spPr>
              <a:xfrm>
                <a:off x="3399840" y="2511360"/>
                <a:ext cx="205200" cy="9792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790800" y="2324520"/>
                <a:ext cx="92160" cy="356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89720" y="2456640"/>
                <a:ext cx="137880" cy="11304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597480" y="2446200"/>
                <a:ext cx="328320" cy="8208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595320" y="2475720"/>
                <a:ext cx="228240" cy="9396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25720" y="2326680"/>
                <a:ext cx="60840" cy="15084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624480" y="2315880"/>
                <a:ext cx="202320" cy="5004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89720" y="2326680"/>
                <a:ext cx="42840" cy="17316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24480" y="2324520"/>
                <a:ext cx="183240" cy="17532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645360" y="2339640"/>
                <a:ext cx="140760" cy="1278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540240" y="2494440"/>
                <a:ext cx="276120" cy="1166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99280" y="2503800"/>
                <a:ext cx="163080" cy="4608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593160" y="2525400"/>
                <a:ext cx="172080" cy="7344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26880" y="247572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51400" y="2444400"/>
                <a:ext cx="55080" cy="403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558240" y="2459520"/>
                <a:ext cx="49680" cy="320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602520" y="2436840"/>
                <a:ext cx="28800" cy="828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391920" y="2210760"/>
                <a:ext cx="146160" cy="13572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405960" y="2219040"/>
                <a:ext cx="122040" cy="25740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63200" y="2264400"/>
                <a:ext cx="33120" cy="403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23240" y="2215440"/>
                <a:ext cx="87840" cy="4788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45920" y="2304000"/>
                <a:ext cx="55080" cy="3096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479400" y="2262240"/>
                <a:ext cx="9720" cy="4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457080" y="2264400"/>
                <a:ext cx="7920" cy="7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76080" y="2367000"/>
                <a:ext cx="216360" cy="21672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422160" y="2359440"/>
                <a:ext cx="109080" cy="1159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04160" y="2430360"/>
                <a:ext cx="95760" cy="14616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57080" y="2553840"/>
                <a:ext cx="68760" cy="39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49240" y="2410200"/>
                <a:ext cx="14040" cy="15156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510000" y="2541600"/>
                <a:ext cx="69120" cy="450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50840" y="2553840"/>
                <a:ext cx="65880" cy="619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401640" y="2562120"/>
                <a:ext cx="3960" cy="41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577320" y="2566800"/>
                <a:ext cx="0" cy="37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67680" y="2365200"/>
                <a:ext cx="105120" cy="8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667680" y="2394360"/>
                <a:ext cx="105120" cy="75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667680" y="2415960"/>
                <a:ext cx="105120" cy="936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67680" y="2436840"/>
                <a:ext cx="105120" cy="72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"/>
          <p:cNvSpPr/>
          <p:nvPr/>
        </p:nvSpPr>
        <p:spPr>
          <a:xfrm>
            <a:off x="2050920" y="5956200"/>
            <a:ext cx="45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2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8" name="CAMERA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835280" y="2205000"/>
            <a:ext cx="4897440" cy="37022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「楔」と「私」の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37160" y="404640"/>
            <a:ext cx="3427560" cy="249084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「楔」自らが所属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HGPﾌﾞｰｹ"/>
              </a:rPr>
              <a:t>他の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楔の仕事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3564000" y="4365720"/>
            <a:ext cx="16891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56" name=""/>
          <p:cNvGrpSpPr/>
          <p:nvPr/>
        </p:nvGrpSpPr>
        <p:grpSpPr>
          <a:xfrm>
            <a:off x="3924360" y="2708280"/>
            <a:ext cx="1328400" cy="1080720"/>
            <a:chOff x="3924360" y="2708280"/>
            <a:chExt cx="1328400" cy="1080720"/>
          </a:xfrm>
        </p:grpSpPr>
        <p:sp>
          <p:nvSpPr>
            <p:cNvPr id="657" name=""/>
            <p:cNvSpPr/>
            <p:nvPr/>
          </p:nvSpPr>
          <p:spPr>
            <a:xfrm>
              <a:off x="3924360" y="2708280"/>
              <a:ext cx="1328400" cy="108072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098240" y="2961360"/>
              <a:ext cx="961920" cy="5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326880" y="1253520"/>
            <a:ext cx="49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ﾌﾞｰｹ"/>
              </a:rPr>
              <a:t>コミュニティの自己拡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0.07052 L -0.20469 0.20671 E">
                                      <p:cBhvr>
                                        <p:cTn id="23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619280" y="1557360"/>
            <a:ext cx="5429160" cy="526716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51640" y="782640"/>
            <a:ext cx="3313080" cy="2946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4653000"/>
            <a:ext cx="2305080" cy="2016000"/>
          </a:xfrm>
          <a:prstGeom prst="ellipse">
            <a:avLst/>
          </a:prstGeom>
          <a:solidFill>
            <a:srgbClr val="c20041">
              <a:alpha val="49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共感とコミットメントの連鎖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64" name=""/>
          <p:cNvSpPr/>
          <p:nvPr/>
        </p:nvSpPr>
        <p:spPr>
          <a:xfrm>
            <a:off x="250920" y="998640"/>
            <a:ext cx="2771640" cy="243036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982960" y="2576520"/>
            <a:ext cx="757080" cy="576360"/>
            <a:chOff x="2982960" y="2576520"/>
            <a:chExt cx="757080" cy="576360"/>
          </a:xfrm>
        </p:grpSpPr>
        <p:sp>
          <p:nvSpPr>
            <p:cNvPr id="666" name=""/>
            <p:cNvSpPr/>
            <p:nvPr/>
          </p:nvSpPr>
          <p:spPr>
            <a:xfrm>
              <a:off x="2982960" y="2576520"/>
              <a:ext cx="757080" cy="576360"/>
            </a:xfrm>
            <a:prstGeom prst="ellipse">
              <a:avLst/>
            </a:prstGeom>
            <a:solidFill>
              <a:srgbClr val="00ffff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1"/>
            <a:stretch/>
          </p:blipFill>
          <p:spPr>
            <a:xfrm>
              <a:off x="3047760" y="273420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"/>
          <p:cNvGrpSpPr/>
          <p:nvPr/>
        </p:nvGrpSpPr>
        <p:grpSpPr>
          <a:xfrm>
            <a:off x="5808600" y="4149720"/>
            <a:ext cx="851040" cy="655560"/>
            <a:chOff x="5808600" y="4149720"/>
            <a:chExt cx="851040" cy="655560"/>
          </a:xfrm>
        </p:grpSpPr>
        <p:sp>
          <p:nvSpPr>
            <p:cNvPr id="669" name=""/>
            <p:cNvSpPr/>
            <p:nvPr/>
          </p:nvSpPr>
          <p:spPr>
            <a:xfrm>
              <a:off x="5808600" y="4149720"/>
              <a:ext cx="851040" cy="65556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2"/>
            <a:stretch/>
          </p:blipFill>
          <p:spPr>
            <a:xfrm>
              <a:off x="5928840" y="4290840"/>
              <a:ext cx="664920" cy="3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5003640" y="2997360"/>
            <a:ext cx="936720" cy="731520"/>
            <a:chOff x="5003640" y="2997360"/>
            <a:chExt cx="936720" cy="731520"/>
          </a:xfrm>
        </p:grpSpPr>
        <p:sp>
          <p:nvSpPr>
            <p:cNvPr id="672" name=""/>
            <p:cNvSpPr/>
            <p:nvPr/>
          </p:nvSpPr>
          <p:spPr>
            <a:xfrm>
              <a:off x="5003640" y="2997360"/>
              <a:ext cx="936720" cy="7315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3"/>
            <a:stretch/>
          </p:blipFill>
          <p:spPr>
            <a:xfrm>
              <a:off x="5075280" y="3152520"/>
              <a:ext cx="72072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34920" y="3645000"/>
            <a:ext cx="3024360" cy="2808360"/>
          </a:xfrm>
          <a:prstGeom prst="ellipse">
            <a:avLst/>
          </a:prstGeom>
          <a:solidFill>
            <a:srgbClr val="00a000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700360" y="4653000"/>
            <a:ext cx="757080" cy="576360"/>
            <a:chOff x="2700360" y="4653000"/>
            <a:chExt cx="757080" cy="576360"/>
          </a:xfrm>
        </p:grpSpPr>
        <p:sp>
          <p:nvSpPr>
            <p:cNvPr id="676" name=""/>
            <p:cNvSpPr/>
            <p:nvPr/>
          </p:nvSpPr>
          <p:spPr>
            <a:xfrm>
              <a:off x="2700360" y="4653000"/>
              <a:ext cx="757080" cy="576360"/>
            </a:xfrm>
            <a:prstGeom prst="ellipse">
              <a:avLst/>
            </a:prstGeom>
            <a:solidFill>
              <a:srgbClr val="00a000">
                <a:alpha val="49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7" name="" descr=""/>
            <p:cNvPicPr/>
            <p:nvPr/>
          </p:nvPicPr>
          <p:blipFill>
            <a:blip r:embed="rId4"/>
            <a:stretch/>
          </p:blipFill>
          <p:spPr>
            <a:xfrm>
              <a:off x="2765160" y="4810680"/>
              <a:ext cx="651960" cy="28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8" name="" descr=""/>
          <p:cNvPicPr/>
          <p:nvPr/>
        </p:nvPicPr>
        <p:blipFill>
          <a:blip r:embed="rId5"/>
          <a:stretch/>
        </p:blipFill>
        <p:spPr>
          <a:xfrm>
            <a:off x="3780000" y="4508640"/>
            <a:ext cx="1688760" cy="21603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560680" y="835920"/>
            <a:ext cx="35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創英角ﾎﾟｯﾌﾟ体"/>
                <a:ea typeface="HGPﾌﾞｰｹ"/>
              </a:rPr>
              <a:t>営業のない営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4509E-006 L 0.13003 0.12046 E">
                                      <p:cBhvr>
                                        <p:cTn id="306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5607E-006 L 0.25 0.09988 E">
                                      <p:cBhvr>
                                        <p:cTn id="308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23699E-006 L -0.15816 -0.13503 E">
                                      <p:cBhvr>
                                        <p:cTn id="310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.12578 E">
                                      <p:cBhvr>
                                        <p:cTn id="312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創英角ﾎﾟｯﾌﾟ体"/>
              </a:rPr>
              <a:t>共感とコミットメント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662120" y="836640"/>
            <a:ext cx="6222960" cy="31989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692360" y="404640"/>
            <a:ext cx="5616360" cy="4608720"/>
          </a:xfrm>
          <a:prstGeom prst="ellipse">
            <a:avLst/>
          </a:prstGeom>
          <a:solidFill>
            <a:srgbClr val="fffbad">
              <a:alpha val="40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ﾌﾞｰｹ"/>
              </a:rPr>
              <a:t>ソーシャル・キャピタ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創英角ﾎﾟｯﾌﾟ体"/>
                <a:ea typeface="HGPﾌﾞｰｹ"/>
              </a:rPr>
              <a:t>人間関係の資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75120" y="3830760"/>
            <a:ext cx="3152880" cy="2693880"/>
          </a:xfrm>
          <a:prstGeom prst="wedgeEllipseCallout">
            <a:avLst>
              <a:gd name="adj1" fmla="val 54680"/>
              <a:gd name="adj2" fmla="val -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Pﾌﾞｰｹ"/>
              </a:rPr>
              <a:t>これはなにかと考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633680" cy="2089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692360" y="3830760"/>
            <a:ext cx="3584520" cy="3012840"/>
          </a:xfrm>
          <a:prstGeom prst="wedgeEllipseCallout">
            <a:avLst>
              <a:gd name="adj1" fmla="val 54120"/>
              <a:gd name="adj2" fmla="val 3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Pﾌﾞｰｹ"/>
              </a:rPr>
              <a:t>コミュニテ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S創英角ﾎﾟｯﾌﾟ体"/>
                <a:ea typeface="HGPﾌﾞｰｹ"/>
              </a:rPr>
              <a:t>ソリュ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7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70" fill="hold"/>
                                        <p:tgtEl>
                                          <p:spTgt spid="6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826920" y="843120"/>
            <a:ext cx="7201080" cy="58896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" y="52560"/>
            <a:ext cx="8964720" cy="79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広くて薄い紐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88" name=""/>
          <p:cNvSpPr/>
          <p:nvPr/>
        </p:nvSpPr>
        <p:spPr>
          <a:xfrm>
            <a:off x="10800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7613640" y="5086440"/>
            <a:ext cx="1351080" cy="172728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979640" y="1341360"/>
            <a:ext cx="2087640" cy="2016360"/>
          </a:xfrm>
          <a:prstGeom prst="ellipse">
            <a:avLst/>
          </a:prstGeom>
          <a:noFill/>
          <a:ln w="28440">
            <a:solidFill>
              <a:srgbClr val="c2004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788000" y="1413000"/>
            <a:ext cx="1800000" cy="1728720"/>
          </a:xfrm>
          <a:prstGeom prst="ellipse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195640" y="3933720"/>
            <a:ext cx="2087280" cy="2016360"/>
          </a:xfrm>
          <a:prstGeom prst="ellipse">
            <a:avLst/>
          </a:prstGeom>
          <a:noFill/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59280" y="4005360"/>
            <a:ext cx="2087640" cy="2016000"/>
          </a:xfrm>
          <a:prstGeom prst="ellipse">
            <a:avLst/>
          </a:prstGeom>
          <a:noFill/>
          <a:ln w="28440">
            <a:solidFill>
              <a:srgbClr val="0000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826920" y="843120"/>
            <a:ext cx="7201080" cy="588960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1280" y="52560"/>
            <a:ext cx="8964720" cy="79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広くて薄い紐帯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696" name=""/>
          <p:cNvSpPr/>
          <p:nvPr/>
        </p:nvSpPr>
        <p:spPr>
          <a:xfrm>
            <a:off x="10800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7613640" y="5086440"/>
            <a:ext cx="1351080" cy="17272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1979640" y="1341360"/>
            <a:ext cx="2087640" cy="2016360"/>
          </a:xfrm>
          <a:prstGeom prst="ellipse">
            <a:avLst/>
          </a:prstGeom>
          <a:noFill/>
          <a:ln w="28440">
            <a:solidFill>
              <a:srgbClr val="c2004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88000" y="1413000"/>
            <a:ext cx="1800000" cy="1728720"/>
          </a:xfrm>
          <a:prstGeom prst="ellipse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95640" y="3933720"/>
            <a:ext cx="2087280" cy="2016360"/>
          </a:xfrm>
          <a:prstGeom prst="ellipse">
            <a:avLst/>
          </a:prstGeom>
          <a:noFill/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59280" y="4005360"/>
            <a:ext cx="2087640" cy="2016000"/>
          </a:xfrm>
          <a:prstGeom prst="ellipse">
            <a:avLst/>
          </a:prstGeom>
          <a:noFill/>
          <a:ln w="28440">
            <a:solidFill>
              <a:srgbClr val="0000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68360" y="2349360"/>
            <a:ext cx="64800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32360" y="213372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60720" y="170028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43280" y="393372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92360" y="4365720"/>
            <a:ext cx="648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32360" y="429264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156360" y="429408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51640" y="2133720"/>
            <a:ext cx="6476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8540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情報が見える眼を育て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7236000" y="4292640"/>
            <a:ext cx="1949400" cy="2492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403280" y="924840"/>
            <a:ext cx="6193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バカの壁」流にいえ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脳内の一次方程式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ｙ</a:t>
            </a:r>
            <a:r>
              <a:rPr b="1" lang="en-US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= a</a:t>
            </a:r>
            <a:r>
              <a:rPr b="1" lang="zh-CN" sz="9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ｘ</a:t>
            </a:r>
            <a:r>
              <a:rPr b="0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0280" y="3465360"/>
            <a:ext cx="841536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社会的知性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信頼＝信頼性</a:t>
            </a:r>
            <a:br>
              <a:rPr sz="36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山岸俊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流動的知性</a:t>
            </a:r>
            <a:br>
              <a:rPr sz="4000"/>
            </a:b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中沢新一）</a:t>
            </a: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animClr clrSpc="rgb">
                                      <p:cBhvr>
                                        <p:cTn id="4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20041"/>
                                      </p:to>
                                    </p:animClr>
                                    <p:set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</a:rPr>
              <a:t>HUB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能力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907920"/>
            <a:ext cx="8128080" cy="59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が見える能力（信頼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情報を発信する能力（信頼性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マリアビリテ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可塑性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7381800" y="4508640"/>
            <a:ext cx="1838520" cy="23493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2916360" y="205308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16360" y="4069800"/>
            <a:ext cx="2873160" cy="664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共進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構造を知ること</a:t>
            </a:r>
            <a:br>
              <a:rPr sz="10600"/>
            </a:br>
            <a:r>
              <a:rPr b="0" lang="en-US" sz="6600" spc="-1" strike="noStrike">
                <a:solidFill>
                  <a:srgbClr val="00004a"/>
                </a:solidFill>
                <a:latin typeface="HGPﾌﾞｰｹ"/>
              </a:rPr>
              <a:t>A</a:t>
            </a: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の構造を</a:t>
            </a:r>
            <a:r>
              <a:rPr b="0" lang="en-US" sz="6600" spc="-1" strike="noStrike">
                <a:solidFill>
                  <a:srgbClr val="00004a"/>
                </a:solidFill>
                <a:latin typeface="HGPﾌﾞｰｹ"/>
              </a:rPr>
              <a:t>B</a:t>
            </a:r>
            <a:r>
              <a:rPr b="0" lang="zh-CN" sz="6600" spc="-1" strike="noStrike">
                <a:solidFill>
                  <a:srgbClr val="00004a"/>
                </a:solidFill>
                <a:latin typeface="HGPﾌﾞｰｹ"/>
              </a:rPr>
              <a:t>に適応する</a:t>
            </a:r>
            <a:endParaRPr b="0" lang="en-US" sz="6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658880" y="1123920"/>
            <a:ext cx="5937480" cy="56167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143080" y="445608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統合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510160" y="4226040"/>
            <a:ext cx="34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象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90760" y="2065320"/>
            <a:ext cx="25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明朝B"/>
                <a:ea typeface="HGPﾌﾞｰｹ"/>
              </a:rPr>
              <a:t>並列連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創造性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25" name=""/>
          <p:cNvSpPr/>
          <p:nvPr/>
        </p:nvSpPr>
        <p:spPr>
          <a:xfrm>
            <a:off x="177840" y="24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外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8160" y="2921040"/>
            <a:ext cx="18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内的連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341000">
            <a:off x="1820520" y="692280"/>
            <a:ext cx="950760" cy="5040360"/>
          </a:xfrm>
          <a:custGeom>
            <a:avLst/>
            <a:gdLst>
              <a:gd name="textAreaLeft" fmla="*/ 607320 w 950760"/>
              <a:gd name="textAreaRight" fmla="*/ 951120 w 9507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40000" y="321156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2e18"/>
                </a:solidFill>
                <a:latin typeface="HGP明朝B"/>
                <a:ea typeface="HGPﾌﾞｰｹ"/>
              </a:rPr>
              <a:t>エンコー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5580000" y="4149720"/>
            <a:ext cx="720720" cy="719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85200" y="4900680"/>
            <a:ext cx="91224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コー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データ化・スーパーフラッ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機能等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24000" y="3322800"/>
            <a:ext cx="518184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丸ｺﾞｼｯｸM-PRO"/>
                <a:ea typeface="HGPﾌﾞｰｹ"/>
              </a:rPr>
              <a:t>自己紹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438280"/>
            <a:ext cx="5181480" cy="884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33360" y="2540160"/>
            <a:ext cx="518148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HGPﾌﾞｰｹ"/>
              </a:rPr>
              <a:t>桃組について</a:t>
            </a:r>
            <a:endParaRPr b="0" lang="en-US" sz="3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66840"/>
            <a:ext cx="4307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キアスム交差図式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276720" y="3281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5800" y="2951280"/>
            <a:ext cx="1155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現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象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75920" y="3032280"/>
            <a:ext cx="8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将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71640" y="1123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00360" y="1679400"/>
            <a:ext cx="25146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象徴を一部否定するも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19640" y="2610000"/>
            <a:ext cx="79200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200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80000" y="4076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0000" y="6021000"/>
            <a:ext cx="417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82920" y="6165720"/>
            <a:ext cx="21607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実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神話のアルゴリズム</a:t>
            </a:r>
            <a:br>
              <a:rPr sz="4800"/>
            </a:br>
            <a:br>
              <a:rPr sz="4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Fx(a):Fy(b):Fx(b)</a:t>
            </a:r>
            <a:r>
              <a:rPr b="0" lang="ja-JP" sz="4800" spc="-1" strike="noStrike" u="sng">
                <a:solidFill>
                  <a:srgbClr val="00004a"/>
                </a:solidFill>
                <a:uFillTx/>
                <a:latin typeface="HGPﾌﾞｰｹ"/>
              </a:rPr>
              <a:t>～</a:t>
            </a:r>
            <a:r>
              <a:rPr b="0" lang="ja-JP" sz="4800" spc="-1" strike="noStrike">
                <a:solidFill>
                  <a:srgbClr val="00004a"/>
                </a:solidFill>
                <a:latin typeface="HGPﾌﾞｰｹ"/>
              </a:rPr>
              <a:t>F(a)-1y</a:t>
            </a:r>
            <a:br>
              <a:rPr sz="4800"/>
            </a:br>
            <a:br>
              <a:rPr sz="4800"/>
            </a:br>
            <a:r>
              <a:rPr b="0" lang="ja-JP" sz="2800" spc="-1" strike="noStrike">
                <a:solidFill>
                  <a:srgbClr val="00004a"/>
                </a:solidFill>
                <a:latin typeface="HGPﾌﾞｰｹ"/>
              </a:rPr>
              <a:t>クロード・レヴィストロース</a:t>
            </a:r>
            <a:endParaRPr b="0" lang="en-US" sz="28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749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現実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象徴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想像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4282560" y="4292640"/>
            <a:ext cx="729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ロスの悦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419640" y="32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女の悦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3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こと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87520" y="215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ボロメオの結び目</a:t>
            </a:r>
            <a:br>
              <a:rPr sz="3200"/>
            </a:br>
            <a:r>
              <a:rPr b="0" lang="zh-CN" sz="3200" spc="-1" strike="noStrike">
                <a:solidFill>
                  <a:srgbClr val="00004a"/>
                </a:solidFill>
                <a:latin typeface="HGPﾌﾞｰｹ"/>
              </a:rPr>
              <a:t>ジャック・ラカン</a:t>
            </a:r>
            <a:endParaRPr b="0" lang="en-US" sz="3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1763640" y="1057320"/>
            <a:ext cx="5976720" cy="5540040"/>
            <a:chOff x="1763640" y="1057320"/>
            <a:chExt cx="5976720" cy="5540040"/>
          </a:xfrm>
        </p:grpSpPr>
        <p:pic>
          <p:nvPicPr>
            <p:cNvPr id="758" name="" descr=""/>
            <p:cNvPicPr/>
            <p:nvPr/>
          </p:nvPicPr>
          <p:blipFill>
            <a:blip r:embed="rId1"/>
            <a:stretch/>
          </p:blipFill>
          <p:spPr>
            <a:xfrm>
              <a:off x="1763640" y="1057320"/>
              <a:ext cx="597672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1841400" y="4254480"/>
              <a:ext cx="275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純粋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81200" y="4319640"/>
              <a:ext cx="1954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83360" y="1978200"/>
              <a:ext cx="257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贈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62204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19640" y="3422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7672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普遍経済学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Web2.0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41440" y="44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</a:rPr>
              <a:t>Web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</a:rPr>
              <a:t>のキアスム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76832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8320" y="2190600"/>
            <a:ext cx="6188400" cy="339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768320" y="865080"/>
            <a:ext cx="6188400" cy="36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6000" y="129852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76720" y="3281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7640" y="2951280"/>
            <a:ext cx="1231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象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77360" y="3032280"/>
            <a:ext cx="8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656320" y="2276640"/>
            <a:ext cx="0" cy="2109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71640" y="1123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00360" y="1679400"/>
            <a:ext cx="25146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象徴を一部否定するも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19640" y="2610000"/>
            <a:ext cx="792000" cy="458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200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80000" y="4076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3780000" y="6021000"/>
            <a:ext cx="4176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282920" y="6165720"/>
            <a:ext cx="216072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95640" y="5300640"/>
            <a:ext cx="25923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実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7640" y="2131560"/>
            <a:ext cx="8891640" cy="1584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600" spc="-1" strike="noStrike">
                <a:solidFill>
                  <a:srgbClr val="00004a"/>
                </a:solidFill>
                <a:latin typeface="HGPﾌﾞｰｹ"/>
              </a:rPr>
              <a:t>Google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442880" y="841320"/>
            <a:ext cx="6441840" cy="5972040"/>
            <a:chOff x="1442880" y="841320"/>
            <a:chExt cx="6441840" cy="5972040"/>
          </a:xfrm>
        </p:grpSpPr>
        <p:pic>
          <p:nvPicPr>
            <p:cNvPr id="785" name="" descr=""/>
            <p:cNvPicPr/>
            <p:nvPr/>
          </p:nvPicPr>
          <p:blipFill>
            <a:blip r:embed="rId1"/>
            <a:stretch/>
          </p:blipFill>
          <p:spPr>
            <a:xfrm>
              <a:off x="1442880" y="841320"/>
              <a:ext cx="6441840" cy="59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526400" y="4287600"/>
              <a:ext cx="296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インターネッ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34400" y="4358160"/>
              <a:ext cx="2106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296520" y="1833840"/>
              <a:ext cx="277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Goog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4477680" y="4365720"/>
            <a:ext cx="454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48000" y="32781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03640" y="32068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インターネットの純粋贈与仮説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794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土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農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農業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08000" y="2060640"/>
            <a:ext cx="31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092240" y="2774880"/>
            <a:ext cx="815760" cy="5828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08000" y="2774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農作作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08360" y="565164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1908000" y="1057320"/>
            <a:ext cx="5505480" cy="5108400"/>
            <a:chOff x="1908000" y="1057320"/>
            <a:chExt cx="5505480" cy="5108400"/>
          </a:xfrm>
        </p:grpSpPr>
        <p:pic>
          <p:nvPicPr>
            <p:cNvPr id="808" name="" descr=""/>
            <p:cNvPicPr/>
            <p:nvPr/>
          </p:nvPicPr>
          <p:blipFill>
            <a:blip r:embed="rId1"/>
            <a:stretch/>
          </p:blipFill>
          <p:spPr>
            <a:xfrm>
              <a:off x="1908000" y="1057320"/>
              <a:ext cx="550548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979640" y="4005360"/>
              <a:ext cx="253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岩手県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48360" y="4065480"/>
              <a:ext cx="1800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交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92360" y="190656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建設業協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477680" y="4076640"/>
            <a:ext cx="454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資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419640" y="306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純生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59280" y="306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875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</a:rPr>
              <a:t>協会の三位一体モデル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2987640" y="2349360"/>
            <a:ext cx="1008000" cy="136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8000" y="981000"/>
            <a:ext cx="319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耕す（世話をす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の技術的「種」としての協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35160" y="3773520"/>
            <a:ext cx="815760" cy="582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24000" y="256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HGPﾌﾞｰｹ"/>
                <a:ea typeface="HGPﾌﾞｰｹ"/>
              </a:rPr>
              <a:t>建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95640" y="5722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交換は後から接続されることで純生産が商品に転換す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14388" t="12663" r="12607" b="26609"/>
          <a:stretch/>
        </p:blipFill>
        <p:spPr>
          <a:xfrm>
            <a:off x="826920" y="843120"/>
            <a:ext cx="7201080" cy="5889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280" y="52560"/>
            <a:ext cx="8964720" cy="79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</a:rPr>
              <a:t>如何にして「広くて薄い紐帯」をつくるのか</a:t>
            </a:r>
            <a:endParaRPr b="0" lang="en-US" sz="36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39" name=""/>
          <p:cNvSpPr/>
          <p:nvPr/>
        </p:nvSpPr>
        <p:spPr>
          <a:xfrm>
            <a:off x="108000" y="6524640"/>
            <a:ext cx="69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図＝アルバート＝ラズロ・バラバシ，「新ネットワーク思考」，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p66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日　日本放送出版協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13640" y="5086440"/>
            <a:ext cx="1351080" cy="1727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79640" y="1341360"/>
            <a:ext cx="2087640" cy="2016360"/>
          </a:xfrm>
          <a:prstGeom prst="ellipse">
            <a:avLst/>
          </a:prstGeom>
          <a:noFill/>
          <a:ln w="28440">
            <a:solidFill>
              <a:srgbClr val="c2004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1413000"/>
            <a:ext cx="1800000" cy="1728720"/>
          </a:xfrm>
          <a:prstGeom prst="ellipse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3933720"/>
            <a:ext cx="2087280" cy="2016360"/>
          </a:xfrm>
          <a:prstGeom prst="ellipse">
            <a:avLst/>
          </a:prstGeom>
          <a:noFill/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9280" y="4005360"/>
            <a:ext cx="2087640" cy="2016000"/>
          </a:xfrm>
          <a:prstGeom prst="ellipse">
            <a:avLst/>
          </a:prstGeom>
          <a:noFill/>
          <a:ln w="28440">
            <a:solidFill>
              <a:srgbClr val="0000a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17080" y="27079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情報を</a:t>
            </a:r>
            <a:br>
              <a:rPr sz="10600"/>
            </a:br>
            <a:r>
              <a:rPr b="0" lang="zh-CN" sz="10600" spc="-1" strike="noStrike">
                <a:solidFill>
                  <a:srgbClr val="00004a"/>
                </a:solidFill>
                <a:latin typeface="HGPﾌﾞｰｹ"/>
              </a:rPr>
              <a:t>発信すること！</a:t>
            </a:r>
            <a:endParaRPr b="0" lang="en-US" sz="106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080" y="2707920"/>
            <a:ext cx="8891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コミュニケーション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〈情報</a:t>
            </a:r>
            <a:r>
              <a:rPr b="0" lang="en-US" sz="5400" spc="-1" strike="noStrike">
                <a:solidFill>
                  <a:srgbClr val="00004a"/>
                </a:solidFill>
                <a:latin typeface="HGPﾌﾞｰｹ"/>
              </a:rPr>
              <a:t>/</a:t>
            </a: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伝達〉の差異の理解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4a"/>
                </a:solidFill>
                <a:latin typeface="HGPﾌﾞｰｹ"/>
              </a:rPr>
              <a:t>二クラス・ルーマン</a:t>
            </a:r>
            <a:endParaRPr b="0" lang="en-US" sz="54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73200" y="6093000"/>
            <a:ext cx="74278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7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33520" y="1536480"/>
            <a:ext cx="7278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清聴ありがとうございました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　桃知　利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2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でも私宛の連絡はメールでお願いいたし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3687840" y="1955880"/>
            <a:ext cx="104616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2158" t="0" r="4315" b="8261"/>
          <a:stretch/>
        </p:blipFill>
        <p:spPr>
          <a:xfrm>
            <a:off x="1549440" y="846000"/>
            <a:ext cx="6262560" cy="5607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0" y="557532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837" t="3727" r="50336" b="62637"/>
          <a:stretch/>
        </p:blipFill>
        <p:spPr>
          <a:xfrm>
            <a:off x="3708360" y="1413000"/>
            <a:ext cx="2087640" cy="1528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651640" y="4251240"/>
            <a:ext cx="1657080" cy="138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00720" y="3270240"/>
            <a:ext cx="172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4160" y="1052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共同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4920" y="44280"/>
            <a:ext cx="914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306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2e18"/>
                </a:solidFill>
                <a:latin typeface="HGPﾌﾞｰｹ"/>
                <a:ea typeface="HGPﾌﾞｰｹ"/>
              </a:rPr>
              <a:t>広くて薄い紐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19280" y="44226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純粋贈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650680"/>
            <a:ext cx="860436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HGPﾌﾞｰｹ"/>
              </a:rPr>
              <a:t>如何にして、交換の原理からの定義付けから逃れ続けるのか</a:t>
            </a:r>
            <a:endParaRPr b="0" lang="en-US" sz="60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ﾌﾞｰｹ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57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000" y="125280"/>
            <a:ext cx="7272360" cy="78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HGP創英角ﾎﾟｯﾌﾟ体"/>
              </a:rPr>
              <a:t>ホームページ</a:t>
            </a:r>
            <a:br>
              <a:rPr sz="3300"/>
            </a:br>
            <a:r>
              <a:rPr b="1" lang="zh-CN" sz="3300" spc="-1" strike="noStrike">
                <a:solidFill>
                  <a:srgbClr val="000000"/>
                </a:solidFill>
                <a:latin typeface="HGP創英角ﾎﾟｯﾌﾟ体"/>
              </a:rPr>
              <a:t>１９９８年</a:t>
            </a:r>
            <a:endParaRPr b="0" lang="en-US" sz="3300" spc="-1" strike="noStrike">
              <a:solidFill>
                <a:srgbClr val="00004a"/>
              </a:solidFill>
              <a:latin typeface="HGPﾌﾞｰｹ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429000"/>
            <a:ext cx="2454480" cy="2117880"/>
          </a:xfrm>
          <a:prstGeom prst="wedgeEllipseCallout">
            <a:avLst>
              <a:gd name="adj1" fmla="val 60092"/>
              <a:gd name="adj2" fmla="val 8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HGP明朝B"/>
                <a:ea typeface="HGPﾌﾞｰｹ"/>
              </a:rPr>
              <a:t>これだ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101000" y="4299120"/>
            <a:ext cx="2000160" cy="251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  <p:sndAc>
      <p:stSnd>
        <p:snd r:embed="rId3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HGP創英角ﾎﾟｯﾌﾟ体"/>
              </a:rPr>
              <a:t>きっかけはデジタルなコミュニケーション</a:t>
            </a:r>
            <a:endParaRPr b="0" lang="en-US" sz="4000" spc="-1" strike="noStrike">
              <a:solidFill>
                <a:srgbClr val="00004a"/>
              </a:solidFill>
              <a:latin typeface="HGPﾌﾞｰｹ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042320" y="4149720"/>
            <a:ext cx="2117520" cy="270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378080" y="1413000"/>
            <a:ext cx="1177920" cy="10792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2781360"/>
            <a:ext cx="1074960" cy="95400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8080" y="3886200"/>
            <a:ext cx="1152360" cy="1050840"/>
          </a:xfrm>
          <a:prstGeom prst="ellipse">
            <a:avLst/>
          </a:prstGeom>
          <a:solidFill>
            <a:srgbClr val="99ccff">
              <a:alpha val="6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08720" y="1413000"/>
            <a:ext cx="1009440" cy="919080"/>
          </a:xfrm>
          <a:prstGeom prst="ellipse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97280" y="1268280"/>
            <a:ext cx="1135080" cy="974880"/>
          </a:xfrm>
          <a:prstGeom prst="ellipse">
            <a:avLst/>
          </a:prstGeom>
          <a:solidFill>
            <a:srgbClr val="00ffff">
              <a:alpha val="49000"/>
            </a:srgbClr>
          </a:solidFill>
          <a:ln w="93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237636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2448000" y="4770360"/>
            <a:ext cx="111600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40000" y="2349360"/>
            <a:ext cx="1655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98840" y="2243160"/>
            <a:ext cx="244440" cy="255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292360" y="2349360"/>
            <a:ext cx="647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940000" y="3543480"/>
            <a:ext cx="110196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40000" y="2349360"/>
            <a:ext cx="3293280" cy="3001320"/>
            <a:chOff x="2340000" y="2349360"/>
            <a:chExt cx="3293280" cy="3001320"/>
          </a:xfrm>
        </p:grpSpPr>
        <p:grpSp>
          <p:nvGrpSpPr>
            <p:cNvPr id="276" name=""/>
            <p:cNvGrpSpPr/>
            <p:nvPr/>
          </p:nvGrpSpPr>
          <p:grpSpPr>
            <a:xfrm>
              <a:off x="2652120" y="2499480"/>
              <a:ext cx="2981160" cy="2851200"/>
              <a:chOff x="2652120" y="2499480"/>
              <a:chExt cx="2981160" cy="2851200"/>
            </a:xfrm>
          </p:grpSpPr>
          <p:sp>
            <p:nvSpPr>
              <p:cNvPr id="277" name=""/>
              <p:cNvSpPr/>
              <p:nvPr/>
            </p:nvSpPr>
            <p:spPr>
              <a:xfrm>
                <a:off x="4348800" y="4601520"/>
                <a:ext cx="1273320" cy="73692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26000" y="4865400"/>
                <a:ext cx="97200" cy="25020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43080" y="4769640"/>
                <a:ext cx="779040" cy="20772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5880" y="4795560"/>
                <a:ext cx="762840" cy="3240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7400" y="4249800"/>
                <a:ext cx="695880" cy="1612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500440" y="4285440"/>
                <a:ext cx="111600" cy="59076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37400" y="4264920"/>
                <a:ext cx="615600" cy="61128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01840" y="4327920"/>
                <a:ext cx="482400" cy="44280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55000" y="2499480"/>
                <a:ext cx="1758240" cy="16110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96200" y="3753720"/>
                <a:ext cx="303480" cy="27756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52120" y="2884680"/>
                <a:ext cx="764640" cy="6796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48160" y="2570400"/>
                <a:ext cx="862200" cy="107748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34520" y="3603240"/>
                <a:ext cx="334800" cy="30204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559400" y="5070600"/>
                <a:ext cx="1022040" cy="28008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22800" y="4761720"/>
                <a:ext cx="354960" cy="16524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638240" y="4867920"/>
                <a:ext cx="946440" cy="39924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57840" y="4968000"/>
                <a:ext cx="191880" cy="35280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16520" y="4961160"/>
                <a:ext cx="154440" cy="355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98240" y="4795560"/>
                <a:ext cx="902160" cy="53460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69120" y="5282640"/>
                <a:ext cx="434160" cy="612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91400" y="4453560"/>
                <a:ext cx="509400" cy="4158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949200" y="4415400"/>
                <a:ext cx="350640" cy="31032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957840" y="4418280"/>
                <a:ext cx="342000" cy="9540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96360" y="4542480"/>
                <a:ext cx="102960" cy="1832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65560" y="4490640"/>
                <a:ext cx="77040" cy="1926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397400" y="4468680"/>
                <a:ext cx="204840" cy="10656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76240" y="4560480"/>
                <a:ext cx="31320" cy="203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78600" y="4626000"/>
                <a:ext cx="59760" cy="1332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54120" y="4600080"/>
                <a:ext cx="37080" cy="396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91400" y="4664160"/>
                <a:ext cx="290520" cy="20520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68440" y="4952880"/>
                <a:ext cx="468000" cy="1627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03680" y="5092560"/>
                <a:ext cx="61560" cy="19692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14240" y="4505760"/>
                <a:ext cx="442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35360" y="5284080"/>
                <a:ext cx="356400" cy="4500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96800" y="4787280"/>
                <a:ext cx="129960" cy="5486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44320" y="4757400"/>
                <a:ext cx="266040" cy="15696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59320" y="5085720"/>
                <a:ext cx="148680" cy="203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608000" y="4979160"/>
                <a:ext cx="485280" cy="1296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03600" y="4601520"/>
                <a:ext cx="416520" cy="5832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42040" y="4836600"/>
                <a:ext cx="119880" cy="15444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86240" y="4829760"/>
                <a:ext cx="79920" cy="846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411800" y="4880520"/>
                <a:ext cx="114480" cy="1105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45520" y="4695840"/>
                <a:ext cx="108720" cy="8604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54160" y="4706640"/>
                <a:ext cx="101520" cy="9828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62280" y="4714920"/>
                <a:ext cx="275040" cy="13896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656600" y="4880520"/>
                <a:ext cx="935280" cy="14904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60360" y="5106240"/>
                <a:ext cx="535320" cy="15840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830120" y="4777560"/>
                <a:ext cx="105840" cy="205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15600" y="3727440"/>
                <a:ext cx="600120" cy="95580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664720" y="3247560"/>
                <a:ext cx="1688400" cy="2952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00720" y="3009600"/>
                <a:ext cx="1676520" cy="25704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45600" y="4896720"/>
                <a:ext cx="558360" cy="14616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385600" y="5037480"/>
                <a:ext cx="203040" cy="23256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609440" y="5091120"/>
                <a:ext cx="930600" cy="237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29600" y="5151240"/>
                <a:ext cx="731520" cy="185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63400" y="4392360"/>
                <a:ext cx="381960" cy="3780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63400" y="4460400"/>
                <a:ext cx="301680" cy="3960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3400" y="4535640"/>
                <a:ext cx="301680" cy="3672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63400" y="4622040"/>
                <a:ext cx="301680" cy="406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340000" y="2349360"/>
              <a:ext cx="850320" cy="723240"/>
              <a:chOff x="2340000" y="2349360"/>
              <a:chExt cx="850320" cy="723240"/>
            </a:xfrm>
          </p:grpSpPr>
          <p:sp>
            <p:nvSpPr>
              <p:cNvPr id="337" name=""/>
              <p:cNvSpPr/>
              <p:nvPr/>
            </p:nvSpPr>
            <p:spPr>
              <a:xfrm>
                <a:off x="2855520" y="2929320"/>
                <a:ext cx="62640" cy="11736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78200" y="2916720"/>
                <a:ext cx="291960" cy="14868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85920" y="2903040"/>
                <a:ext cx="85680" cy="1231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55920" y="2504880"/>
                <a:ext cx="134280" cy="50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87160" y="2700720"/>
                <a:ext cx="204840" cy="1832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90040" y="2693880"/>
                <a:ext cx="492480" cy="12564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43400" y="2740320"/>
                <a:ext cx="342000" cy="14328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47280" y="2506320"/>
                <a:ext cx="91440" cy="23652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36200" y="2495520"/>
                <a:ext cx="301680" cy="709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30440" y="2506320"/>
                <a:ext cx="59760" cy="27072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66080" y="2504880"/>
                <a:ext cx="271800" cy="27216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97760" y="2533680"/>
                <a:ext cx="211680" cy="1940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53120" y="2769120"/>
                <a:ext cx="410760" cy="17208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31960" y="2781360"/>
                <a:ext cx="250560" cy="6264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31960" y="2808720"/>
                <a:ext cx="255960" cy="117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340000" y="2740320"/>
                <a:ext cx="46080" cy="54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68480" y="2693880"/>
                <a:ext cx="81360" cy="5328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66680" y="2703240"/>
                <a:ext cx="71640" cy="5328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32480" y="2683080"/>
                <a:ext cx="42840" cy="118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24280" y="2414520"/>
                <a:ext cx="155520" cy="2941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48320" y="2644560"/>
                <a:ext cx="342000" cy="33372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65600" y="2349360"/>
                <a:ext cx="291600" cy="26496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51280" y="2633760"/>
                <a:ext cx="120240" cy="9396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61360" y="2467800"/>
                <a:ext cx="52920" cy="6840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61360" y="2462760"/>
                <a:ext cx="12960" cy="11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002760" y="2459880"/>
                <a:ext cx="14040" cy="12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009960" y="25326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027240" y="251712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02760" y="2407680"/>
                <a:ext cx="115560" cy="15012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88800" y="2748240"/>
                <a:ext cx="39600" cy="2131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89720" y="2730600"/>
                <a:ext cx="15480" cy="21600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60680" y="2846880"/>
                <a:ext cx="96840" cy="93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06080" y="3019320"/>
                <a:ext cx="15480" cy="27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134520" y="2985120"/>
                <a:ext cx="0" cy="68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78200" y="2960640"/>
                <a:ext cx="0" cy="111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29080" y="2565360"/>
                <a:ext cx="148680" cy="1332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29080" y="2604600"/>
                <a:ext cx="148680" cy="1224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29080" y="2640600"/>
                <a:ext cx="148680" cy="93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629080" y="266760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848040" y="2399760"/>
              <a:ext cx="853200" cy="665640"/>
              <a:chOff x="3848040" y="2399760"/>
              <a:chExt cx="853200" cy="665640"/>
            </a:xfrm>
          </p:grpSpPr>
          <p:sp>
            <p:nvSpPr>
              <p:cNvPr id="377" name=""/>
              <p:cNvSpPr/>
              <p:nvPr/>
            </p:nvSpPr>
            <p:spPr>
              <a:xfrm>
                <a:off x="3962520" y="2615760"/>
                <a:ext cx="140040" cy="5580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96640" y="2823480"/>
                <a:ext cx="208800" cy="17352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7720" y="2810880"/>
                <a:ext cx="499320" cy="12276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56840" y="2850840"/>
                <a:ext cx="342000" cy="14616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57840" y="2618640"/>
                <a:ext cx="90000" cy="23616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43880" y="2606040"/>
                <a:ext cx="309240" cy="802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38120" y="2618640"/>
                <a:ext cx="65880" cy="27036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069440" y="2615760"/>
                <a:ext cx="283680" cy="2732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11200" y="2648520"/>
                <a:ext cx="208800" cy="1922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065480" y="2884680"/>
                <a:ext cx="410760" cy="18036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44320" y="2894400"/>
                <a:ext cx="253080" cy="7344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41440" y="2931480"/>
                <a:ext cx="261720" cy="10800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48040" y="2850840"/>
                <a:ext cx="45720" cy="108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80480" y="2806920"/>
                <a:ext cx="82800" cy="6012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376160" y="2828880"/>
                <a:ext cx="78840" cy="4896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45920" y="2793240"/>
                <a:ext cx="42840" cy="147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80480" y="2924640"/>
                <a:ext cx="280800" cy="14076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60840" y="2939760"/>
                <a:ext cx="82800" cy="12528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0560" y="2640240"/>
                <a:ext cx="310680" cy="38268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52120" y="2414520"/>
                <a:ext cx="171720" cy="25164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64720" y="2630520"/>
                <a:ext cx="124560" cy="2214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98280" y="2533680"/>
                <a:ext cx="19800" cy="5436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56440" y="2477520"/>
                <a:ext cx="56880" cy="48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479480" y="2462400"/>
                <a:ext cx="15480" cy="14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12240" y="2462400"/>
                <a:ext cx="15480" cy="21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49320" y="252792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37800" y="2544480"/>
                <a:ext cx="16920" cy="111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56440" y="2532240"/>
                <a:ext cx="31320" cy="7488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572360" y="2588040"/>
                <a:ext cx="16920" cy="439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06120" y="2630520"/>
                <a:ext cx="114480" cy="20916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34840" y="2638800"/>
                <a:ext cx="52920" cy="21024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553640" y="2746800"/>
                <a:ext cx="82800" cy="26352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6440" y="2399760"/>
                <a:ext cx="185760" cy="15408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7840" y="265248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69400" y="2693520"/>
                <a:ext cx="54000" cy="16776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08920" y="2746800"/>
                <a:ext cx="32760" cy="2336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61160" y="2964240"/>
                <a:ext cx="97200" cy="9684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41440" y="2689560"/>
                <a:ext cx="150120" cy="792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41440" y="2730240"/>
                <a:ext cx="150120" cy="122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41440" y="2757600"/>
                <a:ext cx="150120" cy="1512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141440" y="2789280"/>
                <a:ext cx="150120" cy="93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689200" y="3610440"/>
              <a:ext cx="835920" cy="587520"/>
              <a:chOff x="2689200" y="3610440"/>
              <a:chExt cx="835920" cy="587520"/>
            </a:xfrm>
          </p:grpSpPr>
          <p:sp>
            <p:nvSpPr>
              <p:cNvPr id="419" name=""/>
              <p:cNvSpPr/>
              <p:nvPr/>
            </p:nvSpPr>
            <p:spPr>
              <a:xfrm>
                <a:off x="2723400" y="4046400"/>
                <a:ext cx="293400" cy="1422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81760" y="3775680"/>
                <a:ext cx="131760" cy="5184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80680" y="3966840"/>
                <a:ext cx="197280" cy="16416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05640" y="3952080"/>
                <a:ext cx="469440" cy="11880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002760" y="3994560"/>
                <a:ext cx="326520" cy="13644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331800" y="3778200"/>
                <a:ext cx="87120" cy="21888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044160" y="3763080"/>
                <a:ext cx="289080" cy="7236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280680" y="3778200"/>
                <a:ext cx="61200" cy="25128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4160" y="3775680"/>
                <a:ext cx="261720" cy="254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74400" y="3797640"/>
                <a:ext cx="201600" cy="18540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923920" y="4021920"/>
                <a:ext cx="394920" cy="16956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008520" y="4035240"/>
                <a:ext cx="233280" cy="6696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9880" y="4066560"/>
                <a:ext cx="246240" cy="10656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476520" y="3994560"/>
                <a:ext cx="48600" cy="79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39760" y="3949200"/>
                <a:ext cx="78840" cy="5868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49840" y="3971160"/>
                <a:ext cx="71280" cy="4644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12840" y="3938400"/>
                <a:ext cx="41400" cy="1224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712240" y="3610440"/>
                <a:ext cx="208800" cy="19656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732040" y="3622320"/>
                <a:ext cx="174600" cy="37332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13760" y="368820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756520" y="3616920"/>
                <a:ext cx="125640" cy="691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89280" y="3745440"/>
                <a:ext cx="78840" cy="450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36800" y="3685320"/>
                <a:ext cx="14040" cy="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805120" y="3688200"/>
                <a:ext cx="11160" cy="10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89200" y="3837240"/>
                <a:ext cx="309240" cy="3142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55080" y="3826080"/>
                <a:ext cx="155880" cy="16812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29160" y="3928680"/>
                <a:ext cx="137160" cy="21204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05120" y="4107960"/>
                <a:ext cx="98640" cy="5724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36880" y="3899880"/>
                <a:ext cx="19800" cy="21996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880720" y="4089960"/>
                <a:ext cx="99000" cy="6552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24880" y="4107960"/>
                <a:ext cx="94320" cy="90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726280" y="4120200"/>
                <a:ext cx="5760" cy="60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76840" y="4127040"/>
                <a:ext cx="0" cy="54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105720" y="3834360"/>
                <a:ext cx="150120" cy="118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05720" y="3876480"/>
                <a:ext cx="150120" cy="111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105720" y="3908160"/>
                <a:ext cx="150120" cy="133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105720" y="3938400"/>
                <a:ext cx="150120" cy="108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random/>
    <p:sndAc>
      <p:stSnd>
        <p:snd r:embed="rId3" name="CAMERA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7-04-05T00:45:26Z</dcterms:modified>
  <cp:revision>1455</cp:revision>
  <dc:subject>中小建設業IT化概論</dc:subject>
  <dc:title>桃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