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camera.wav" ContentType="audio/x-wav"/>
  <Override PartName="/ppt/media/J0097487.WAV" ContentType="audio/x-wav"/>
  <Override PartName="/ppt/media/CAMERA.WAV" ContentType="audio/x-wav"/>
  <Override PartName="/ppt/media/image5.png" ContentType="image/pn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FDB2EB8-64B2-49B0-8EF7-40A7E08CFA4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6D4-03E5-4446-86C6-6E68FAB8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8E7-B0E1-4CFE-AFF5-36078E50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223-BCCA-4F22-B4B3-3DC60363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CBA-8FBF-4721-BE0A-17A3A723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F39-9920-41F5-87C9-9C6C834D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350-57F1-4B54-A2CA-61F3802B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5CC-11B7-4B91-9D0D-216790E3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8E0-D224-4C88-9BA0-CE7653C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9E1-7228-42A9-B4E3-3D37E6F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5AA-1742-4707-90D2-01A7C02B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1A1-C721-4B18-8B11-A54DDCB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D30-B522-45B7-B44D-D6A72BF1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A2F51223-0C44-415E-9EAA-641735F61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reillynet.com/pub/a/oreilly/tim/news/2005/09/30/what-is-web-20.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211640" y="2276640"/>
            <a:ext cx="4643640" cy="4020120"/>
            <a:chOff x="4211640" y="2276640"/>
            <a:chExt cx="4643640" cy="4020120"/>
          </a:xfrm>
        </p:grpSpPr>
        <p:grpSp>
          <p:nvGrpSpPr>
            <p:cNvPr id="50" name=""/>
            <p:cNvGrpSpPr/>
            <p:nvPr/>
          </p:nvGrpSpPr>
          <p:grpSpPr>
            <a:xfrm>
              <a:off x="4651920" y="2477880"/>
              <a:ext cx="4203360" cy="3818880"/>
              <a:chOff x="4651920" y="2477880"/>
              <a:chExt cx="4203360" cy="3818880"/>
            </a:xfrm>
          </p:grpSpPr>
          <p:sp>
            <p:nvSpPr>
              <p:cNvPr id="51" name=""/>
              <p:cNvSpPr/>
              <p:nvPr/>
            </p:nvSpPr>
            <p:spPr>
              <a:xfrm>
                <a:off x="7044120" y="5293440"/>
                <a:ext cx="179532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04080" y="5646960"/>
                <a:ext cx="13716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41080" y="5518440"/>
                <a:ext cx="109836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31000" y="5553360"/>
                <a:ext cx="107604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74280" y="4822200"/>
                <a:ext cx="98100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668080" y="4870080"/>
                <a:ext cx="15732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74280" y="4842720"/>
                <a:ext cx="86796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5000" y="4926960"/>
                <a:ext cx="68040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5880" y="2477880"/>
                <a:ext cx="247932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265080" y="4157640"/>
                <a:ext cx="42804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51920" y="2994120"/>
                <a:ext cx="107820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915520" y="2572920"/>
                <a:ext cx="121572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332320" y="3956040"/>
                <a:ext cx="47232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41480" y="5921280"/>
                <a:ext cx="144144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66640" y="5507640"/>
                <a:ext cx="50076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52360" y="5650200"/>
                <a:ext cx="133452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492960" y="5783760"/>
                <a:ext cx="27036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575760" y="5774760"/>
                <a:ext cx="21780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691320" y="5553360"/>
                <a:ext cx="127188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355160" y="6205320"/>
                <a:ext cx="61200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681240" y="5095080"/>
                <a:ext cx="71820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481080" y="5043960"/>
                <a:ext cx="49428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92960" y="5047920"/>
                <a:ext cx="48240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47320" y="5214240"/>
                <a:ext cx="14544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6000" y="5144400"/>
                <a:ext cx="10872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112880" y="5115600"/>
                <a:ext cx="28872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24120" y="5238000"/>
                <a:ext cx="4428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45480" y="5326200"/>
                <a:ext cx="8460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10920" y="5291280"/>
                <a:ext cx="5256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681240" y="5377320"/>
                <a:ext cx="40968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89960" y="5763960"/>
                <a:ext cx="66024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03760" y="5950800"/>
                <a:ext cx="867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995880" y="5164920"/>
                <a:ext cx="626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448040" y="6207120"/>
                <a:ext cx="50256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688800" y="5542200"/>
                <a:ext cx="18360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55760" y="5501880"/>
                <a:ext cx="37512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00000" y="5941800"/>
                <a:ext cx="20952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09520" y="5798880"/>
                <a:ext cx="68436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62640" y="5293440"/>
                <a:ext cx="58716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5520" y="5608080"/>
                <a:ext cx="16920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97040" y="5599080"/>
                <a:ext cx="11304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33040" y="5666760"/>
                <a:ext cx="16128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03920" y="5419440"/>
                <a:ext cx="15336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15800" y="5434200"/>
                <a:ext cx="1432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5080" y="5445360"/>
                <a:ext cx="38772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78280" y="5666760"/>
                <a:ext cx="131868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65560" y="5969160"/>
                <a:ext cx="75492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22720" y="5529240"/>
                <a:ext cx="14904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6560" y="4122720"/>
                <a:ext cx="84600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69560" y="3479760"/>
                <a:ext cx="238104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720320" y="3161160"/>
                <a:ext cx="236412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44680" y="5688720"/>
                <a:ext cx="78732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06440" y="5877360"/>
                <a:ext cx="28656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12040" y="5948640"/>
                <a:ext cx="131220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440480" y="6029280"/>
                <a:ext cx="103140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52120" y="5013000"/>
                <a:ext cx="53892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52120" y="5104440"/>
                <a:ext cx="42552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52120" y="5205240"/>
                <a:ext cx="42552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52120" y="5320800"/>
                <a:ext cx="42552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211640" y="2276640"/>
              <a:ext cx="1199160" cy="968760"/>
              <a:chOff x="4211640" y="2276640"/>
              <a:chExt cx="1199160" cy="96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4938480" y="3053160"/>
                <a:ext cx="885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70520" y="3036600"/>
                <a:ext cx="41184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63560" y="3018240"/>
                <a:ext cx="12060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75440" y="2485080"/>
                <a:ext cx="18936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78240" y="2747160"/>
                <a:ext cx="28872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82560" y="2737800"/>
                <a:ext cx="6944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98560" y="2800080"/>
                <a:ext cx="48240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62840" y="2486880"/>
                <a:ext cx="12888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88480" y="2472480"/>
                <a:ext cx="42552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80200" y="2486880"/>
                <a:ext cx="8460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30600" y="2485080"/>
                <a:ext cx="38340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74880" y="2523600"/>
                <a:ext cx="29880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12240" y="2838960"/>
                <a:ext cx="57924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23480" y="2855160"/>
                <a:ext cx="35316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23480" y="2891520"/>
                <a:ext cx="36108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11640" y="2800080"/>
                <a:ext cx="6480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56840" y="2737800"/>
                <a:ext cx="11484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54320" y="2750760"/>
                <a:ext cx="10116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06080" y="2723400"/>
                <a:ext cx="6084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35320" y="2364120"/>
                <a:ext cx="21960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928400" y="2671920"/>
                <a:ext cx="48240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2520" y="2276640"/>
                <a:ext cx="41148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73480" y="2657520"/>
                <a:ext cx="16956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87520" y="2435400"/>
                <a:ext cx="7452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87520" y="2428560"/>
                <a:ext cx="1800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46200" y="2424600"/>
                <a:ext cx="1980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56280" y="252180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180760" y="250164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46200" y="2355120"/>
                <a:ext cx="16308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67520" y="2810880"/>
                <a:ext cx="5616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87080" y="2787480"/>
                <a:ext cx="2196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22680" y="2943000"/>
                <a:ext cx="13680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92000" y="3174120"/>
                <a:ext cx="2196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232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7052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19520" y="2566080"/>
                <a:ext cx="20988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19520" y="2618640"/>
                <a:ext cx="20988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19520" y="2666520"/>
                <a:ext cx="20988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19520" y="2702880"/>
                <a:ext cx="20988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338160" y="2344320"/>
              <a:ext cx="1203120" cy="891360"/>
              <a:chOff x="6338160" y="2344320"/>
              <a:chExt cx="1203120" cy="891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499800" y="2633760"/>
                <a:ext cx="19764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06560" y="2912040"/>
                <a:ext cx="29484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08360" y="2895120"/>
                <a:ext cx="70452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33000" y="2948400"/>
                <a:ext cx="48240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93320" y="2637360"/>
                <a:ext cx="12708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14640" y="2620800"/>
                <a:ext cx="43632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606360" y="2637360"/>
                <a:ext cx="9288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50640" y="2633760"/>
                <a:ext cx="39996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9320" y="2677680"/>
                <a:ext cx="29484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44880" y="2994120"/>
                <a:ext cx="57960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56120" y="3007080"/>
                <a:ext cx="35712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51800" y="3056400"/>
                <a:ext cx="36936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38160" y="2948400"/>
                <a:ext cx="6444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9120" y="2889720"/>
                <a:ext cx="11700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3000" y="2919240"/>
                <a:ext cx="11124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40520" y="2871720"/>
                <a:ext cx="6084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89120" y="3047400"/>
                <a:ext cx="39600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43640" y="3067560"/>
                <a:ext cx="11700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03160" y="2666520"/>
                <a:ext cx="43812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90280" y="2364120"/>
                <a:ext cx="24192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07920" y="2653560"/>
                <a:ext cx="17568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96200" y="2523600"/>
                <a:ext cx="2772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96040" y="2448360"/>
                <a:ext cx="8028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28440" y="2428560"/>
                <a:ext cx="2196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74880" y="2428560"/>
                <a:ext cx="2196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27440" y="2516040"/>
                <a:ext cx="1764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10880" y="2538000"/>
                <a:ext cx="2412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96040" y="2521800"/>
                <a:ext cx="4428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59480" y="259668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266600" y="2653560"/>
                <a:ext cx="16164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65800" y="2664720"/>
                <a:ext cx="7452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33560" y="2809440"/>
                <a:ext cx="11700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96040" y="2344320"/>
                <a:ext cx="26208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54720" y="2683080"/>
                <a:ext cx="6012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4400" y="2737800"/>
                <a:ext cx="7632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29080" y="2809440"/>
                <a:ext cx="4644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38760" y="3100320"/>
                <a:ext cx="13716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51800" y="2732400"/>
                <a:ext cx="21168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51800" y="2787120"/>
                <a:ext cx="21168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51800" y="2823840"/>
                <a:ext cx="21168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51800" y="2866320"/>
                <a:ext cx="21168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704120" y="3965400"/>
              <a:ext cx="1178640" cy="786960"/>
              <a:chOff x="4704120" y="3965400"/>
              <a:chExt cx="1178640" cy="78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4752360" y="4548960"/>
                <a:ext cx="41364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40040" y="4186440"/>
                <a:ext cx="18576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37880" y="4442760"/>
                <a:ext cx="27828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50160" y="4422960"/>
                <a:ext cx="66168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6200" y="4479840"/>
                <a:ext cx="4604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10240" y="4190400"/>
                <a:ext cx="12312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204880" y="4169880"/>
                <a:ext cx="40788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37880" y="4190400"/>
                <a:ext cx="8640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04880" y="4186440"/>
                <a:ext cx="36936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47360" y="4215960"/>
                <a:ext cx="28404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35320" y="4516200"/>
                <a:ext cx="55692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54480" y="4534560"/>
                <a:ext cx="32904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41880" y="4576320"/>
                <a:ext cx="34740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14360" y="4479840"/>
                <a:ext cx="6840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57280" y="4419000"/>
                <a:ext cx="11124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071680" y="4448520"/>
                <a:ext cx="10044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60240" y="4404600"/>
                <a:ext cx="5832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36520" y="3965400"/>
                <a:ext cx="29448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64960" y="3981240"/>
                <a:ext cx="24624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9800" y="4069440"/>
                <a:ext cx="6660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99160" y="3974400"/>
                <a:ext cx="17748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45240" y="4146120"/>
                <a:ext cx="11124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912200" y="4065840"/>
                <a:ext cx="1980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7920" y="4069440"/>
                <a:ext cx="158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04120" y="4269240"/>
                <a:ext cx="43596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97000" y="4254120"/>
                <a:ext cx="21996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60640" y="4391640"/>
                <a:ext cx="19332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867920" y="4631760"/>
                <a:ext cx="13896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53320" y="4353120"/>
                <a:ext cx="2808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480" y="4607640"/>
                <a:ext cx="13932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59400" y="4631760"/>
                <a:ext cx="13320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756680" y="4647960"/>
                <a:ext cx="792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0984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91640" y="4265280"/>
                <a:ext cx="2116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91640" y="4321800"/>
                <a:ext cx="21168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91640" y="4364280"/>
                <a:ext cx="21168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91640" y="4404600"/>
                <a:ext cx="21168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8428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2.0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と建設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200" y="4997520"/>
            <a:ext cx="53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第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回合同勉強会＠三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3149280"/>
            <a:ext cx="8748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グーグルの売上高・純益、過去最高…１―３月期</a:t>
            </a:r>
            <a:br>
              <a:rPr sz="2800"/>
            </a:br>
            <a:br>
              <a:rPr sz="2400"/>
            </a:b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【ラファイエット（米インディアナ州）＝小山守生】インターネット検索世界最大手の米グーグルが１９日発表した１～３月期決算は、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純利益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が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１０億２１６万ドル（約１１８７億円）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で、前年同期比の１・７倍に増えた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　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売上高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は１・６倍の</a:t>
            </a:r>
            <a:r>
              <a:rPr b="0" lang="zh-CN" sz="2400" spc="-1" strike="noStrike">
                <a:solidFill>
                  <a:srgbClr val="fc2e18"/>
                </a:solidFill>
                <a:latin typeface="HGPﾌﾞｰｹ"/>
              </a:rPr>
              <a:t>３６億６３９７万ドル（約４３４１億円）</a:t>
            </a: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となり、純利益、売上高ともに１～３月期として過去最高だった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4a"/>
                </a:solidFill>
                <a:latin typeface="HGPﾌﾞｰｹ"/>
              </a:rPr>
              <a:t>　ネット検索のキーワードに関連した広告を表示する「検索連動型広告」の収入が日本や西欧などで大幅に伸びた。地図検索などキーワード検索以外のサービスを拡充したことが、サイト利用者の増大に寄与した。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</a:rPr>
              <a:t>- </a:t>
            </a:r>
            <a:r>
              <a:rPr b="0" lang="zh-CN" sz="1800" spc="-1" strike="noStrike">
                <a:solidFill>
                  <a:srgbClr val="00004a"/>
                </a:solidFill>
                <a:latin typeface="HGPﾌﾞｰｹ"/>
              </a:rPr>
              <a:t>読売新聞 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</a:rPr>
              <a:t>[04/20(</a:t>
            </a:r>
            <a:r>
              <a:rPr b="0" lang="zh-CN" sz="1800" spc="-1" strike="noStrike">
                <a:solidFill>
                  <a:srgbClr val="00004a"/>
                </a:solidFill>
                <a:latin typeface="HGPﾌﾞｰｹ"/>
              </a:rPr>
              <a:t>金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</a:rPr>
              <a:t>) 11:07]</a:t>
            </a:r>
            <a:br>
              <a:rPr sz="2400"/>
            </a:br>
            <a:endParaRPr b="0" lang="en-US" sz="1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HGPﾌﾞｰｹ"/>
              </a:rPr>
              <a:t>無料経済</a:t>
            </a:r>
            <a:endParaRPr b="0" lang="en-US" sz="8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限定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58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4720" y="1254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交換（贈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364500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経済的交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交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贈与／交換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Pﾌﾞｰｹ"/>
              </a:rPr>
              <a:t>Google</a:t>
            </a: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〈贈与／交換〉の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バイナリーコードでは</a:t>
            </a:r>
            <a:br>
              <a:rPr sz="6000"/>
            </a:b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とらえきれない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920" y="177300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バイナリーコード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（二項対立）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65" name=""/>
          <p:cNvSpPr/>
          <p:nvPr/>
        </p:nvSpPr>
        <p:spPr>
          <a:xfrm>
            <a:off x="1546200" y="350028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白／黒〉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46200" y="487512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</a:t>
            </a:r>
            <a:r>
              <a:rPr b="0" lang="en-US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0</a:t>
            </a: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</a:t>
            </a: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〉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47200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025720" y="4997520"/>
            <a:ext cx="26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61080" y="4997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269388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人間の行うバイナリー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2" name=""/>
          <p:cNvSpPr/>
          <p:nvPr/>
        </p:nvSpPr>
        <p:spPr>
          <a:xfrm>
            <a:off x="2484360" y="112536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根源的未規定性を孕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水であるかないか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74" name=""/>
          <p:cNvSpPr/>
          <p:nvPr/>
        </p:nvSpPr>
        <p:spPr>
          <a:xfrm>
            <a:off x="2619360" y="206064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90188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92360" y="3645000"/>
            <a:ext cx="24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透明で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透明であるか／透明でないか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水であるかないか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1916280"/>
            <a:ext cx="4184640" cy="396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93880" y="1917720"/>
            <a:ext cx="4319640" cy="3960720"/>
          </a:xfrm>
          <a:prstGeom prst="ellipse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2440" y="36464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水では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16440" y="3575160"/>
            <a:ext cx="115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32080" y="537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透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00800" y="530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56080" y="35751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水では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1197000"/>
            <a:ext cx="8064720" cy="532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1830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62064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透明であるか／透明でないか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1640" y="1120680"/>
            <a:ext cx="80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無臭であるか／無臭でないか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" y="270000"/>
            <a:ext cx="8964720" cy="85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HGPﾌﾞｰｹ"/>
              </a:rPr>
              <a:t>お湯か／水か</a:t>
            </a:r>
            <a:endParaRPr b="0" lang="en-US" sz="7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3036960"/>
            <a:ext cx="882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〈熱い／熱くない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119640" cy="5540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025720" y="436572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透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61080" y="4365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92360" y="20462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熱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907920"/>
            <a:ext cx="8569080" cy="57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98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液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2360" y="357336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56000" y="46054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10</a:t>
            </a: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年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619280" y="1128600"/>
            <a:ext cx="6048360" cy="5540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697040" y="4325760"/>
            <a:ext cx="27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純粋贈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78600" y="439092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9160" y="204948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贈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20480" y="4437000"/>
            <a:ext cx="911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328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純生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3236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HGP明朝B"/>
              </a:rPr>
              <a:t>商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08000" y="765000"/>
            <a:ext cx="5759640" cy="54007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982880" y="3881520"/>
            <a:ext cx="265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土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自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97400" y="3944880"/>
            <a:ext cx="1882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2360" y="1663560"/>
            <a:ext cx="24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農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31600" y="4005360"/>
            <a:ext cx="60696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2852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2924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8" name=""/>
          <p:cNvSpPr/>
          <p:nvPr/>
        </p:nvSpPr>
        <p:spPr>
          <a:xfrm>
            <a:off x="108000" y="1268280"/>
            <a:ext cx="3552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贈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256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565164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1442880" y="841320"/>
            <a:ext cx="6441840" cy="5972040"/>
            <a:chOff x="1442880" y="841320"/>
            <a:chExt cx="6441840" cy="597204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1442880" y="841320"/>
              <a:ext cx="6441840" cy="59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526400" y="4287600"/>
              <a:ext cx="296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br>
                <a:rPr sz="2800"/>
              </a:b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（自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34400" y="4358160"/>
              <a:ext cx="2106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96520" y="1833840"/>
              <a:ext cx="277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325400" y="4221000"/>
            <a:ext cx="6069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32000" y="31258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純生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3141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31" name=""/>
          <p:cNvSpPr/>
          <p:nvPr/>
        </p:nvSpPr>
        <p:spPr>
          <a:xfrm>
            <a:off x="2124000" y="276552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アドセン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1979640" y="907920"/>
            <a:ext cx="5832000" cy="5329080"/>
            <a:chOff x="1979640" y="907920"/>
            <a:chExt cx="5832000" cy="532908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1979640" y="907920"/>
              <a:ext cx="5832000" cy="53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055240" y="3983400"/>
              <a:ext cx="26874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共同体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（自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12240" y="4046040"/>
              <a:ext cx="19065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57960" y="1793880"/>
              <a:ext cx="25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建設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612680" y="3789360"/>
            <a:ext cx="6069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資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29242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純生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4836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HGPﾌﾞｰｹ"/>
              </a:rPr>
              <a:t>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建設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41" name=""/>
          <p:cNvSpPr/>
          <p:nvPr/>
        </p:nvSpPr>
        <p:spPr>
          <a:xfrm>
            <a:off x="155520" y="90792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贈与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建設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2631960"/>
            <a:ext cx="81612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640" y="321264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800" spc="-1" strike="noStrike">
                <a:solidFill>
                  <a:srgbClr val="00004a"/>
                </a:solidFill>
                <a:latin typeface="HGPﾌﾞｰｹ"/>
              </a:rPr>
              <a:t>コミュニケーション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00004a"/>
                </a:solidFill>
                <a:latin typeface="HGPﾌﾞｰｹ"/>
              </a:rPr>
              <a:t>〈情報／伝達〉の差異の理解</a:t>
            </a:r>
            <a:br>
              <a:rPr sz="4800"/>
            </a:br>
            <a:br>
              <a:rPr sz="4800"/>
            </a:br>
            <a:r>
              <a:rPr b="0" lang="zh-CN" sz="2800" spc="-1" strike="noStrike">
                <a:solidFill>
                  <a:srgbClr val="00004a"/>
                </a:solidFill>
                <a:latin typeface="HGPﾌﾞｰｹ"/>
              </a:rPr>
              <a:t>（ニクラス・ルーマン）</a:t>
            </a:r>
            <a:endParaRPr b="0" lang="en-US" sz="2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7080" y="270792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情報を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発信すること！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9440" y="2491920"/>
            <a:ext cx="752292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インターネットの精神文化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自発性（ボランティア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草の根（グラスルーツ）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開放系（オープン） 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350028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6021000"/>
            <a:ext cx="417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40160" y="1298520"/>
            <a:ext cx="25354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12320" y="1413000"/>
            <a:ext cx="60696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／ウェ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640" y="169992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40053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／</a:t>
            </a:r>
            <a:r>
              <a:rPr b="0" lang="en-US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化する現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ﾌﾞｰｹ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49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497600" y="6531120"/>
            <a:ext cx="6139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a000"/>
                </a:solidFill>
                <a:uFillTx/>
                <a:latin typeface="HGP明朝B"/>
                <a:ea typeface="HGP明朝B"/>
                <a:hlinkClick r:id="rId2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ﾌﾞｰｹ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52" name=""/>
          <p:cNvSpPr/>
          <p:nvPr/>
        </p:nvSpPr>
        <p:spPr>
          <a:xfrm>
            <a:off x="2340360" y="276840"/>
            <a:ext cx="446328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戦略姿勢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はプラットフォームとな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ユーザ姿勢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自分の情報は自分でコントロールす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ア・コンピタンス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サービス、パッケージソフトじゃないのよ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参加型アーキテクチ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対費用効果のあるスケーラビリティ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リミックス可能なデータソースとその可変性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利用可能なデバイスの多様性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・集合的知性の活用、つまり群集の叡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920" y="270792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あれば便利だなと思うものが</a:t>
            </a:r>
            <a:r>
              <a:rPr b="0" lang="en-US" sz="5400" spc="-1" strike="noStrike">
                <a:solidFill>
                  <a:srgbClr val="000000"/>
                </a:solidFill>
                <a:latin typeface="HGPﾌﾞｰｹ"/>
              </a:rPr>
              <a:t>Web</a:t>
            </a:r>
            <a:r>
              <a:rPr b="0" lang="zh-CN" sz="5400" spc="-1" strike="noStrike">
                <a:solidFill>
                  <a:srgbClr val="000000"/>
                </a:solidFill>
                <a:latin typeface="HGPﾌﾞｰｹ"/>
              </a:rPr>
              <a:t>にある。それも無償で。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桃知利男</dc:creator>
  <dc:description/>
  <dc:language>en-US</dc:language>
  <cp:lastModifiedBy>桃知利男</cp:lastModifiedBy>
  <cp:lastPrinted>1999-08-20T13:59:28Z</cp:lastPrinted>
  <dcterms:modified xsi:type="dcterms:W3CDTF">2007-04-20T21:51:25Z</dcterms:modified>
  <cp:revision>1486</cp:revision>
  <dc:subject>Web2.0と建設業</dc:subject>
  <dc:title>Being Digit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