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0094266-DAAA-49E5-9D2D-A080A4971D7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F65-DAF3-4B5F-B2DB-DAFDC452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958-4E71-4F27-9324-6D4027B4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1D8-4912-459B-8BB0-5249D84D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E75-1BA9-4D60-A3D1-4E5A1028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509-B018-4CEE-9C98-653407A0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E2F-566E-4469-BCBD-CBB4494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062-0169-4F55-BEFC-A986BA0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292-793B-478D-8CF3-87353FA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EBA-FEDC-458C-AAAF-FC8EEE9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83F-067F-4684-98A0-9C4D1ADE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923-CA56-4A02-9663-9693B2C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555-688B-4D73-8C4C-8C5BF56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860F8145-5A95-482E-91DA-8B414188B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reillynet.com/pub/a/oreilly/tim/news/2005/09/30/what-is-web-20.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211640" y="2276640"/>
            <a:ext cx="4643640" cy="4020120"/>
            <a:chOff x="4211640" y="2276640"/>
            <a:chExt cx="464364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651920" y="2477880"/>
              <a:ext cx="4203360" cy="3818880"/>
              <a:chOff x="4651920" y="2477880"/>
              <a:chExt cx="42033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7044120" y="5293440"/>
                <a:ext cx="179532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04080" y="5646960"/>
                <a:ext cx="13716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41080" y="5518440"/>
                <a:ext cx="109836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31000" y="5553360"/>
                <a:ext cx="10760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74280" y="4822200"/>
                <a:ext cx="98100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668080" y="4870080"/>
                <a:ext cx="1573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74280" y="4842720"/>
                <a:ext cx="86796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5000" y="4926960"/>
                <a:ext cx="68040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5880" y="2477880"/>
                <a:ext cx="24793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65080" y="4157640"/>
                <a:ext cx="42804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51920" y="2994120"/>
                <a:ext cx="10782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15520" y="2572920"/>
                <a:ext cx="121572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32320" y="3956040"/>
                <a:ext cx="4723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41480" y="5921280"/>
                <a:ext cx="144144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66640" y="5507640"/>
                <a:ext cx="50076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52360" y="5650200"/>
                <a:ext cx="133452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92960" y="5783760"/>
                <a:ext cx="27036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75760" y="5774760"/>
                <a:ext cx="21780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691320" y="5553360"/>
                <a:ext cx="127188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55160" y="6205320"/>
                <a:ext cx="61200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81240" y="5095080"/>
                <a:ext cx="71820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81080" y="5043960"/>
                <a:ext cx="49428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92960" y="5047920"/>
                <a:ext cx="48240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47320" y="5214240"/>
                <a:ext cx="14544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6000" y="5144400"/>
                <a:ext cx="10872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12880" y="5115600"/>
                <a:ext cx="28872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24120" y="5238000"/>
                <a:ext cx="4428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45480" y="5326200"/>
                <a:ext cx="8460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10920" y="5291280"/>
                <a:ext cx="5256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681240" y="5377320"/>
                <a:ext cx="40968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89960" y="5763960"/>
                <a:ext cx="66024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03760" y="5950800"/>
                <a:ext cx="867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95880" y="5164920"/>
                <a:ext cx="626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448040" y="6207120"/>
                <a:ext cx="50256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688800" y="5542200"/>
                <a:ext cx="18360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55760" y="5501880"/>
                <a:ext cx="37512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00000" y="5941800"/>
                <a:ext cx="20952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09520" y="5798880"/>
                <a:ext cx="68436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2640" y="5293440"/>
                <a:ext cx="58716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5520" y="5608080"/>
                <a:ext cx="16920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97040" y="5599080"/>
                <a:ext cx="11304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33040" y="5666760"/>
                <a:ext cx="1612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03920" y="5419440"/>
                <a:ext cx="1533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15800" y="5434200"/>
                <a:ext cx="1432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5080" y="5445360"/>
                <a:ext cx="387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78280" y="5666760"/>
                <a:ext cx="13186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65560" y="5969160"/>
                <a:ext cx="75492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22720" y="5529240"/>
                <a:ext cx="14904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6560" y="4122720"/>
                <a:ext cx="84600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69560" y="3479760"/>
                <a:ext cx="238104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20320" y="3161160"/>
                <a:ext cx="236412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44680" y="5688720"/>
                <a:ext cx="78732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06440" y="5877360"/>
                <a:ext cx="28656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12040" y="5948640"/>
                <a:ext cx="13122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40480" y="6029280"/>
                <a:ext cx="103140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52120" y="5013000"/>
                <a:ext cx="5389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52120" y="5104440"/>
                <a:ext cx="42552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52120" y="5205240"/>
                <a:ext cx="42552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52120" y="5320800"/>
                <a:ext cx="42552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211640" y="2276640"/>
              <a:ext cx="1199160" cy="968760"/>
              <a:chOff x="4211640" y="2276640"/>
              <a:chExt cx="119916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938480" y="3053160"/>
                <a:ext cx="885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70520" y="3036600"/>
                <a:ext cx="41184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63560" y="3018240"/>
                <a:ext cx="12060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75440" y="2485080"/>
                <a:ext cx="18936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78240" y="2747160"/>
                <a:ext cx="28872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82560" y="2737800"/>
                <a:ext cx="6944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98560" y="2800080"/>
                <a:ext cx="48240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62840" y="2486880"/>
                <a:ext cx="12888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88480" y="2472480"/>
                <a:ext cx="42552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80200" y="2486880"/>
                <a:ext cx="8460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0600" y="2485080"/>
                <a:ext cx="38340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74880" y="2523600"/>
                <a:ext cx="29880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12240" y="2838960"/>
                <a:ext cx="57924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23480" y="2855160"/>
                <a:ext cx="35316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23480" y="2891520"/>
                <a:ext cx="36108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11640" y="2800080"/>
                <a:ext cx="6480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6840" y="2737800"/>
                <a:ext cx="11484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54320" y="2750760"/>
                <a:ext cx="10116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06080" y="2723400"/>
                <a:ext cx="6084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35320" y="2364120"/>
                <a:ext cx="21960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28400" y="2671920"/>
                <a:ext cx="48240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2520" y="2276640"/>
                <a:ext cx="41148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3480" y="2657520"/>
                <a:ext cx="16956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87520" y="2435400"/>
                <a:ext cx="745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87520" y="2428560"/>
                <a:ext cx="1800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46200" y="2424600"/>
                <a:ext cx="1980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56280" y="252180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80760" y="250164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200" y="2355120"/>
                <a:ext cx="1630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67520" y="2810880"/>
                <a:ext cx="5616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87080" y="2787480"/>
                <a:ext cx="2196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22680" y="2943000"/>
                <a:ext cx="13680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92000" y="3174120"/>
                <a:ext cx="2196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232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70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19520" y="2566080"/>
                <a:ext cx="20988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19520" y="2618640"/>
                <a:ext cx="20988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19520" y="2666520"/>
                <a:ext cx="20988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19520" y="2702880"/>
                <a:ext cx="20988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338160" y="2344320"/>
              <a:ext cx="1203120" cy="891360"/>
              <a:chOff x="6338160" y="2344320"/>
              <a:chExt cx="120312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499800" y="2633760"/>
                <a:ext cx="19764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06560" y="2912040"/>
                <a:ext cx="29484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08360" y="2895120"/>
                <a:ext cx="70452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33000" y="2948400"/>
                <a:ext cx="48240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93320" y="2637360"/>
                <a:ext cx="12708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14640" y="2620800"/>
                <a:ext cx="43632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06360" y="2637360"/>
                <a:ext cx="9288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50640" y="2633760"/>
                <a:ext cx="39996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9320" y="2677680"/>
                <a:ext cx="29484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44880" y="2994120"/>
                <a:ext cx="57960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56120" y="3007080"/>
                <a:ext cx="35712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51800" y="3056400"/>
                <a:ext cx="36936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38160" y="294840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9120" y="2889720"/>
                <a:ext cx="11700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3000" y="2919240"/>
                <a:ext cx="11124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40520" y="2871720"/>
                <a:ext cx="6084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9120" y="3047400"/>
                <a:ext cx="39600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43640" y="3067560"/>
                <a:ext cx="11700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03160" y="2666520"/>
                <a:ext cx="43812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90280" y="2364120"/>
                <a:ext cx="2419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07920" y="2653560"/>
                <a:ext cx="17568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96200" y="2523600"/>
                <a:ext cx="2772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96040" y="2448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28440" y="2428560"/>
                <a:ext cx="2196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74880" y="2428560"/>
                <a:ext cx="2196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27440" y="251604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10880" y="2538000"/>
                <a:ext cx="2412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96040" y="2521800"/>
                <a:ext cx="4428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9480" y="259668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66600" y="2653560"/>
                <a:ext cx="16164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65800" y="2664720"/>
                <a:ext cx="745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3560" y="2809440"/>
                <a:ext cx="11700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96040" y="2344320"/>
                <a:ext cx="26208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54720" y="2683080"/>
                <a:ext cx="6012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4400" y="2737800"/>
                <a:ext cx="763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29080" y="2809440"/>
                <a:ext cx="4644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8760" y="3100320"/>
                <a:ext cx="13716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51800" y="2732400"/>
                <a:ext cx="21168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51800" y="2787120"/>
                <a:ext cx="21168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51800" y="2823840"/>
                <a:ext cx="21168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51800" y="2866320"/>
                <a:ext cx="21168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04120" y="3965400"/>
              <a:ext cx="1178640" cy="786960"/>
              <a:chOff x="4704120" y="3965400"/>
              <a:chExt cx="1178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752360" y="4548960"/>
                <a:ext cx="41364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40040" y="4186440"/>
                <a:ext cx="18576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37880" y="4442760"/>
                <a:ext cx="27828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50160" y="4422960"/>
                <a:ext cx="66168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6200" y="4479840"/>
                <a:ext cx="4604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10240" y="4190400"/>
                <a:ext cx="12312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04880" y="4169880"/>
                <a:ext cx="40788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37880" y="4190400"/>
                <a:ext cx="8640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04880" y="4186440"/>
                <a:ext cx="36936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47360" y="4215960"/>
                <a:ext cx="28404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35320" y="4516200"/>
                <a:ext cx="55692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54480" y="4534560"/>
                <a:ext cx="32904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1880" y="4576320"/>
                <a:ext cx="34740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4360" y="4479840"/>
                <a:ext cx="6840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57280" y="4419000"/>
                <a:ext cx="11124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71680" y="4448520"/>
                <a:ext cx="10044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60240" y="4404600"/>
                <a:ext cx="5832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36520" y="3965400"/>
                <a:ext cx="29448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64960" y="3981240"/>
                <a:ext cx="24624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9800" y="4069440"/>
                <a:ext cx="6660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99160" y="3974400"/>
                <a:ext cx="17748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45240" y="4146120"/>
                <a:ext cx="11124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912200" y="4065840"/>
                <a:ext cx="1980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7920" y="4069440"/>
                <a:ext cx="158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04120" y="4269240"/>
                <a:ext cx="43596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97000" y="4254120"/>
                <a:ext cx="21996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60640" y="4391640"/>
                <a:ext cx="19332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67920" y="4631760"/>
                <a:ext cx="13896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53320" y="4353120"/>
                <a:ext cx="2808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480" y="4607640"/>
                <a:ext cx="13932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59400" y="4631760"/>
                <a:ext cx="13320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7566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0984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91640" y="4265280"/>
                <a:ext cx="2116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91640" y="4321800"/>
                <a:ext cx="21168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91640" y="4364280"/>
                <a:ext cx="21168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91640" y="4404600"/>
                <a:ext cx="21168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84280"/>
            <a:ext cx="866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個人の活性化―人材と技術―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4997520"/>
            <a:ext cx="53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５･１６　葉月会勉強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19280" y="1128600"/>
            <a:ext cx="6048360" cy="5540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697040" y="4325760"/>
            <a:ext cx="27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純粋贈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78600" y="439092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9160" y="20494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0480" y="4437000"/>
            <a:ext cx="911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48000" y="32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純生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2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759640" cy="5400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982880" y="3881520"/>
            <a:ext cx="265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土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自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7400" y="3944880"/>
            <a:ext cx="1882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166356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農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31600" y="4005360"/>
            <a:ext cx="606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85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03640" y="292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63" name=""/>
          <p:cNvSpPr/>
          <p:nvPr/>
        </p:nvSpPr>
        <p:spPr>
          <a:xfrm>
            <a:off x="108000" y="1268280"/>
            <a:ext cx="3552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79640" y="256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1609560" y="981000"/>
            <a:ext cx="6130800" cy="5832360"/>
            <a:chOff x="1609560" y="981000"/>
            <a:chExt cx="6130800" cy="583236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609560" y="981000"/>
              <a:ext cx="613080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89120" y="4347000"/>
              <a:ext cx="282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（自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7840" y="4415400"/>
              <a:ext cx="2004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73920" y="1950480"/>
              <a:ext cx="26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325400" y="4221000"/>
            <a:ext cx="606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1258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141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6" name=""/>
          <p:cNvSpPr/>
          <p:nvPr/>
        </p:nvSpPr>
        <p:spPr>
          <a:xfrm>
            <a:off x="6119640" y="2565360"/>
            <a:ext cx="21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アドセン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66764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個人の活性化は個人だけでは絶対にできない。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640" y="2707920"/>
            <a:ext cx="7632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贈与的なものが必要なのである。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36720" y="1401840"/>
            <a:ext cx="5688000" cy="5340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697040" y="4611600"/>
            <a:ext cx="27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ッカ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78600" y="467676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9160" y="1917720"/>
            <a:ext cx="26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エンジェル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V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20480" y="4581360"/>
            <a:ext cx="911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34304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純生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560" y="287280"/>
            <a:ext cx="8893080" cy="76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個人を活かすには贈与的なものが不可欠である。</a:t>
            </a:r>
            <a:br>
              <a:rPr sz="3200"/>
            </a:br>
            <a:r>
              <a:rPr b="0" lang="en-US" sz="32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的企業モデル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632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それを支えるものとしての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</a:rPr>
              <a:t>Radical Trust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208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</a:rPr>
              <a:t>日本人はアメリカ人よりも人を信頼しない。</a:t>
            </a:r>
            <a:br>
              <a:rPr sz="6600"/>
            </a:br>
            <a:br>
              <a:rPr sz="6600"/>
            </a:b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</a:rPr>
              <a:t>By 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山岸俊男）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ﾌﾞｰｹ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90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497600" y="6531120"/>
            <a:ext cx="613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a000"/>
                </a:solidFill>
                <a:uFillTx/>
                <a:latin typeface="HGP明朝B"/>
                <a:ea typeface="HGP明朝B"/>
                <a:hlinkClick r:id="rId2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632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日本人は信頼の担保を外部装置として構築してきた。→共同体性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632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HGPﾌﾞｰｹ"/>
              </a:rPr>
              <a:t>葉月会</a:t>
            </a:r>
            <a:endParaRPr b="0" lang="en-US" sz="14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832720" cy="5329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171880" y="3789360"/>
            <a:ext cx="268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共同体性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自然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地域社会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会員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3160" y="4191120"/>
            <a:ext cx="19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28880" y="193824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葉月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2680" y="3789360"/>
            <a:ext cx="606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6560" y="29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葉月会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02" name=""/>
          <p:cNvSpPr/>
          <p:nvPr/>
        </p:nvSpPr>
        <p:spPr>
          <a:xfrm>
            <a:off x="155520" y="90792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葉月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79640" y="2631960"/>
            <a:ext cx="81612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632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そんな葉月会のための、ちょっとしたヒントとしての浅草グルメマップ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それも無償で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無料経済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の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純粋贈与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しかし</a:t>
            </a: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は企業である。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3149280"/>
            <a:ext cx="8748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グーグルの売上高・純益、過去最高…１―３月期</a:t>
            </a:r>
            <a:br>
              <a:rPr sz="28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【ラファイエット（米インディアナ州）＝小山守生】インターネット検索世界最大手の米グーグルが１９日発表した１～３月期決算は、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純利益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が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１０億２１６万ドル（約１１８７億円）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で、前年同期比の１・７倍に増えた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　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売上高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は１・６倍の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３６億６３９７万ドル（約４３４１億円）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となり、純利益、売上高ともに１～３月期として過去最高だった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　ネット検索のキーワードに関連した広告を表示する「検索連動型広告」の収入が日本や西欧などで大幅に伸びた。地図検索などキーワード検索以外のサービスを拡充したことが、サイト利用者の増大に寄与した。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- </a:t>
            </a:r>
            <a:r>
              <a:rPr b="0" lang="zh-CN" sz="1800" spc="-1" strike="noStrike">
                <a:solidFill>
                  <a:srgbClr val="00004a"/>
                </a:solidFill>
                <a:latin typeface="HGPﾌﾞｰｹ"/>
              </a:rPr>
              <a:t>読売新聞 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[04/20(</a:t>
            </a:r>
            <a:r>
              <a:rPr b="0" lang="zh-CN" sz="1800" spc="-1" strike="noStrike">
                <a:solidFill>
                  <a:srgbClr val="00004a"/>
                </a:solidFill>
                <a:latin typeface="HGPﾌﾞｰｹ"/>
              </a:rPr>
              <a:t>金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) 11:07]</a:t>
            </a:r>
            <a:br>
              <a:rPr sz="2400"/>
            </a:br>
            <a:endParaRPr b="0" lang="en-US" sz="1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ない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2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5-16T23:16:28Z</dcterms:modified>
  <cp:revision>1508</cp:revision>
  <dc:subject>Web2.0と建設業</dc:subject>
  <dc:title>Being Dig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