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J0097487.WAV" ContentType="audio/x-wav"/>
  <Override PartName="/ppt/media/CAMERA.WAV" ContentType="audio/x-wav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0FCEC0-AAED-40A7-8FEA-5FF81E16478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831-D803-423A-B058-10CDCEE4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C6F-6BB5-46CB-A97C-03B2B5BE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652-42CA-445D-871E-18429166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170-06ED-4C57-B76F-A852D3DD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113E-8E34-4C2E-BEC5-40CA4F94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FED9-D855-402C-A8D5-7CCA4C43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7C08-CD17-4D16-BA3F-4103CD0D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3FCB-A10D-442B-B09E-3487CA20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9DAA-BE29-433A-B8EB-A21483EC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E2FA-54FF-437D-BD3B-DDFCFF62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6E1F-F1EB-42D8-9355-837E388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F0B-5EF8-4CD8-AABD-2353EC12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204D-18EA-4E16-82B5-A4E8DAE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576D-80CF-4DB1-8741-5BF0A70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BCB1-FE7F-479F-9616-F6BF789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5BAD-8F4B-4773-BDBD-62B92597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AC0B-34EA-45DD-BFCE-F96146A8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654-AE36-4258-A6EC-0100CECF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870-76DD-49C9-9057-39469B6F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20A-CE58-4600-A964-ACFA2FD6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054-9AF1-41F3-9D25-8786C446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08E-7550-4B91-A79B-3F0D1DC1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D70-5753-4836-A586-3F7DC27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D9C-7CC9-4AEE-A730-3BC8406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7B4EBAD4-DA83-467D-B23B-D9779DC25A59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1420BE3-66E1-4834-8BA4-18E1EB7C8CF9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537080" y="2276640"/>
            <a:ext cx="4355280" cy="4020120"/>
            <a:chOff x="4537080" y="2276640"/>
            <a:chExt cx="4355280" cy="4020120"/>
          </a:xfrm>
        </p:grpSpPr>
        <p:grpSp>
          <p:nvGrpSpPr>
            <p:cNvPr id="92" name=""/>
            <p:cNvGrpSpPr/>
            <p:nvPr/>
          </p:nvGrpSpPr>
          <p:grpSpPr>
            <a:xfrm>
              <a:off x="4950000" y="2477880"/>
              <a:ext cx="3942360" cy="3818880"/>
              <a:chOff x="4950000" y="2477880"/>
              <a:chExt cx="3942360" cy="3818880"/>
            </a:xfrm>
          </p:grpSpPr>
          <p:sp>
            <p:nvSpPr>
              <p:cNvPr id="93" name=""/>
              <p:cNvSpPr/>
              <p:nvPr/>
            </p:nvSpPr>
            <p:spPr>
              <a:xfrm>
                <a:off x="7193520" y="5293440"/>
                <a:ext cx="168372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50160" y="5646960"/>
                <a:ext cx="1285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47280" y="5518440"/>
                <a:ext cx="102996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37920" y="5553360"/>
                <a:ext cx="100908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72200" y="4822200"/>
                <a:ext cx="92016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716320" y="4870080"/>
                <a:ext cx="14760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72200" y="4842720"/>
                <a:ext cx="81396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57160" y="4926960"/>
                <a:ext cx="63792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53600" y="2477880"/>
                <a:ext cx="232524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62720" y="4157640"/>
                <a:ext cx="40140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50000" y="2994120"/>
                <a:ext cx="101124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35120" y="2572920"/>
                <a:ext cx="114012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87920" y="3956040"/>
                <a:ext cx="44316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72160" y="5921280"/>
                <a:ext cx="135180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026840" y="5507640"/>
                <a:ext cx="46980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76200" y="5650200"/>
                <a:ext cx="125172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76560" y="5783760"/>
                <a:ext cx="2534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54320" y="5774760"/>
                <a:ext cx="20412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62680" y="5553360"/>
                <a:ext cx="119268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85120" y="6205320"/>
                <a:ext cx="57384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52960" y="5095080"/>
                <a:ext cx="67356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65400" y="5043960"/>
                <a:ext cx="46368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76560" y="5047920"/>
                <a:ext cx="45252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27680" y="5214240"/>
                <a:ext cx="13644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51600" y="5144400"/>
                <a:ext cx="10188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57960" y="5115600"/>
                <a:ext cx="27072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62360" y="5238000"/>
                <a:ext cx="414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01000" y="5326200"/>
                <a:ext cx="7920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68600" y="5291280"/>
                <a:ext cx="493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2960" y="5377320"/>
                <a:ext cx="38412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955200" y="5763960"/>
                <a:ext cx="61920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30840" y="5950800"/>
                <a:ext cx="813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48160" y="5164920"/>
                <a:ext cx="5868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72240" y="6207120"/>
                <a:ext cx="4712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60520" y="5542200"/>
                <a:ext cx="1720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23160" y="5501880"/>
                <a:ext cx="3520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39680" y="5941800"/>
                <a:ext cx="19656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536240" y="5798880"/>
                <a:ext cx="64188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98360" y="5293440"/>
                <a:ext cx="55080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17000" y="5608080"/>
                <a:ext cx="15876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42840" y="5599080"/>
                <a:ext cx="10584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77040" y="5666760"/>
                <a:ext cx="15156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18400" y="5419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729560" y="5434200"/>
                <a:ext cx="1342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75760" y="5445360"/>
                <a:ext cx="36360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00680" y="5666760"/>
                <a:ext cx="123660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69960" y="5969160"/>
                <a:ext cx="70812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30000" y="5529240"/>
                <a:ext cx="13968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7480" y="4122720"/>
                <a:ext cx="79344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66560" y="3479760"/>
                <a:ext cx="223272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014080" y="3161160"/>
                <a:ext cx="221688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50520" y="5688720"/>
                <a:ext cx="7383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64760" y="5877360"/>
                <a:ext cx="26856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38400" y="5948640"/>
                <a:ext cx="123048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65040" y="6029280"/>
                <a:ext cx="96732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38880" y="501300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8880" y="5104440"/>
                <a:ext cx="39924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38880" y="5205240"/>
                <a:ext cx="39924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38880" y="5320800"/>
                <a:ext cx="39924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537080" y="2276640"/>
              <a:ext cx="1124640" cy="968760"/>
              <a:chOff x="4537080" y="2276640"/>
              <a:chExt cx="1124640" cy="968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218560" y="3053160"/>
                <a:ext cx="831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48800" y="3036600"/>
                <a:ext cx="3862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23480" y="3018240"/>
                <a:ext cx="11304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90440" y="2485080"/>
                <a:ext cx="17748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9720" y="2747160"/>
                <a:ext cx="27072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03320" y="2737800"/>
                <a:ext cx="651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6000" y="2800080"/>
                <a:ext cx="45252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78920" y="2486880"/>
                <a:ext cx="12096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6640" y="2472480"/>
                <a:ext cx="39924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89080" y="2486880"/>
                <a:ext cx="7920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36240" y="2485080"/>
                <a:ext cx="35964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877640" y="2523600"/>
                <a:ext cx="28008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18960" y="2838960"/>
                <a:ext cx="54324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23360" y="2855160"/>
                <a:ext cx="33120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23360" y="2891520"/>
                <a:ext cx="33876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37080" y="2800080"/>
                <a:ext cx="6084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35840" y="2737800"/>
                <a:ext cx="10764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3680" y="2750760"/>
                <a:ext cx="9468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88320" y="2723400"/>
                <a:ext cx="5688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9640" y="2364120"/>
                <a:ext cx="20592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09200" y="2671920"/>
                <a:ext cx="45252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31880" y="2276640"/>
                <a:ext cx="38592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45280" y="2657520"/>
                <a:ext cx="15912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58600" y="2435400"/>
                <a:ext cx="6984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58600" y="2428560"/>
                <a:ext cx="1692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13680" y="2424600"/>
                <a:ext cx="1872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23040" y="252180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45720" y="2501640"/>
                <a:ext cx="1152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13680" y="2355120"/>
                <a:ext cx="15300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27440" y="2810880"/>
                <a:ext cx="5256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64280" y="2787480"/>
                <a:ext cx="2052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29040" y="2943000"/>
                <a:ext cx="1281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50120" y="3174120"/>
                <a:ext cx="2052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8792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880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19400" y="2566080"/>
                <a:ext cx="19692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19400" y="2618640"/>
                <a:ext cx="19692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19400" y="2666520"/>
                <a:ext cx="19692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19400" y="2702880"/>
                <a:ext cx="19692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531120" y="2344320"/>
              <a:ext cx="1127880" cy="891360"/>
              <a:chOff x="6531120" y="2344320"/>
              <a:chExt cx="1127880" cy="891360"/>
            </a:xfrm>
          </p:grpSpPr>
          <p:sp>
            <p:nvSpPr>
              <p:cNvPr id="193" name=""/>
              <p:cNvSpPr/>
              <p:nvPr/>
            </p:nvSpPr>
            <p:spPr>
              <a:xfrm>
                <a:off x="6682320" y="2633760"/>
                <a:ext cx="18540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95200" y="2912040"/>
                <a:ext cx="27612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97000" y="2895120"/>
                <a:ext cx="66060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7240" y="2948400"/>
                <a:ext cx="45216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76560" y="2637360"/>
                <a:ext cx="11916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90320" y="2620800"/>
                <a:ext cx="40896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82400" y="2637360"/>
                <a:ext cx="871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24160" y="2633760"/>
                <a:ext cx="37512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79240" y="2677680"/>
                <a:ext cx="27612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18400" y="2994120"/>
                <a:ext cx="54324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22800" y="3007080"/>
                <a:ext cx="33480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18840" y="3056400"/>
                <a:ext cx="3463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31120" y="294840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234920" y="2889720"/>
                <a:ext cx="10980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29520" y="2919240"/>
                <a:ext cx="10404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89560" y="28717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234920" y="3047400"/>
                <a:ext cx="37116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73600" y="3067560"/>
                <a:ext cx="10980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248240" y="2666520"/>
                <a:ext cx="41076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29960" y="2364120"/>
                <a:ext cx="22680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46520" y="2653560"/>
                <a:ext cx="1645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22920" y="2523600"/>
                <a:ext cx="2592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35360" y="2448360"/>
                <a:ext cx="7524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65960" y="2428560"/>
                <a:ext cx="2052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09160" y="2428560"/>
                <a:ext cx="2052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58480" y="2516040"/>
                <a:ext cx="1656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43000" y="2538000"/>
                <a:ext cx="2268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35360" y="2521800"/>
                <a:ext cx="414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88720" y="2596680"/>
                <a:ext cx="2268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01600" y="2653560"/>
                <a:ext cx="15120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06920" y="2664720"/>
                <a:ext cx="6984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240" y="2809440"/>
                <a:ext cx="10980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335360" y="2344320"/>
                <a:ext cx="24588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90440" y="2683080"/>
                <a:ext cx="5652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352640" y="2737800"/>
                <a:ext cx="7164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72720" y="2809440"/>
                <a:ext cx="435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813000" y="310032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18840" y="2732400"/>
                <a:ext cx="19872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18840" y="2787120"/>
                <a:ext cx="19872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18840" y="2823840"/>
                <a:ext cx="19872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18840" y="2866320"/>
                <a:ext cx="19872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998960" y="3965400"/>
              <a:ext cx="1105200" cy="786960"/>
              <a:chOff x="4998960" y="3965400"/>
              <a:chExt cx="1105200" cy="78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5044320" y="4548960"/>
                <a:ext cx="3877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82680" y="4186440"/>
                <a:ext cx="1742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80880" y="4442760"/>
                <a:ext cx="2610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17280" y="4422960"/>
                <a:ext cx="62064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13320" y="4479840"/>
                <a:ext cx="431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48920" y="4190400"/>
                <a:ext cx="11520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68400" y="4169880"/>
                <a:ext cx="38232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80880" y="4190400"/>
                <a:ext cx="8100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68400" y="4186440"/>
                <a:ext cx="3463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08360" y="4215960"/>
                <a:ext cx="26640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09640" y="4516200"/>
                <a:ext cx="5223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21240" y="4534560"/>
                <a:ext cx="30852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09720" y="4576320"/>
                <a:ext cx="32580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40080" y="4479840"/>
                <a:ext cx="6408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30160" y="4419000"/>
                <a:ext cx="10404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43480" y="4448520"/>
                <a:ext cx="9432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26640" y="4404600"/>
                <a:ext cx="5472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29200" y="3965400"/>
                <a:ext cx="27612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55840" y="3981240"/>
                <a:ext cx="23076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63480" y="4069440"/>
                <a:ext cx="6264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88240" y="3974400"/>
                <a:ext cx="16632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31440" y="4146120"/>
                <a:ext cx="10404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94080" y="4065840"/>
                <a:ext cx="1872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52320" y="4069440"/>
                <a:ext cx="1476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98960" y="4269240"/>
                <a:ext cx="40896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86080" y="4254120"/>
                <a:ext cx="20628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51880" y="4391640"/>
                <a:ext cx="18144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52320" y="4631760"/>
                <a:ext cx="1303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26200" y="4353120"/>
                <a:ext cx="2628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52400" y="4607640"/>
                <a:ext cx="1306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07080" y="4631760"/>
                <a:ext cx="12492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047920" y="4647960"/>
                <a:ext cx="756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7948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50120" y="4265280"/>
                <a:ext cx="19872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50120" y="4321800"/>
                <a:ext cx="19872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50120" y="4364280"/>
                <a:ext cx="19872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50120" y="4404600"/>
                <a:ext cx="19872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19700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業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の現状と課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200" y="5214960"/>
            <a:ext cx="63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７・３　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社団法人 東京電業協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2722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私達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長い間、目的がなくとも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なんとかなる時代に生きてきました</a:t>
            </a:r>
            <a:br>
              <a:rPr sz="7200"/>
            </a:b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開発主義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（戦後経済）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しかしそれ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破壊され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144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人に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目的がありません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65068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しかし今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人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生き辛い時代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何人も家卑の前では英雄足りえず</a:t>
            </a:r>
            <a:br>
              <a:rPr sz="8000"/>
            </a:b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情報の対象性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5800" y="1196640"/>
            <a:ext cx="87469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それ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インターネットの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傾向としてあるもの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280" y="351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私はインターネット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観察し続けてき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2074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なぜな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インターネット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少し先を行く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現実があるから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私は</a:t>
            </a: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年前に</a:t>
            </a:r>
            <a:br>
              <a:rPr sz="7200"/>
            </a:b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に出会い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440" y="2491920"/>
            <a:ext cx="75229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インターネットの精神文化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自発性（ボランティア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草の根（グラスルー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開放系（オープン） 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建設業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取り巻く環境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厳しさ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増しています。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夢のようなもので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それから</a:t>
            </a: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年が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過ぎま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とリアルの境界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もうありません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3500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780000" y="6021000"/>
            <a:ext cx="417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40160" y="1298520"/>
            <a:ext cx="25354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2320" y="1413000"/>
            <a:ext cx="60696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／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3082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経営＝環境</a:t>
            </a:r>
            <a:r>
              <a:rPr b="0" lang="en-US" sz="7200" spc="-1" strike="noStrike">
                <a:solidFill>
                  <a:srgbClr val="000000"/>
                </a:solidFill>
                <a:latin typeface="HGPﾌﾞｰｹ"/>
              </a:rPr>
              <a:t>×</a:t>
            </a: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原理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経営と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環境と原理の乗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でしかありません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640" y="234900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では我々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グローバリズム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金融資本主義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二極化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の流れに追随するしかないのでしょか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れも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建設という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非常にドメスティックな産業で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0920" y="3371400"/>
            <a:ext cx="7885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しかしインターネットには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今という時代だけではなく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ちょっと先を行くリアルの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環境と原理があります</a:t>
            </a:r>
            <a:br>
              <a:rPr sz="5400"/>
            </a:b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それも無償で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グローバリズム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金融資本主義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二極化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640" y="1052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無料経済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8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442880" y="841320"/>
            <a:ext cx="6441840" cy="5972040"/>
            <a:chOff x="1442880" y="841320"/>
            <a:chExt cx="6441840" cy="59720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1442880" y="841320"/>
              <a:ext cx="6441840" cy="59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526400" y="4287600"/>
              <a:ext cx="29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34400" y="4358160"/>
              <a:ext cx="2106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96520" y="1833840"/>
              <a:ext cx="277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2781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03640" y="32068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協会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協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協会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協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グローバル経済圏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勝ち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ドメスティック経済圏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負け組）〉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企業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br>
              <a:rPr sz="4800"/>
            </a:br>
            <a:br>
              <a:rPr sz="48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化する現実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いう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大きな流れです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大きな動きで流れて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それ以上の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スピード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流れること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　独自性を保つ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560" y="475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機能分化社会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3387960"/>
            <a:ext cx="76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企業は二つの、そして二つだけの基本的な機能を持つ。それがマーケティングとイノベーションである。マーケティングとイノベーションだけが成果をもたらす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コミュニケーション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〈情報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/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伝達〉の差異の理解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の持つふたつの意味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・インフォメーション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・インテリジェンス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日本人は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の区別ができていない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</a:rPr>
              <a:t>バカの壁</a:t>
            </a:r>
            <a:br>
              <a:rPr sz="12900"/>
            </a:br>
            <a:r>
              <a:rPr b="0" lang="en-US" sz="12900" spc="-1" strike="noStrike">
                <a:solidFill>
                  <a:srgbClr val="00004a"/>
                </a:solidFill>
                <a:latin typeface="HGPﾌﾞｰｹ"/>
              </a:rPr>
              <a:t>y=ax</a:t>
            </a:r>
            <a:endParaRPr b="0" lang="en-US" sz="129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を発信することで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情報を見る能力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メディア・リテラシー）も高ま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とで情報を発信する能力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（信頼される能力）も高ま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スパイラルの形成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れを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IT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化という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89164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さらに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時代が我々に要求しているものがありま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080" y="286668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係数</a:t>
            </a:r>
            <a:r>
              <a:rPr b="0" lang="en-US" sz="9600" spc="-1" strike="noStrike">
                <a:solidFill>
                  <a:srgbClr val="00004a"/>
                </a:solidFill>
                <a:latin typeface="HGPﾌﾞｰｹ"/>
              </a:rPr>
              <a:t>a</a:t>
            </a: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をはぐくむ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イントラネット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0720" y="3284280"/>
            <a:ext cx="86389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協会のイントラネット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　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理念と目的をもって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情報を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発信すること！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閉じから開放へ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1080" y="328428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協会のブログ化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1080" y="328428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現場のブログ化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15714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と目標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差異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企業の目的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　お金儲けである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このテーゼは正しいのでしょう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金儲けは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目標であり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ではありません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2530800"/>
            <a:ext cx="845964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企業の目的は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顧客の創造であ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07-03T07:08:06Z</dcterms:modified>
  <cp:revision>1490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