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J0097487.WAV" ContentType="audio/x-wav"/>
  <Override PartName="/ppt/media/CAMERA.WAV" ContentType="audio/x-wav"/>
  <Override PartName="/ppt/media/image5.png" ContentType="image/pn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6CFDA11-C56F-4BD3-A5F5-EC99BD9B247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123-AF1F-46A7-9CE2-2363DDFC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18B-3787-4C74-99BE-8F1CE544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ED9-3CA2-465D-8EFA-E27EB986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3CC-4CA4-446F-ABF3-A87D4AD6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6124-8150-4461-8673-C7D83EC5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B9A8-028D-46D5-83B5-A2E817B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94B7-9684-4E65-B916-3B93F235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B124-C314-4F83-8A5C-EF1E02AF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9E3A-4F59-4E03-A45E-A40D8DBE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669E-7188-4586-9DF2-C017C579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9E6F-A2D5-420D-8B8B-D61094B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2D7-92F5-4F00-889F-FC28649C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55CE-D461-463F-B481-DD78C93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002C-A7FA-45D2-9B58-AF73F962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0977-9203-436D-BAEB-7A3739B4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E117-A8DA-4140-A9E2-03BA7A64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8E3C-3B88-4504-BD50-0E1C5823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83D-C824-4D22-963C-01794BBB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267-F23A-453E-BACC-5559A164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A1B-AA11-4D03-B2E8-C4A55D70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414-B234-423A-B9B5-104AD725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3B7-29EB-4D83-9560-56E786D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C54-D656-4484-9FFC-9FFD0B78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E6D-B8C7-4C91-A7BA-88BE40E1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66407FE-9804-4531-9CF8-EEF777E38074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5294715D-FE9B-4A33-B210-661A6D79B4FA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356000" y="2276640"/>
            <a:ext cx="4536360" cy="4020120"/>
            <a:chOff x="4356000" y="2276640"/>
            <a:chExt cx="4536360" cy="4020120"/>
          </a:xfrm>
        </p:grpSpPr>
        <p:grpSp>
          <p:nvGrpSpPr>
            <p:cNvPr id="92" name=""/>
            <p:cNvGrpSpPr/>
            <p:nvPr/>
          </p:nvGrpSpPr>
          <p:grpSpPr>
            <a:xfrm>
              <a:off x="4786200" y="2477880"/>
              <a:ext cx="4106160" cy="3818880"/>
              <a:chOff x="4786200" y="2477880"/>
              <a:chExt cx="4106160" cy="3818880"/>
            </a:xfrm>
          </p:grpSpPr>
          <p:sp>
            <p:nvSpPr>
              <p:cNvPr id="93" name=""/>
              <p:cNvSpPr/>
              <p:nvPr/>
            </p:nvSpPr>
            <p:spPr>
              <a:xfrm>
                <a:off x="7122960" y="5293440"/>
                <a:ext cx="175356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44400" y="5646960"/>
                <a:ext cx="1339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03720" y="5518440"/>
                <a:ext cx="107280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794000" y="5553360"/>
                <a:ext cx="10508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34040" y="4822200"/>
                <a:ext cx="95832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709120" y="4870080"/>
                <a:ext cx="1537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34040" y="4842720"/>
                <a:ext cx="84780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22600" y="4926960"/>
                <a:ext cx="66456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790160" y="2477880"/>
                <a:ext cx="24217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61920" y="4157640"/>
                <a:ext cx="41796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86200" y="2994120"/>
                <a:ext cx="10530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20640" y="2572920"/>
                <a:ext cx="118728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50760" y="3956040"/>
                <a:ext cx="4615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13480" y="5921280"/>
                <a:ext cx="140796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49440" y="5507640"/>
                <a:ext cx="48924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21480" y="5650200"/>
                <a:ext cx="130356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84400" y="5783760"/>
                <a:ext cx="2642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665400" y="5774760"/>
                <a:ext cx="21276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78080" y="5553360"/>
                <a:ext cx="124236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26800" y="6205320"/>
                <a:ext cx="59796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68360" y="5095080"/>
                <a:ext cx="70164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72880" y="5043960"/>
                <a:ext cx="48276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84400" y="5047920"/>
                <a:ext cx="47124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37680" y="5214240"/>
                <a:ext cx="14220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70600" y="5144400"/>
                <a:ext cx="10620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90280" y="5115600"/>
                <a:ext cx="28188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98640" y="5238000"/>
                <a:ext cx="432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26480" y="5326200"/>
                <a:ext cx="8244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993000" y="5291280"/>
                <a:ext cx="511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768360" y="5377320"/>
                <a:ext cx="39996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74920" y="5763960"/>
                <a:ext cx="64476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74320" y="5950800"/>
                <a:ext cx="849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75800" y="5164920"/>
                <a:ext cx="6120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17520" y="6207120"/>
                <a:ext cx="4910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75920" y="5542200"/>
                <a:ext cx="1792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41080" y="5501880"/>
                <a:ext cx="3664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75240" y="594180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80080" y="5798880"/>
                <a:ext cx="66852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36440" y="5293440"/>
                <a:ext cx="57384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51480" y="5608080"/>
                <a:ext cx="16524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74440" y="5599080"/>
                <a:ext cx="11016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09720" y="5666760"/>
                <a:ext cx="1576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9440" y="5419440"/>
                <a:ext cx="1497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81320" y="5434200"/>
                <a:ext cx="1396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16720" y="5445360"/>
                <a:ext cx="378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547040" y="5666760"/>
                <a:ext cx="12880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27480" y="5969160"/>
                <a:ext cx="73728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85720" y="5529240"/>
                <a:ext cx="14580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39720" y="4122720"/>
                <a:ext cx="82656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03480" y="3479760"/>
                <a:ext cx="232560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853160" y="3161160"/>
                <a:ext cx="230904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07320" y="5688720"/>
                <a:ext cx="7689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51080" y="5877360"/>
                <a:ext cx="27972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482240" y="5948640"/>
                <a:ext cx="12816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09960" y="6029280"/>
                <a:ext cx="100764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107560" y="5013000"/>
                <a:ext cx="5263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07560" y="5104440"/>
                <a:ext cx="41580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07560" y="5205240"/>
                <a:ext cx="41580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07560" y="5320800"/>
                <a:ext cx="41580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356000" y="2276640"/>
              <a:ext cx="1171440" cy="968760"/>
              <a:chOff x="4356000" y="2276640"/>
              <a:chExt cx="1171440" cy="968760"/>
            </a:xfrm>
          </p:grpSpPr>
          <p:sp>
            <p:nvSpPr>
              <p:cNvPr id="153" name=""/>
              <p:cNvSpPr/>
              <p:nvPr/>
            </p:nvSpPr>
            <p:spPr>
              <a:xfrm>
                <a:off x="5065920" y="3053160"/>
                <a:ext cx="867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97240" y="3036600"/>
                <a:ext cx="4024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83440" y="3018240"/>
                <a:ext cx="11772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15840" y="2485080"/>
                <a:ext cx="18504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21160" y="2747160"/>
                <a:ext cx="28188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25120" y="2737800"/>
                <a:ext cx="678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36080" y="2800080"/>
                <a:ext cx="47124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03960" y="2486880"/>
                <a:ext cx="12600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26360" y="2472480"/>
                <a:ext cx="41580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18440" y="2486880"/>
                <a:ext cx="8244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67400" y="2485080"/>
                <a:ext cx="37476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0960" y="2523600"/>
                <a:ext cx="29196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49760" y="2838960"/>
                <a:ext cx="56592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58480" y="2855160"/>
                <a:ext cx="34524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58480" y="2891520"/>
                <a:ext cx="35280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56000" y="2800080"/>
                <a:ext cx="6336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3920" y="273780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81760" y="275076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34240" y="2723400"/>
                <a:ext cx="5940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60960" y="2364120"/>
                <a:ext cx="21456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56200" y="2671920"/>
                <a:ext cx="47124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79960" y="2276640"/>
                <a:ext cx="40176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98040" y="2657520"/>
                <a:ext cx="16560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11720" y="243540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11720" y="2428560"/>
                <a:ext cx="176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68960" y="242460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79040" y="25218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02440" y="250164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68960" y="2355120"/>
                <a:ext cx="1594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87400" y="2810880"/>
                <a:ext cx="5472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13440" y="2787480"/>
                <a:ext cx="2124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59840" y="2943000"/>
                <a:ext cx="1335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11160" y="3174120"/>
                <a:ext cx="2124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5076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9724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54160" y="2566080"/>
                <a:ext cx="20520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54160" y="2618640"/>
                <a:ext cx="20520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54160" y="2666520"/>
                <a:ext cx="20520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54160" y="2702880"/>
                <a:ext cx="20520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433200" y="2344320"/>
              <a:ext cx="1174680" cy="891360"/>
              <a:chOff x="6433200" y="2344320"/>
              <a:chExt cx="1174680" cy="891360"/>
            </a:xfrm>
          </p:grpSpPr>
          <p:sp>
            <p:nvSpPr>
              <p:cNvPr id="193" name=""/>
              <p:cNvSpPr/>
              <p:nvPr/>
            </p:nvSpPr>
            <p:spPr>
              <a:xfrm>
                <a:off x="6590880" y="2633760"/>
                <a:ext cx="19296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00160" y="2912040"/>
                <a:ext cx="28800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501960" y="2895120"/>
                <a:ext cx="68796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21200" y="2948400"/>
                <a:ext cx="47124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84760" y="2637360"/>
                <a:ext cx="12420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03200" y="2620800"/>
                <a:ext cx="42588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94920" y="2637360"/>
                <a:ext cx="907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38480" y="2633760"/>
                <a:ext cx="39060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95720" y="2677680"/>
                <a:ext cx="28800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32720" y="2994120"/>
                <a:ext cx="56592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41440" y="3007080"/>
                <a:ext cx="34848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37480" y="3056400"/>
                <a:ext cx="3607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33200" y="2948400"/>
                <a:ext cx="6300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66520" y="2889720"/>
                <a:ext cx="11448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60760" y="291924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19000" y="2871720"/>
                <a:ext cx="5940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6520" y="3047400"/>
                <a:ext cx="38664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15280" y="3067560"/>
                <a:ext cx="11448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80200" y="2666520"/>
                <a:ext cx="42768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265160" y="2364120"/>
                <a:ext cx="2365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82800" y="2653560"/>
                <a:ext cx="1717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66400" y="252360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71280" y="2448360"/>
                <a:ext cx="784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02960" y="2428560"/>
                <a:ext cx="2124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347960" y="2428560"/>
                <a:ext cx="212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99440" y="2516040"/>
                <a:ext cx="1728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83240" y="2538000"/>
                <a:ext cx="2340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271280" y="252180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30760" y="2596680"/>
                <a:ext cx="2340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40040" y="2653560"/>
                <a:ext cx="15768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41760" y="2664720"/>
                <a:ext cx="727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05200" y="2809440"/>
                <a:ext cx="11448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71280" y="2344320"/>
                <a:ext cx="25596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28520" y="2683080"/>
                <a:ext cx="5868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288920" y="2737800"/>
                <a:ext cx="745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205760" y="2809440"/>
                <a:ext cx="453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26960" y="3100320"/>
                <a:ext cx="1339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37480" y="2732400"/>
                <a:ext cx="20700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37480" y="2787120"/>
                <a:ext cx="20700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37480" y="2823840"/>
                <a:ext cx="20700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837480" y="2866320"/>
                <a:ext cx="20700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36960" y="3965400"/>
              <a:ext cx="1151640" cy="786960"/>
              <a:chOff x="4836960" y="3965400"/>
              <a:chExt cx="1151640" cy="78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4884120" y="4548960"/>
                <a:ext cx="4039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53440" y="4186440"/>
                <a:ext cx="1814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51640" y="4442760"/>
                <a:ext cx="2718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72920" y="4422960"/>
                <a:ext cx="64656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68600" y="4479840"/>
                <a:ext cx="449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22200" y="4190400"/>
                <a:ext cx="12024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25840" y="4169880"/>
                <a:ext cx="39816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51640" y="4190400"/>
                <a:ext cx="8424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25840" y="4186440"/>
                <a:ext cx="3607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67600" y="4215960"/>
                <a:ext cx="27756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60600" y="4516200"/>
                <a:ext cx="5439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276880" y="4534560"/>
                <a:ext cx="32148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64640" y="4576320"/>
                <a:ext cx="33912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921640" y="447984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81840" y="4419000"/>
                <a:ext cx="10836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95880" y="4448520"/>
                <a:ext cx="9828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82640" y="4404600"/>
                <a:ext cx="5688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68640" y="3965400"/>
                <a:ext cx="28764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96360" y="3981240"/>
                <a:ext cx="24048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8320" y="4069440"/>
                <a:ext cx="6516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29840" y="3974400"/>
                <a:ext cx="17316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74840" y="4146120"/>
                <a:ext cx="10836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40360" y="4065840"/>
                <a:ext cx="1944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996800" y="4069440"/>
                <a:ext cx="1548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36960" y="4269240"/>
                <a:ext cx="42588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4254120"/>
                <a:ext cx="21492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92400" y="4391640"/>
                <a:ext cx="18900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96800" y="4631760"/>
                <a:ext cx="1357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77880" y="4353120"/>
                <a:ext cx="2772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01200" y="4607640"/>
                <a:ext cx="1360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74600" y="4631760"/>
                <a:ext cx="12996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88808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3332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10800" y="4265280"/>
                <a:ext cx="20700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10800" y="4321800"/>
                <a:ext cx="20700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800" y="4364280"/>
                <a:ext cx="20700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10800" y="4404600"/>
                <a:ext cx="20700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Times New Roman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197000"/>
            <a:ext cx="866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の時代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200" y="5214960"/>
            <a:ext cx="63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･７・２１　モラロジー建設部会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640" y="206028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二極化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分断された経済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560" y="234900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グローバル経済圏への接続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　　　　　（勝ち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ドメスティック経済圏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　　　　　（負け組）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5640" y="2650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環境の多く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我々の手の届かないものであることで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偶然のようなものです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560" y="234900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偶然であれば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努力は報われない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560" y="234900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しかし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それでは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経営ではないだろう、と。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5640" y="2650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骰子一擲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　いかで偶然を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破棄すべき</a:t>
            </a:r>
            <a:br>
              <a:rPr sz="8000"/>
            </a:br>
            <a:br>
              <a:rPr sz="80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</a:rPr>
              <a:t>ステファヌ・マラルメ</a:t>
            </a:r>
            <a:endParaRPr b="0" lang="en-US" sz="2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280" y="285228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私はインターネット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を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観察し続けてきました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なぜな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インターネットに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少し先を行く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現実（環境と原理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があるからで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私は</a:t>
            </a:r>
            <a:r>
              <a:rPr b="0" lang="en-US" sz="72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年前に</a:t>
            </a:r>
            <a:br>
              <a:rPr sz="7200"/>
            </a:br>
            <a:r>
              <a:rPr b="0" lang="en-US" sz="72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に出会いま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9440" y="2491920"/>
            <a:ext cx="75229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インターネットの精神文化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自発性（ボランティア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草の根（グラスルー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開放系（オープン） 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243504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私の仕事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HGPﾌﾞｰｹ"/>
              </a:rPr>
              <a:t>IT</a:t>
            </a: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コンサルタント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HGPﾌﾞｰｹ"/>
              </a:rPr>
              <a:t>SE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それは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夢のようなものでし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それから</a:t>
            </a: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年が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過ぎまし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とリアルの境界は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もうありません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キアスム的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に時代はかわる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キアスム交差図式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51280" y="3357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851280" y="6021000"/>
            <a:ext cx="4105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95640" y="5300640"/>
            <a:ext cx="259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40160" y="1298520"/>
            <a:ext cx="253548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43280" y="20462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7800" y="6159600"/>
            <a:ext cx="23749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92360" y="2708280"/>
            <a:ext cx="648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7080" y="2852640"/>
            <a:ext cx="8622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現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891640" cy="158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そんな時代が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我々に要求しているものがあります。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〈目的／目標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差異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理解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29239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企業の目的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　お金儲けである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このテーゼは正しいのでしょう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お金儲けは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目標であり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目的ではありません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530800"/>
            <a:ext cx="845964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企業の目的は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顧客の創造であ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おなじシステムでも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うまくいく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ところもあるし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いかない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ところもあ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2722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私達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長い間、目的がなくとも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なんとかなる時代に生きてきました</a:t>
            </a:r>
            <a:br>
              <a:rPr sz="7200"/>
            </a:b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開発主義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（戦後経済）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しかしそれ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破壊されま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4144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人に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　目的がありません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65068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しかし今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人に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生き辛い時代で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280" y="286668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何人も家卑の前では英雄足りえず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280" y="286668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情報の対象性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800" y="2145960"/>
            <a:ext cx="87469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それ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インターネットの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傾向として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あったもの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。それも無償で。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何故か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640" y="105228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無料経済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30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コード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でした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1906560" y="979560"/>
            <a:ext cx="5544720" cy="5257440"/>
            <a:chOff x="1906560" y="979560"/>
            <a:chExt cx="5544720" cy="525744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1906560" y="979560"/>
              <a:ext cx="55447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978560" y="4013640"/>
              <a:ext cx="255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69960" y="4075560"/>
              <a:ext cx="1812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02080" y="1853280"/>
              <a:ext cx="23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48000" y="32781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03640" y="32068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インターネットの純粋贈与仮説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9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モラロジー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建設部会の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946160" y="984240"/>
            <a:ext cx="5505480" cy="5108400"/>
            <a:chOff x="1946160" y="984240"/>
            <a:chExt cx="5505480" cy="5108400"/>
          </a:xfrm>
        </p:grpSpPr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1946160" y="98424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017800" y="393228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6520" y="399240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30520" y="183348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事業者団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事業者団体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種的基体」としての事業者団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92360" y="2622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28840" y="1052640"/>
            <a:ext cx="2855880" cy="2876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企業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400" spc="-1" strike="noStrike">
                <a:solidFill>
                  <a:srgbClr val="000000"/>
                </a:solidFill>
                <a:latin typeface="HGPﾌﾞｰｹ"/>
              </a:rPr>
              <a:t>内的要因</a:t>
            </a:r>
            <a:br>
              <a:rPr sz="9400"/>
            </a:br>
            <a:br>
              <a:rPr sz="9400"/>
            </a:br>
            <a:r>
              <a:rPr b="0" lang="zh-CN" sz="9400" spc="-1" strike="noStrike">
                <a:solidFill>
                  <a:srgbClr val="000000"/>
                </a:solidFill>
                <a:latin typeface="HGPﾌﾞｰｹ"/>
              </a:rPr>
              <a:t>外的要因</a:t>
            </a:r>
            <a:endParaRPr b="0" lang="en-US" sz="9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社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企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企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79640" y="2568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3640" y="2579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種的基体</a:t>
            </a:r>
            <a:br>
              <a:rPr sz="117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中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地域社会・学校・企業・事業者団体・家庭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rcRect l="0" t="0" r="0" b="39602"/>
          <a:stretch/>
        </p:blipFill>
        <p:spPr>
          <a:xfrm>
            <a:off x="809640" y="858960"/>
            <a:ext cx="7723080" cy="5522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725480" y="6044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（ジル・ドゥールーズ，『襞』，</a:t>
            </a:r>
            <a:r>
              <a:rPr b="0" lang="en-US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p11</a:t>
            </a: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モナド ― ライプニッツ的個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br>
              <a:rPr sz="4800"/>
            </a:br>
            <a:br>
              <a:rPr sz="48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それは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化する現実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現実化する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いう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大きな流れです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とりあえずは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大きな動きで流れて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　　　それ以上の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スピードで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流れることで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　　　　独自性を保つ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4560" y="475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機能分化社会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3387960"/>
            <a:ext cx="7632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企業は二つの、そして二つだけの基本的な機能を持つ。それがマーケティングとイノベーションである。マーケティングとイノベーションだけが成果をもたらす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コミュニケーション定義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〈情報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</a:rPr>
              <a:t>/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伝達〉の差異の理解</a:t>
            </a:r>
            <a:br>
              <a:rPr sz="5400"/>
            </a:br>
            <a:br>
              <a:rPr sz="5400"/>
            </a:br>
            <a:r>
              <a:rPr b="0" lang="zh-CN" sz="2800" spc="-1" strike="noStrike">
                <a:solidFill>
                  <a:srgbClr val="00004a"/>
                </a:solidFill>
                <a:latin typeface="HGPﾌﾞｰｹ"/>
              </a:rPr>
              <a:t>二クラス・ルーマン</a:t>
            </a:r>
            <a:endParaRPr b="0" lang="en-US" sz="2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情報の持つふたつの意味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・インフォメーション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・インテリジェンス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日本人には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の区別ができていない方が多いようです。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7080" y="149832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白黒思考＝線を引くこと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思考しないでそうしてい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とで、 〈情報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</a:rPr>
              <a:t>/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伝達〉の差異の理解ができていない。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18" name=""/>
          <p:cNvSpPr/>
          <p:nvPr/>
        </p:nvSpPr>
        <p:spPr>
          <a:xfrm>
            <a:off x="2124000" y="520848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3789360"/>
            <a:ext cx="26654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3640" y="5518080"/>
            <a:ext cx="26654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経営＝環境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×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原理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経営とは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環境と原理の乗数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でしかありません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7080" y="69192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思考すること＝私を置くこと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もう一本線を引くこと　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36572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3860640"/>
            <a:ext cx="100800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3909960"/>
            <a:ext cx="143964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2924280"/>
            <a:ext cx="0" cy="3600360"/>
          </a:xfrm>
          <a:prstGeom prst="line">
            <a:avLst/>
          </a:prstGeom>
          <a:ln w="9360">
            <a:solidFill>
              <a:srgbClr val="c2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92360" y="2060640"/>
            <a:ext cx="100836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32000" y="5950080"/>
            <a:ext cx="172728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他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763640" y="1057320"/>
            <a:ext cx="5977080" cy="55404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三項へ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時代の流れにひねられないこと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15415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トリックスター（ｂ）＝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92360" y="2708280"/>
            <a:ext cx="648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440" y="2852640"/>
            <a:ext cx="1077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2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54880" y="3068640"/>
            <a:ext cx="14382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a-1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44000" y="5229360"/>
            <a:ext cx="581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：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y(b)</a:t>
            </a:r>
            <a:r>
              <a:rPr b="0" lang="ja-JP" sz="3200" spc="-1" strike="noStrike" u="sng">
                <a:solidFill>
                  <a:srgbClr val="00004a"/>
                </a:solidFill>
                <a:uFillTx/>
                <a:latin typeface="HGPﾌﾞｰｹ"/>
                <a:ea typeface="HGPﾌﾞｰｹ"/>
              </a:rPr>
              <a:t>～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ｘ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(b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）：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a-1(y)</a:t>
            </a:r>
            <a:br>
              <a:rPr sz="3200"/>
            </a:b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：はアナロジー関係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</a:rPr>
              <a:t>バカの壁</a:t>
            </a:r>
            <a:br>
              <a:rPr sz="12900"/>
            </a:br>
            <a:r>
              <a:rPr b="0" lang="en-US" sz="12900" spc="-1" strike="noStrike">
                <a:solidFill>
                  <a:srgbClr val="00004a"/>
                </a:solidFill>
                <a:latin typeface="HGPﾌﾞｰｹ"/>
              </a:rPr>
              <a:t>y=ax</a:t>
            </a:r>
            <a:endParaRPr b="0" lang="en-US" sz="129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情報を発信することで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情報を見る能力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（メディア・リテラシー）も高ま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とで情報を発信する能力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（信頼される能力）も高ま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スパイラルの形成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れを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</a:rPr>
              <a:t>IT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化という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係数</a:t>
            </a:r>
            <a:r>
              <a:rPr b="0" lang="en-US" sz="9600" spc="-1" strike="noStrike">
                <a:solidFill>
                  <a:srgbClr val="00004a"/>
                </a:solidFill>
                <a:latin typeface="HGPﾌﾞｰｹ"/>
              </a:rPr>
              <a:t>a</a:t>
            </a: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をはぐくむ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こと</a:t>
            </a:r>
            <a:br>
              <a:rPr sz="96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種的基体・中景の仕事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理念と目的をもって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情報を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発信すること！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閉じから開放へ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5640" y="2650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環境と原理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243504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建設業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取り巻く環境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厳しさ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増しています。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640" y="31413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グローバリズム金融資本主義</a:t>
            </a:r>
            <a:br>
              <a:rPr sz="10600"/>
            </a:b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07-21T10:56:15Z</dcterms:modified>
  <cp:revision>1506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