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image7.jpeg" ContentType="image/jpeg"/>
  <Override PartName="/ppt/media/J0097487.WAV" ContentType="audio/x-wav"/>
  <Override PartName="/ppt/media/image2.jpeg" ContentType="image/jpeg"/>
  <Override PartName="/ppt/media/CAMERA.WAV" ContentType="audio/x-wav"/>
  <Override PartName="/ppt/media/image5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709BE03-532F-4E38-B907-152D7BFCFE5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B61-8D56-43C7-B964-72B2D658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353-ED6F-43E0-9EA9-526BF4E7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11A9-1D82-4A89-A2C9-CAE82E0E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2EB9-F8F8-4F9E-BB66-7ACBBB64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B22-BA92-4575-B575-6BECAE8A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B52-AE0A-4476-82AF-6191E512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E9C-7DD9-49D4-B07F-960E551B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181B-4C5B-4331-B579-2C31975C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292D-96F0-45B0-905D-049A2BCC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369-3EFF-47D4-A0C1-F6ABE305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538-DD30-4356-9F9E-6FD20A2C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C3C-A39A-4FEC-A5DE-BE6D1162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6A3DE334-28D8-407A-829E-75077498F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0097487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amazon.co.jp/exec/obidos/ASIN/4140807431/momotidottoko-22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356000" y="2276640"/>
            <a:ext cx="4536360" cy="4020120"/>
            <a:chOff x="4356000" y="2276640"/>
            <a:chExt cx="4536360" cy="4020120"/>
          </a:xfrm>
        </p:grpSpPr>
        <p:grpSp>
          <p:nvGrpSpPr>
            <p:cNvPr id="50" name=""/>
            <p:cNvGrpSpPr/>
            <p:nvPr/>
          </p:nvGrpSpPr>
          <p:grpSpPr>
            <a:xfrm>
              <a:off x="4786200" y="2477880"/>
              <a:ext cx="4106160" cy="3818880"/>
              <a:chOff x="4786200" y="2477880"/>
              <a:chExt cx="4106160" cy="3818880"/>
            </a:xfrm>
          </p:grpSpPr>
          <p:sp>
            <p:nvSpPr>
              <p:cNvPr id="51" name=""/>
              <p:cNvSpPr/>
              <p:nvPr/>
            </p:nvSpPr>
            <p:spPr>
              <a:xfrm>
                <a:off x="7122960" y="5293440"/>
                <a:ext cx="1753560" cy="98676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744400" y="5646960"/>
                <a:ext cx="133920" cy="33516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03720" y="5518440"/>
                <a:ext cx="1072800" cy="27828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794000" y="5553360"/>
                <a:ext cx="1050840" cy="4338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34040" y="4822200"/>
                <a:ext cx="958320" cy="21636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709120" y="4870080"/>
                <a:ext cx="153720" cy="79128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934040" y="4842720"/>
                <a:ext cx="847800" cy="81864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022600" y="4926960"/>
                <a:ext cx="664560" cy="59292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790160" y="2477880"/>
                <a:ext cx="2421720" cy="215784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361920" y="4157640"/>
                <a:ext cx="417960" cy="37152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786200" y="2994120"/>
                <a:ext cx="1053000" cy="91044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020640" y="2572920"/>
                <a:ext cx="1187280" cy="144324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450760" y="3956040"/>
                <a:ext cx="461520" cy="4042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413480" y="5921280"/>
                <a:ext cx="1407960" cy="37548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949440" y="5507640"/>
                <a:ext cx="489240" cy="22140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521480" y="5650200"/>
                <a:ext cx="1303560" cy="5349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584400" y="5783760"/>
                <a:ext cx="264240" cy="47268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665400" y="5774760"/>
                <a:ext cx="212760" cy="4762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778080" y="5553360"/>
                <a:ext cx="1242360" cy="71604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426800" y="6205320"/>
                <a:ext cx="597960" cy="8208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768360" y="5095080"/>
                <a:ext cx="701640" cy="55692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572880" y="5043960"/>
                <a:ext cx="482760" cy="41580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584400" y="5047920"/>
                <a:ext cx="471240" cy="12780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637680" y="5214240"/>
                <a:ext cx="142200" cy="24516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870600" y="5144400"/>
                <a:ext cx="106200" cy="25812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190280" y="5115600"/>
                <a:ext cx="281880" cy="14256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298640" y="5238000"/>
                <a:ext cx="43200" cy="27288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26480" y="5326200"/>
                <a:ext cx="82440" cy="1800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993000" y="5291280"/>
                <a:ext cx="51120" cy="52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68360" y="5377320"/>
                <a:ext cx="399960" cy="27468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874920" y="5763960"/>
                <a:ext cx="644760" cy="21780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474320" y="5950800"/>
                <a:ext cx="84960" cy="26352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75800" y="5164920"/>
                <a:ext cx="6120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517520" y="6207120"/>
                <a:ext cx="491040" cy="6048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75920" y="5542200"/>
                <a:ext cx="179280" cy="73476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41080" y="5501880"/>
                <a:ext cx="366480" cy="21060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75240" y="5941800"/>
                <a:ext cx="204840" cy="27288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80080" y="5798880"/>
                <a:ext cx="668520" cy="17388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36440" y="5293440"/>
                <a:ext cx="573840" cy="7848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251480" y="5608080"/>
                <a:ext cx="165240" cy="20664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174440" y="5599080"/>
                <a:ext cx="110160" cy="1134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09720" y="5666760"/>
                <a:ext cx="157680" cy="14796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69440" y="5419440"/>
                <a:ext cx="149760" cy="1152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81320" y="5434200"/>
                <a:ext cx="139680" cy="13176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416720" y="5445360"/>
                <a:ext cx="378720" cy="18648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47040" y="5666760"/>
                <a:ext cx="1288080" cy="19980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827480" y="5969160"/>
                <a:ext cx="737280" cy="21204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85720" y="5529240"/>
                <a:ext cx="145800" cy="277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939720" y="4122720"/>
                <a:ext cx="826560" cy="12801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803480" y="3479760"/>
                <a:ext cx="2325600" cy="39528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853160" y="3161160"/>
                <a:ext cx="2309040" cy="34416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807320" y="5688720"/>
                <a:ext cx="768960" cy="19584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51080" y="5877360"/>
                <a:ext cx="279720" cy="31140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82240" y="5948640"/>
                <a:ext cx="1281600" cy="318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09960" y="6029280"/>
                <a:ext cx="1007640" cy="249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107560" y="5013000"/>
                <a:ext cx="526320" cy="5076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107560" y="5104440"/>
                <a:ext cx="415800" cy="5292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107560" y="5205240"/>
                <a:ext cx="415800" cy="4932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107560" y="5320800"/>
                <a:ext cx="415800" cy="5472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356000" y="2276640"/>
              <a:ext cx="1171440" cy="968760"/>
              <a:chOff x="4356000" y="2276640"/>
              <a:chExt cx="1171440" cy="968760"/>
            </a:xfrm>
          </p:grpSpPr>
          <p:sp>
            <p:nvSpPr>
              <p:cNvPr id="111" name=""/>
              <p:cNvSpPr/>
              <p:nvPr/>
            </p:nvSpPr>
            <p:spPr>
              <a:xfrm>
                <a:off x="5065920" y="3053160"/>
                <a:ext cx="86760" cy="15732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097240" y="3036600"/>
                <a:ext cx="402480" cy="19908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83440" y="3018240"/>
                <a:ext cx="117720" cy="16488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15840" y="2485080"/>
                <a:ext cx="185040" cy="6804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21160" y="2747160"/>
                <a:ext cx="281880" cy="24516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25120" y="2737800"/>
                <a:ext cx="678240" cy="16848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36080" y="2800080"/>
                <a:ext cx="471240" cy="19224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03960" y="2486880"/>
                <a:ext cx="126000" cy="31680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626360" y="2472480"/>
                <a:ext cx="415800" cy="9504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8440" y="2486880"/>
                <a:ext cx="82440" cy="36252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667400" y="2485080"/>
                <a:ext cx="374760" cy="36468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710960" y="2523600"/>
                <a:ext cx="291960" cy="25992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49760" y="2838960"/>
                <a:ext cx="565920" cy="23040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58480" y="2855160"/>
                <a:ext cx="345240" cy="8424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58480" y="2891520"/>
                <a:ext cx="352800" cy="15768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356000" y="2800080"/>
                <a:ext cx="63360" cy="720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083920" y="2737800"/>
                <a:ext cx="111960" cy="7128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081760" y="2750760"/>
                <a:ext cx="98640" cy="7128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034240" y="2723400"/>
                <a:ext cx="59400" cy="158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160960" y="2364120"/>
                <a:ext cx="214560" cy="39384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056200" y="2671920"/>
                <a:ext cx="471240" cy="44676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79960" y="2276640"/>
                <a:ext cx="401760" cy="35496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198040" y="2657520"/>
                <a:ext cx="165600" cy="12600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211720" y="2435400"/>
                <a:ext cx="72720" cy="9144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211720" y="2428560"/>
                <a:ext cx="176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68960" y="2424600"/>
                <a:ext cx="19440" cy="1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79040" y="252180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302440" y="2501640"/>
                <a:ext cx="11880" cy="3636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68960" y="2355120"/>
                <a:ext cx="159480" cy="20124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87400" y="2810880"/>
                <a:ext cx="54720" cy="28548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113440" y="2787480"/>
                <a:ext cx="21240" cy="2894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59840" y="2943000"/>
                <a:ext cx="133560" cy="1260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11160" y="3174120"/>
                <a:ext cx="21240" cy="36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450760" y="3128040"/>
                <a:ext cx="0" cy="91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097240" y="3095280"/>
                <a:ext cx="0" cy="150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754160" y="2566080"/>
                <a:ext cx="205200" cy="1800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754160" y="2618640"/>
                <a:ext cx="205200" cy="1656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754160" y="2666520"/>
                <a:ext cx="205200" cy="126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754160" y="2702880"/>
                <a:ext cx="205200" cy="2196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433200" y="2344320"/>
              <a:ext cx="1174680" cy="891360"/>
              <a:chOff x="6433200" y="2344320"/>
              <a:chExt cx="1174680" cy="891360"/>
            </a:xfrm>
          </p:grpSpPr>
          <p:sp>
            <p:nvSpPr>
              <p:cNvPr id="151" name=""/>
              <p:cNvSpPr/>
              <p:nvPr/>
            </p:nvSpPr>
            <p:spPr>
              <a:xfrm>
                <a:off x="6590880" y="2633760"/>
                <a:ext cx="192960" cy="7452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500160" y="2912040"/>
                <a:ext cx="288000" cy="23256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501960" y="2895120"/>
                <a:ext cx="687960" cy="16452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721200" y="2948400"/>
                <a:ext cx="471240" cy="19584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84760" y="2637360"/>
                <a:ext cx="124200" cy="31644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03200" y="2620800"/>
                <a:ext cx="425880" cy="10764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694920" y="2637360"/>
                <a:ext cx="90720" cy="36252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738480" y="2633760"/>
                <a:ext cx="390600" cy="36612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95720" y="2677680"/>
                <a:ext cx="288000" cy="25776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32720" y="2994120"/>
                <a:ext cx="565920" cy="24156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41440" y="3007080"/>
                <a:ext cx="348480" cy="9864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837480" y="3056400"/>
                <a:ext cx="360720" cy="14472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33200" y="2948400"/>
                <a:ext cx="63000" cy="144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166520" y="2889720"/>
                <a:ext cx="114480" cy="802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160760" y="2919240"/>
                <a:ext cx="108360" cy="6552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119000" y="2871720"/>
                <a:ext cx="59400" cy="1980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66520" y="3047400"/>
                <a:ext cx="386640" cy="18828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415280" y="3067560"/>
                <a:ext cx="114480" cy="16812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80200" y="2666520"/>
                <a:ext cx="427680" cy="51264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265160" y="2364120"/>
                <a:ext cx="236520" cy="33696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82800" y="2653560"/>
                <a:ext cx="171720" cy="29664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66400" y="2523600"/>
                <a:ext cx="27000" cy="7308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71280" y="2448360"/>
                <a:ext cx="78480" cy="658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02960" y="2428560"/>
                <a:ext cx="2124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347960" y="2428560"/>
                <a:ext cx="21240" cy="28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399440" y="2516040"/>
                <a:ext cx="17280" cy="3456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83240" y="2538000"/>
                <a:ext cx="23400" cy="14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271280" y="2521800"/>
                <a:ext cx="43200" cy="10044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430760" y="2596680"/>
                <a:ext cx="23400" cy="5868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40040" y="2653560"/>
                <a:ext cx="157680" cy="28008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241760" y="2664720"/>
                <a:ext cx="72720" cy="2818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405200" y="2809440"/>
                <a:ext cx="114480" cy="35316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71280" y="2344320"/>
                <a:ext cx="255960" cy="20664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28520" y="2683080"/>
                <a:ext cx="58680" cy="6552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88920" y="2737800"/>
                <a:ext cx="74520" cy="22500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05760" y="2809440"/>
                <a:ext cx="45360" cy="31284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26960" y="3100320"/>
                <a:ext cx="133920" cy="12996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37480" y="2732400"/>
                <a:ext cx="207000" cy="1044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37480" y="2787120"/>
                <a:ext cx="207000" cy="1656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37480" y="2823840"/>
                <a:ext cx="207000" cy="2016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837480" y="2866320"/>
                <a:ext cx="207000" cy="1260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4836960" y="3965400"/>
              <a:ext cx="1151640" cy="786960"/>
              <a:chOff x="4836960" y="3965400"/>
              <a:chExt cx="1151640" cy="786960"/>
            </a:xfrm>
          </p:grpSpPr>
          <p:sp>
            <p:nvSpPr>
              <p:cNvPr id="193" name=""/>
              <p:cNvSpPr/>
              <p:nvPr/>
            </p:nvSpPr>
            <p:spPr>
              <a:xfrm>
                <a:off x="4884120" y="4548960"/>
                <a:ext cx="403920" cy="19044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653440" y="4186440"/>
                <a:ext cx="181440" cy="6948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51640" y="4442760"/>
                <a:ext cx="271800" cy="21996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272920" y="4422960"/>
                <a:ext cx="646560" cy="15912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268600" y="4479840"/>
                <a:ext cx="449640" cy="18288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22200" y="4190400"/>
                <a:ext cx="120240" cy="29304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325840" y="4169880"/>
                <a:ext cx="398160" cy="9684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651640" y="4190400"/>
                <a:ext cx="84240" cy="33660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325840" y="4186440"/>
                <a:ext cx="360720" cy="34020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367600" y="4215960"/>
                <a:ext cx="277560" cy="24840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60600" y="4516200"/>
                <a:ext cx="543960" cy="22680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76880" y="4534560"/>
                <a:ext cx="321480" cy="8964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64640" y="4576320"/>
                <a:ext cx="339120" cy="14256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921640" y="4479840"/>
                <a:ext cx="66960" cy="1044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81840" y="4419000"/>
                <a:ext cx="108360" cy="7884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195880" y="4448520"/>
                <a:ext cx="98280" cy="6228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82640" y="4404600"/>
                <a:ext cx="56880" cy="1656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868640" y="3965400"/>
                <a:ext cx="287640" cy="26352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896360" y="3981240"/>
                <a:ext cx="240480" cy="49968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008320" y="4069440"/>
                <a:ext cx="65160" cy="7884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929840" y="3974400"/>
                <a:ext cx="173160" cy="9288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974840" y="4146120"/>
                <a:ext cx="108360" cy="6048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40360" y="4065840"/>
                <a:ext cx="19440" cy="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996800" y="4069440"/>
                <a:ext cx="15480" cy="14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36960" y="4269240"/>
                <a:ext cx="425880" cy="42084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927680" y="4254120"/>
                <a:ext cx="214920" cy="22536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92400" y="4391640"/>
                <a:ext cx="189000" cy="28368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996800" y="4631760"/>
                <a:ext cx="135720" cy="7668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77880" y="4353120"/>
                <a:ext cx="27720" cy="29448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01200" y="4607640"/>
                <a:ext cx="136080" cy="8784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574600" y="4631760"/>
                <a:ext cx="129960" cy="1206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888080" y="4647960"/>
                <a:ext cx="7920" cy="802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33320" y="4656960"/>
                <a:ext cx="0" cy="73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410800" y="4265280"/>
                <a:ext cx="207000" cy="158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410800" y="4321800"/>
                <a:ext cx="207000" cy="147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410800" y="4364280"/>
                <a:ext cx="207000" cy="1800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410800" y="4404600"/>
                <a:ext cx="207000" cy="144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200" spc="-1" strike="noStrike">
                <a:solidFill>
                  <a:srgbClr val="00004a"/>
                </a:solidFill>
                <a:latin typeface="Times New Roman"/>
              </a:rPr>
              <a:t>Being Digital</a:t>
            </a:r>
            <a:endParaRPr b="0" lang="en-US" sz="62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1492200"/>
            <a:ext cx="86648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ブログ化のすす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200" y="5214960"/>
            <a:ext cx="635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7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･</a:t>
            </a: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岩見沢生活空間創造システム説明会</a:t>
            </a:r>
            <a:r>
              <a:rPr b="0" lang="en-US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5 0.33295 L 8.33333E-007 -3.52601E-006 E">
                                      <p:cBhvr>
                                        <p:cTn id="16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09748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832360" cy="52326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19836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メビウスの帯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2502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会員各社が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自ら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情報を発信する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2502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7200" spc="-1" strike="noStrike">
                <a:solidFill>
                  <a:srgbClr val="000000"/>
                </a:solidFill>
                <a:latin typeface="HGPﾌﾞｰｹ"/>
              </a:rPr>
              <a:t>ブログ</a:t>
            </a:r>
            <a:endParaRPr b="0" lang="en-US" sz="1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2502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00"/>
                </a:solidFill>
                <a:latin typeface="HGPﾌﾞｰｹ"/>
              </a:rPr>
              <a:t>最近の</a:t>
            </a:r>
            <a:br>
              <a:rPr sz="10600"/>
            </a:br>
            <a:r>
              <a:rPr b="0" lang="zh-CN" sz="10600" spc="-1" strike="noStrike">
                <a:solidFill>
                  <a:srgbClr val="000000"/>
                </a:solidFill>
                <a:latin typeface="HGPﾌﾞｰｹ"/>
              </a:rPr>
              <a:t>インターネットの流れ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640" y="1699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900" spc="-1" strike="noStrike">
                <a:solidFill>
                  <a:srgbClr val="00004a"/>
                </a:solidFill>
                <a:latin typeface="HGPﾌﾞｰｹ"/>
              </a:rPr>
              <a:t>Web2.0</a:t>
            </a:r>
            <a:endParaRPr b="0" lang="en-US" sz="129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あれば便利だなと思うものが</a:t>
            </a:r>
            <a:r>
              <a:rPr b="0" lang="en-US" sz="5400" spc="-1" strike="noStrike">
                <a:solidFill>
                  <a:srgbClr val="000000"/>
                </a:solidFill>
                <a:latin typeface="HGPﾌﾞｰｹ"/>
              </a:rPr>
              <a:t>Web</a:t>
            </a: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にある。</a:t>
            </a:r>
            <a:br>
              <a:rPr sz="5400"/>
            </a:br>
            <a:r>
              <a:rPr b="0" lang="zh-CN" sz="9600" spc="-1" strike="noStrike">
                <a:solidFill>
                  <a:srgbClr val="000000"/>
                </a:solidFill>
                <a:latin typeface="HGPﾌﾞｰｹ"/>
              </a:rPr>
              <a:t>それも無償で。</a:t>
            </a:r>
            <a:endParaRPr b="0" lang="en-US" sz="9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640" y="105228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</a:rPr>
              <a:t>無料経済</a:t>
            </a:r>
            <a:endParaRPr b="0" lang="en-US" sz="8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GPﾌﾞｰｹ"/>
              </a:rPr>
              <a:t>Google</a:t>
            </a: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〈贈与／交換〉の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バイナリーで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とらえきれませんでした。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1763640" y="1057320"/>
            <a:ext cx="5976720" cy="5540040"/>
            <a:chOff x="1763640" y="1057320"/>
            <a:chExt cx="5976720" cy="5540040"/>
          </a:xfrm>
        </p:grpSpPr>
        <p:pic>
          <p:nvPicPr>
            <p:cNvPr id="270" name="" descr=""/>
            <p:cNvPicPr/>
            <p:nvPr/>
          </p:nvPicPr>
          <p:blipFill>
            <a:blip r:embed="rId1"/>
            <a:stretch/>
          </p:blipFill>
          <p:spPr>
            <a:xfrm>
              <a:off x="1763640" y="1057320"/>
              <a:ext cx="5976720" cy="55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1841400" y="4254480"/>
              <a:ext cx="275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純粋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81200" y="4319640"/>
              <a:ext cx="19540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83360" y="1978200"/>
              <a:ext cx="257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622040" y="436572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19640" y="34225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7672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普遍経済学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2205000"/>
            <a:ext cx="8785440" cy="1865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協会の</a:t>
            </a:r>
            <a:r>
              <a:rPr b="0" lang="en-US" sz="11700" spc="-1" strike="noStrike">
                <a:solidFill>
                  <a:srgbClr val="000000"/>
                </a:solidFill>
                <a:latin typeface="HGPﾌﾞｰｹ"/>
              </a:rPr>
              <a:t>IT</a:t>
            </a: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化</a:t>
            </a:r>
            <a:endParaRPr b="0" lang="en-US" sz="117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1908000" y="1057320"/>
            <a:ext cx="5505480" cy="5108400"/>
            <a:chOff x="1908000" y="1057320"/>
            <a:chExt cx="5505480" cy="5108400"/>
          </a:xfrm>
        </p:grpSpPr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1908000" y="105732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1979640" y="4005360"/>
              <a:ext cx="253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土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48360" y="4065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92360" y="190656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農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農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8000" y="2060640"/>
            <a:ext cx="31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92240" y="2774880"/>
            <a:ext cx="81576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8000" y="27748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HGPﾌﾞｰｹ"/>
                <a:ea typeface="HGPﾌﾞｰｹ"/>
              </a:rPr>
              <a:t>農作作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08360" y="565164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1906560" y="979560"/>
            <a:ext cx="5544720" cy="5257440"/>
            <a:chOff x="1906560" y="979560"/>
            <a:chExt cx="5544720" cy="5257440"/>
          </a:xfrm>
        </p:grpSpPr>
        <p:pic>
          <p:nvPicPr>
            <p:cNvPr id="294" name="" descr=""/>
            <p:cNvPicPr/>
            <p:nvPr/>
          </p:nvPicPr>
          <p:blipFill>
            <a:blip r:embed="rId1"/>
            <a:stretch/>
          </p:blipFill>
          <p:spPr>
            <a:xfrm>
              <a:off x="1906560" y="979560"/>
              <a:ext cx="5544720" cy="52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978560" y="4013640"/>
              <a:ext cx="255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インターネッ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69960" y="4075560"/>
              <a:ext cx="18126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2080" y="1853280"/>
              <a:ext cx="239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Goog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4477680" y="436572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48000" y="32781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03640" y="32068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インターネットの純粋贈与仮説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02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8000" y="2060640"/>
            <a:ext cx="31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92240" y="2774880"/>
            <a:ext cx="81576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946160" y="984240"/>
            <a:ext cx="5505480" cy="5108400"/>
            <a:chOff x="1946160" y="984240"/>
            <a:chExt cx="5505480" cy="510840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1946160" y="98424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2017800" y="3932280"/>
              <a:ext cx="2536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岩見沢市民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自然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会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86520" y="399240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30520" y="1833480"/>
              <a:ext cx="2374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岩見沢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建設協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協会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8000" y="981000"/>
            <a:ext cx="319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の種的基体」としての事業者団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35160" y="3773520"/>
            <a:ext cx="815760" cy="582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92360" y="26226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c2e18"/>
                </a:solidFill>
                <a:latin typeface="HGPﾌﾞｰｹ"/>
                <a:ea typeface="HGPﾌﾞｰｹ"/>
              </a:rPr>
              <a:t>信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95640" y="5722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28840" y="1052640"/>
            <a:ext cx="2855880" cy="2876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1908000" y="1057320"/>
            <a:ext cx="5505480" cy="5108400"/>
            <a:chOff x="1908000" y="1057320"/>
            <a:chExt cx="5505480" cy="5108400"/>
          </a:xfrm>
        </p:grpSpPr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1908000" y="105732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979640" y="4005360"/>
              <a:ext cx="2536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岩見沢市民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自然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社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48360" y="4065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92360" y="190656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企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企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8000" y="981000"/>
            <a:ext cx="319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の技術的「種」としての企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35160" y="3773520"/>
            <a:ext cx="815760" cy="582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79640" y="25686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c2e18"/>
                </a:solidFill>
                <a:latin typeface="HGPﾌﾞｰｹ"/>
                <a:ea typeface="HGPﾌﾞｰｹ"/>
              </a:rPr>
              <a:t>信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95640" y="5722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2866680"/>
            <a:ext cx="8640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信頼はメタ情報である。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9280" y="2866680"/>
            <a:ext cx="8640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信頼は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交換の原理だけでは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生まれません。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23640" y="279540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贈与と純粋贈与が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必要です。</a:t>
            </a:r>
            <a:br>
              <a:rPr sz="6600"/>
            </a:b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贈与＝</a:t>
            </a: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種的基体</a:t>
            </a: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＝</a:t>
            </a: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中景</a:t>
            </a:r>
            <a:br>
              <a:rPr sz="6000"/>
            </a:b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地域社会・学校・企業・事業者団体・家庭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育てるのに時間がかかるもの。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3640" y="257940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純粋贈与</a:t>
            </a:r>
            <a:br>
              <a:rPr sz="6600"/>
            </a:b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人間の自然を含めた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自然。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市民社会、社員。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3640" y="279540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純生産</a:t>
            </a:r>
            <a:br>
              <a:rPr sz="6600"/>
            </a:b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贈与共同体が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純粋贈与に働きかけることで増幅されるもの。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23640" y="279540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商品</a:t>
            </a:r>
            <a:br>
              <a:rPr sz="6600"/>
            </a:b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純生産が交換と交わることで生まれるもの。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280" y="1834560"/>
            <a:ext cx="8785440" cy="3648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イントラネット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を使う</a:t>
            </a:r>
            <a:endParaRPr b="0" lang="en-US" sz="117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4360" y="2349000"/>
            <a:ext cx="896472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大きな流れ</a:t>
            </a:r>
            <a:br>
              <a:rPr sz="6000"/>
            </a:b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検索エンジンナビゲーション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4360" y="2349000"/>
            <a:ext cx="896472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ファインダビリティ</a:t>
            </a:r>
            <a:br>
              <a:rPr sz="6000"/>
            </a:b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見つけやすさ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6600" spc="-1" strike="noStrike">
                <a:solidFill>
                  <a:srgbClr val="00004a"/>
                </a:solidFill>
                <a:latin typeface="HGPﾌﾞｰｹ"/>
              </a:rPr>
              <a:t>Tagging</a:t>
            </a:r>
            <a:r>
              <a:rPr b="0" lang="ja-JP" sz="6600" spc="-1" strike="noStrike">
                <a:solidFill>
                  <a:srgbClr val="00004a"/>
                </a:solidFill>
                <a:latin typeface="HGPﾌﾞｰｹ"/>
              </a:rPr>
              <a:t>（タグ）</a:t>
            </a:r>
            <a:br>
              <a:rPr sz="6600"/>
            </a:br>
            <a:br>
              <a:rPr sz="6600"/>
            </a:b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Social Tagging</a:t>
            </a: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、つまりは</a:t>
            </a: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Folksonomy</a:t>
            </a:r>
            <a:br>
              <a:rPr sz="3600"/>
            </a:b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階層分類学としての分類ではない。つまりユーザーの手で自由に分類するということ。</a:t>
            </a:r>
            <a:br>
              <a:rPr sz="3600"/>
            </a:b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権威の崩壊＝フラットであること。</a:t>
            </a:r>
            <a:br>
              <a:rPr sz="3600"/>
            </a:b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6000" spc="-1" strike="noStrike">
                <a:solidFill>
                  <a:srgbClr val="00004a"/>
                </a:solidFill>
                <a:latin typeface="HGPﾌﾞｰｹ"/>
              </a:rPr>
              <a:t>Participation</a:t>
            </a:r>
            <a:br>
              <a:rPr sz="6000"/>
            </a:br>
            <a:br>
              <a:rPr sz="6000"/>
            </a:b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Not publisshing</a:t>
            </a: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，つまり出版のように押し付けではなく、ユーザーが参加して作り出すコンテンツ。</a:t>
            </a:r>
            <a:br>
              <a:rPr sz="3600"/>
            </a:b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　　</a:t>
            </a:r>
            <a:br>
              <a:rPr sz="3600"/>
            </a:br>
            <a:r>
              <a:rPr b="0" lang="ja-JP" sz="6600" spc="-1" strike="noStrike">
                <a:solidFill>
                  <a:srgbClr val="00004a"/>
                </a:solidFill>
                <a:latin typeface="HGPﾌﾞｰｹ"/>
              </a:rPr>
              <a:t>Blogs</a:t>
            </a: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 </a:t>
            </a: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＝自ら情報を発信すること。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4360" y="2637000"/>
            <a:ext cx="7920000" cy="1584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GPﾌﾞｰｹ"/>
              </a:rPr>
              <a:t>customer self-service enabling the long tail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ロングテールを巻き込むために、ユーザーが自分でできる機能を与える。</a:t>
            </a:r>
            <a:br>
              <a:rPr sz="5400"/>
            </a:b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とりあえずは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大きな動きで流れて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　　　それ以上の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スピードで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流れることで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　　　　独自性を保つ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7080" y="301104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理念と目的をもって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情報を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発信すること！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73200" y="6093000"/>
            <a:ext cx="74278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7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1536480"/>
            <a:ext cx="72784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清聴ありがとうございまし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　桃知　利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dc4.so-net.ne.j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http://www.momoti.com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でも私宛の連絡はメールでお願いいた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3687840" y="1955880"/>
            <a:ext cx="1046160" cy="1112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332000" y="1406520"/>
            <a:ext cx="5976720" cy="4902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6560" y="270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400" spc="-1" strike="noStrike">
                <a:solidFill>
                  <a:srgbClr val="00004a"/>
                </a:solidFill>
                <a:latin typeface="HGPﾌﾞｰｹ"/>
              </a:rPr>
              <a:t>まず円環をつくる</a:t>
            </a:r>
            <a:endParaRPr b="0" lang="en-US" sz="4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6320" y="158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320" y="1197000"/>
            <a:ext cx="90676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</a:rPr>
              <a:t>中景をつくる</a:t>
            </a:r>
            <a:endParaRPr b="0" lang="en-US" sz="9600" spc="-1" strike="noStrike">
              <a:solidFill>
                <a:srgbClr val="00004a"/>
              </a:solidFill>
              <a:latin typeface="HGPﾌﾞｰｹ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11280" y="2924280"/>
            <a:ext cx="4030560" cy="3816360"/>
            <a:chOff x="611280" y="2924280"/>
            <a:chExt cx="4030560" cy="3816360"/>
          </a:xfrm>
        </p:grpSpPr>
        <p:sp>
          <p:nvSpPr>
            <p:cNvPr id="240" name=""/>
            <p:cNvSpPr/>
            <p:nvPr/>
          </p:nvSpPr>
          <p:spPr>
            <a:xfrm>
              <a:off x="611280" y="2924280"/>
              <a:ext cx="4030560" cy="3816360"/>
            </a:xfrm>
            <a:prstGeom prst="ellipse">
              <a:avLst/>
            </a:prstGeom>
            <a:solidFill>
              <a:srgbClr val="fffb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82800" y="3592440"/>
              <a:ext cx="3230280" cy="3148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60640" y="5740560"/>
              <a:ext cx="1031760" cy="1000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近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44880" y="4487760"/>
              <a:ext cx="861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中景　</a:t>
              </a: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44880" y="3025800"/>
              <a:ext cx="861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遠景　</a:t>
              </a:r>
              <a:r>
                <a:rPr b="0" lang="en-US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4933800" y="2924280"/>
            <a:ext cx="4030920" cy="3816360"/>
          </a:xfrm>
          <a:prstGeom prst="ellipse">
            <a:avLst/>
          </a:prstGeom>
          <a:solidFill>
            <a:srgbClr val="fffb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83160" y="5740560"/>
            <a:ext cx="1032120" cy="1000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近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67400" y="3025800"/>
            <a:ext cx="862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遠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556000" y="878040"/>
            <a:ext cx="4367160" cy="57196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中景とはモスラの繭のようなものだ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280" y="2575800"/>
            <a:ext cx="888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7200" y="2637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HGPﾌﾞｰｹ"/>
              </a:rPr>
              <a:t>守・破・離</a:t>
            </a:r>
            <a:endParaRPr b="0" lang="en-US" sz="14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円環の限界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7761" t="11855" r="5491" b="32952"/>
          <a:stretch/>
        </p:blipFill>
        <p:spPr>
          <a:xfrm>
            <a:off x="1042920" y="1125360"/>
            <a:ext cx="6913800" cy="3167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716960" y="4941720"/>
            <a:ext cx="1463400" cy="1872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66560" y="4437000"/>
            <a:ext cx="792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他者とつながらな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仕事の源泉は円環の外にあ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71640" y="4077720"/>
            <a:ext cx="734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図： </a:t>
            </a:r>
            <a:r>
              <a:rPr b="0" lang="zh-CN" sz="1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3"/>
              </a:rPr>
              <a:t>新ネットワーク思考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アルバート＝ラズロ・バラバシ（著）青木薫（訳） 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NHK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出版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CAMERA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28926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円環に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ひねりを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加える</a:t>
            </a:r>
            <a:endParaRPr b="0" lang="en-US" sz="117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桃知利男</dc:creator>
  <dc:description/>
  <dc:language>en-US</dc:language>
  <cp:lastModifiedBy>桃知利男</cp:lastModifiedBy>
  <cp:lastPrinted>1999-08-20T13:59:28Z</cp:lastPrinted>
  <dcterms:modified xsi:type="dcterms:W3CDTF">2007-09-06T22:07:58Z</dcterms:modified>
  <cp:revision>1520</cp:revision>
  <dc:subject>Being Digital</dc:subject>
  <dc:title>桃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