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media/J0097487.WAV" ContentType="audio/x-wav"/>
  <Override PartName="/ppt/media/CAMERA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8465D0C-BDBE-4A6F-A456-ACA8907F07A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D9B-F0C9-4BCD-ABDE-8D03C34E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CC7-C81F-4726-8895-D8218913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CC6-6044-455B-82DA-DF613600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F36-783A-44DA-8DE3-55590D96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56C-F68F-41AC-98FA-ECFBBDD5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DEC-FEF7-4EC2-872D-DCA6FF94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479-A77F-4AFD-9007-B76E9534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7D2-6A3F-4FB3-9C3F-85B81160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D05-48CC-48FB-9FEC-1B13EC88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E97-E1A5-4192-9B39-2837D29C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177-76F1-4A78-A5A0-899A2983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F81-A3D3-4F87-A6A4-B576200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98916759-5FF6-4DD5-BE06-6A0974089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amazon.co.jp/exec/obidos/ASIN/4140807431/momotidottoko-22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356000" y="2276640"/>
            <a:ext cx="4536360" cy="4020120"/>
            <a:chOff x="4356000" y="2276640"/>
            <a:chExt cx="4536360" cy="4020120"/>
          </a:xfrm>
        </p:grpSpPr>
        <p:grpSp>
          <p:nvGrpSpPr>
            <p:cNvPr id="50" name=""/>
            <p:cNvGrpSpPr/>
            <p:nvPr/>
          </p:nvGrpSpPr>
          <p:grpSpPr>
            <a:xfrm>
              <a:off x="4786200" y="2477880"/>
              <a:ext cx="4106160" cy="3818880"/>
              <a:chOff x="4786200" y="2477880"/>
              <a:chExt cx="4106160" cy="3818880"/>
            </a:xfrm>
          </p:grpSpPr>
          <p:sp>
            <p:nvSpPr>
              <p:cNvPr id="51" name=""/>
              <p:cNvSpPr/>
              <p:nvPr/>
            </p:nvSpPr>
            <p:spPr>
              <a:xfrm>
                <a:off x="7122960" y="5293440"/>
                <a:ext cx="175356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44400" y="5646960"/>
                <a:ext cx="13392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03720" y="5518440"/>
                <a:ext cx="107280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94000" y="5553360"/>
                <a:ext cx="105084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34040" y="4822200"/>
                <a:ext cx="95832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709120" y="4870080"/>
                <a:ext cx="15372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934040" y="4842720"/>
                <a:ext cx="84780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022600" y="4926960"/>
                <a:ext cx="66456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790160" y="2477880"/>
                <a:ext cx="242172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61920" y="4157640"/>
                <a:ext cx="41796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86200" y="2994120"/>
                <a:ext cx="105300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020640" y="2572920"/>
                <a:ext cx="118728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450760" y="3956040"/>
                <a:ext cx="46152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413480" y="5921280"/>
                <a:ext cx="140796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949440" y="5507640"/>
                <a:ext cx="48924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21480" y="5650200"/>
                <a:ext cx="130356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584400" y="5783760"/>
                <a:ext cx="26424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665400" y="5774760"/>
                <a:ext cx="21276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78080" y="5553360"/>
                <a:ext cx="124236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26800" y="6205320"/>
                <a:ext cx="59796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768360" y="5095080"/>
                <a:ext cx="70164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72880" y="5043960"/>
                <a:ext cx="48276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584400" y="5047920"/>
                <a:ext cx="47124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637680" y="5214240"/>
                <a:ext cx="14220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70600" y="5144400"/>
                <a:ext cx="10620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190280" y="5115600"/>
                <a:ext cx="28188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98640" y="5238000"/>
                <a:ext cx="4320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26480" y="5326200"/>
                <a:ext cx="8244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993000" y="5291280"/>
                <a:ext cx="5112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68360" y="5377320"/>
                <a:ext cx="39996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874920" y="5763960"/>
                <a:ext cx="64476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74320" y="5950800"/>
                <a:ext cx="849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75800" y="5164920"/>
                <a:ext cx="6120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7520" y="6207120"/>
                <a:ext cx="49104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75920" y="5542200"/>
                <a:ext cx="17928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41080" y="5501880"/>
                <a:ext cx="36648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75240" y="5941800"/>
                <a:ext cx="20484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80080" y="5798880"/>
                <a:ext cx="66852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36440" y="5293440"/>
                <a:ext cx="57384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51480" y="5608080"/>
                <a:ext cx="16524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74440" y="5599080"/>
                <a:ext cx="11016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09720" y="5666760"/>
                <a:ext cx="15768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69440" y="5419440"/>
                <a:ext cx="14976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81320" y="5434200"/>
                <a:ext cx="1396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16720" y="5445360"/>
                <a:ext cx="37872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47040" y="5666760"/>
                <a:ext cx="128808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827480" y="5969160"/>
                <a:ext cx="73728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85720" y="5529240"/>
                <a:ext cx="14580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39720" y="4122720"/>
                <a:ext cx="82656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03480" y="3479760"/>
                <a:ext cx="232560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853160" y="3161160"/>
                <a:ext cx="230904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807320" y="5688720"/>
                <a:ext cx="76896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51080" y="5877360"/>
                <a:ext cx="27972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2240" y="5948640"/>
                <a:ext cx="128160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09960" y="6029280"/>
                <a:ext cx="100764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107560" y="5013000"/>
                <a:ext cx="52632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107560" y="5104440"/>
                <a:ext cx="41580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07560" y="5205240"/>
                <a:ext cx="41580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07560" y="5320800"/>
                <a:ext cx="41580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356000" y="2276640"/>
              <a:ext cx="1171440" cy="968760"/>
              <a:chOff x="4356000" y="2276640"/>
              <a:chExt cx="1171440" cy="968760"/>
            </a:xfrm>
          </p:grpSpPr>
          <p:sp>
            <p:nvSpPr>
              <p:cNvPr id="111" name=""/>
              <p:cNvSpPr/>
              <p:nvPr/>
            </p:nvSpPr>
            <p:spPr>
              <a:xfrm>
                <a:off x="5065920" y="3053160"/>
                <a:ext cx="867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97240" y="3036600"/>
                <a:ext cx="40248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83440" y="3018240"/>
                <a:ext cx="11772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15840" y="2485080"/>
                <a:ext cx="18504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21160" y="2747160"/>
                <a:ext cx="28188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25120" y="2737800"/>
                <a:ext cx="6782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36080" y="2800080"/>
                <a:ext cx="47124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03960" y="2486880"/>
                <a:ext cx="12600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26360" y="2472480"/>
                <a:ext cx="41580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8440" y="2486880"/>
                <a:ext cx="8244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67400" y="2485080"/>
                <a:ext cx="37476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10960" y="2523600"/>
                <a:ext cx="29196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49760" y="2838960"/>
                <a:ext cx="56592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58480" y="2855160"/>
                <a:ext cx="34524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58480" y="2891520"/>
                <a:ext cx="35280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56000" y="2800080"/>
                <a:ext cx="6336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083920" y="2737800"/>
                <a:ext cx="11196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081760" y="275076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034240" y="2723400"/>
                <a:ext cx="5940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60960" y="2364120"/>
                <a:ext cx="21456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056200" y="2671920"/>
                <a:ext cx="47124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79960" y="2276640"/>
                <a:ext cx="40176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98040" y="2657520"/>
                <a:ext cx="16560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11720" y="2435400"/>
                <a:ext cx="7272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11720" y="2428560"/>
                <a:ext cx="176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68960" y="2424600"/>
                <a:ext cx="1944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79040" y="25218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02440" y="250164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68960" y="2355120"/>
                <a:ext cx="15948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87400" y="2810880"/>
                <a:ext cx="5472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13440" y="2787480"/>
                <a:ext cx="2124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59840" y="2943000"/>
                <a:ext cx="13356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11160" y="3174120"/>
                <a:ext cx="2124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5076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9724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54160" y="2566080"/>
                <a:ext cx="20520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54160" y="2618640"/>
                <a:ext cx="20520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54160" y="2666520"/>
                <a:ext cx="20520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54160" y="2702880"/>
                <a:ext cx="20520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433200" y="2344320"/>
              <a:ext cx="1174680" cy="891360"/>
              <a:chOff x="6433200" y="2344320"/>
              <a:chExt cx="1174680" cy="891360"/>
            </a:xfrm>
          </p:grpSpPr>
          <p:sp>
            <p:nvSpPr>
              <p:cNvPr id="151" name=""/>
              <p:cNvSpPr/>
              <p:nvPr/>
            </p:nvSpPr>
            <p:spPr>
              <a:xfrm>
                <a:off x="6590880" y="2633760"/>
                <a:ext cx="19296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500160" y="2912040"/>
                <a:ext cx="28800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01960" y="2895120"/>
                <a:ext cx="68796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21200" y="2948400"/>
                <a:ext cx="47124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4760" y="2637360"/>
                <a:ext cx="12420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03200" y="2620800"/>
                <a:ext cx="42588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94920" y="2637360"/>
                <a:ext cx="9072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38480" y="2633760"/>
                <a:ext cx="39060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95720" y="2677680"/>
                <a:ext cx="28800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32720" y="2994120"/>
                <a:ext cx="56592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41440" y="3007080"/>
                <a:ext cx="34848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37480" y="3056400"/>
                <a:ext cx="36072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33200" y="2948400"/>
                <a:ext cx="6300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66520" y="2889720"/>
                <a:ext cx="11448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60760" y="2919240"/>
                <a:ext cx="10836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19000" y="2871720"/>
                <a:ext cx="5940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66520" y="3047400"/>
                <a:ext cx="38664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15280" y="3067560"/>
                <a:ext cx="11448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80200" y="2666520"/>
                <a:ext cx="42768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65160" y="2364120"/>
                <a:ext cx="23652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82800" y="2653560"/>
                <a:ext cx="17172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66400" y="252360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71280" y="2448360"/>
                <a:ext cx="7848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02960" y="2428560"/>
                <a:ext cx="2124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47960" y="2428560"/>
                <a:ext cx="2124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99440" y="2516040"/>
                <a:ext cx="1728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83240" y="2538000"/>
                <a:ext cx="2340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71280" y="2521800"/>
                <a:ext cx="4320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30760" y="2596680"/>
                <a:ext cx="2340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40040" y="2653560"/>
                <a:ext cx="15768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41760" y="2664720"/>
                <a:ext cx="7272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05200" y="2809440"/>
                <a:ext cx="11448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71280" y="2344320"/>
                <a:ext cx="25596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28520" y="2683080"/>
                <a:ext cx="5868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88920" y="2737800"/>
                <a:ext cx="7452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05760" y="2809440"/>
                <a:ext cx="4536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26960" y="3100320"/>
                <a:ext cx="13392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37480" y="2732400"/>
                <a:ext cx="20700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37480" y="2787120"/>
                <a:ext cx="20700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37480" y="2823840"/>
                <a:ext cx="20700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37480" y="2866320"/>
                <a:ext cx="20700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836960" y="3965400"/>
              <a:ext cx="1151640" cy="786960"/>
              <a:chOff x="4836960" y="3965400"/>
              <a:chExt cx="1151640" cy="786960"/>
            </a:xfrm>
          </p:grpSpPr>
          <p:sp>
            <p:nvSpPr>
              <p:cNvPr id="193" name=""/>
              <p:cNvSpPr/>
              <p:nvPr/>
            </p:nvSpPr>
            <p:spPr>
              <a:xfrm>
                <a:off x="4884120" y="4548960"/>
                <a:ext cx="40392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653440" y="4186440"/>
                <a:ext cx="18144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51640" y="4442760"/>
                <a:ext cx="27180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72920" y="4422960"/>
                <a:ext cx="64656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68600" y="4479840"/>
                <a:ext cx="4496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2200" y="4190400"/>
                <a:ext cx="12024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25840" y="4169880"/>
                <a:ext cx="39816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51640" y="4190400"/>
                <a:ext cx="8424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25840" y="4186440"/>
                <a:ext cx="36072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67600" y="4215960"/>
                <a:ext cx="27756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60600" y="4516200"/>
                <a:ext cx="54396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76880" y="4534560"/>
                <a:ext cx="32148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64640" y="4576320"/>
                <a:ext cx="33912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21640" y="4479840"/>
                <a:ext cx="6696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81840" y="4419000"/>
                <a:ext cx="10836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95880" y="4448520"/>
                <a:ext cx="9828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82640" y="4404600"/>
                <a:ext cx="5688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868640" y="3965400"/>
                <a:ext cx="28764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96360" y="3981240"/>
                <a:ext cx="24048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08320" y="4069440"/>
                <a:ext cx="6516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29840" y="3974400"/>
                <a:ext cx="17316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74840" y="4146120"/>
                <a:ext cx="10836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40360" y="4065840"/>
                <a:ext cx="1944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96800" y="4069440"/>
                <a:ext cx="1548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36960" y="4269240"/>
                <a:ext cx="42588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27680" y="4254120"/>
                <a:ext cx="21492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92400" y="4391640"/>
                <a:ext cx="18900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96800" y="4631760"/>
                <a:ext cx="13572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77880" y="4353120"/>
                <a:ext cx="2772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01200" y="4607640"/>
                <a:ext cx="13608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74600" y="4631760"/>
                <a:ext cx="12996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888080" y="4647960"/>
                <a:ext cx="792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3332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10800" y="4265280"/>
                <a:ext cx="20700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10800" y="4321800"/>
                <a:ext cx="20700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10800" y="4364280"/>
                <a:ext cx="20700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10800" y="4404600"/>
                <a:ext cx="20700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Times New Roman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492200"/>
            <a:ext cx="8664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南九州三県合同研修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200" y="5214960"/>
            <a:ext cx="63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･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社）鹿児島県建築協会</a:t>
            </a: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332000" y="1406520"/>
            <a:ext cx="5976720" cy="4902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656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ﾌﾞｰｹ"/>
              </a:rPr>
              <a:t>まず円環をつくる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320" y="158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320" y="119700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中景をつくる</a:t>
            </a:r>
            <a:endParaRPr b="0" lang="en-US" sz="9600" spc="-1" strike="noStrike">
              <a:solidFill>
                <a:srgbClr val="00004a"/>
              </a:solidFill>
              <a:latin typeface="HGPﾌﾞｰｹ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1280" y="2924280"/>
            <a:ext cx="4030560" cy="3816360"/>
            <a:chOff x="611280" y="2924280"/>
            <a:chExt cx="4030560" cy="3816360"/>
          </a:xfrm>
        </p:grpSpPr>
        <p:sp>
          <p:nvSpPr>
            <p:cNvPr id="246" name=""/>
            <p:cNvSpPr/>
            <p:nvPr/>
          </p:nvSpPr>
          <p:spPr>
            <a:xfrm>
              <a:off x="611280" y="2924280"/>
              <a:ext cx="4030560" cy="381636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82800" y="3592440"/>
              <a:ext cx="3230280" cy="3148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60640" y="5740560"/>
              <a:ext cx="1031760" cy="1000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44880" y="4487760"/>
              <a:ext cx="861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　</a:t>
              </a: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44880" y="3025800"/>
              <a:ext cx="861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　</a:t>
              </a:r>
              <a:r>
                <a:rPr b="0" lang="en-US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933800" y="2924280"/>
            <a:ext cx="4030920" cy="381636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83160" y="5740560"/>
            <a:ext cx="1032120" cy="1000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67400" y="3025800"/>
            <a:ext cx="8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遠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74480" y="2565360"/>
            <a:ext cx="8345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パトリ</a:t>
            </a:r>
            <a:br>
              <a:rPr sz="8000"/>
            </a:b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依って立つ地面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円環の限界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7761" t="11855" r="5491" b="32952"/>
          <a:stretch/>
        </p:blipFill>
        <p:spPr>
          <a:xfrm>
            <a:off x="1042920" y="1125360"/>
            <a:ext cx="6913800" cy="316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716960" y="4941720"/>
            <a:ext cx="1463400" cy="1872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66560" y="4437000"/>
            <a:ext cx="792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他者〉とつながらな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仕事の源泉は円環の外にあ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4077720"/>
            <a:ext cx="734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</a:t>
            </a:r>
            <a:r>
              <a:rPr b="0" lang="zh-CN" sz="1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3"/>
              </a:rPr>
              <a:t>新ネットワーク思考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アルバート＝ラズロ・バラバシ（著）青木薫（訳） 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28926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円環に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ひねりを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加える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832360" cy="52326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198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メビウスの帯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2502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会員各社が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自ら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情報を発信する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2502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HGPﾌﾞｰｹ"/>
              </a:rPr>
              <a:t>ブログ化</a:t>
            </a:r>
            <a:endParaRPr b="0" lang="en-US" sz="1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2502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</a:rPr>
              <a:t>最近の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</a:rPr>
              <a:t>インターネットの流れ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9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29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234900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元気のないことについて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あれば便利だなと思うものが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Web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にある。</a:t>
            </a:r>
            <a:br>
              <a:rPr sz="5400"/>
            </a:br>
            <a:r>
              <a:rPr b="0" lang="zh-CN" sz="9600" spc="-1" strike="noStrike">
                <a:solidFill>
                  <a:srgbClr val="000000"/>
                </a:solidFill>
                <a:latin typeface="HGPﾌﾞｰｹ"/>
              </a:rPr>
              <a:t>それも無償で。</a:t>
            </a:r>
            <a:endParaRPr b="0" lang="en-US" sz="9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640" y="105228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無料経済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ません。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62204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34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79640" y="400536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土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農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6120" y="2579760"/>
            <a:ext cx="81612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92240" y="264312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1906560" y="979560"/>
            <a:ext cx="5544720" cy="5257440"/>
            <a:chOff x="1906560" y="979560"/>
            <a:chExt cx="5544720" cy="525744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1906560" y="979560"/>
              <a:ext cx="55447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978560" y="4013640"/>
              <a:ext cx="255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69960" y="4075560"/>
              <a:ext cx="18126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02080" y="1853280"/>
              <a:ext cx="23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020480" y="4149720"/>
            <a:ext cx="911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48000" y="29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32360" y="2971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インターネットの純粋贈与仮説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04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1946160" y="984240"/>
            <a:ext cx="5505480" cy="5108400"/>
            <a:chOff x="1946160" y="984240"/>
            <a:chExt cx="5505480" cy="510840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1946160" y="98424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017800" y="393228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・市民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・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・会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6520" y="399240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30520" y="183348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建設協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447080" y="4076640"/>
            <a:ext cx="48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59280" y="30621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協会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種的基体」としての事業者団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63640" y="256536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28840" y="1057320"/>
            <a:ext cx="2855880" cy="2876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979640" y="400536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・市民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・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・社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企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企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企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63640" y="260496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236196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</a:rPr>
              <a:t>仕事がない</a:t>
            </a:r>
            <a:br>
              <a:rPr sz="8800"/>
            </a:b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</a:rPr>
              <a:t>情熱が沸かない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243504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</a:rPr>
              <a:t>徹底的に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</a:rPr>
              <a:t>落ち込む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43504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</a:rPr>
              <a:t>腹を据える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情熱は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そこからしか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たぶん生まれないだろう。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とりあえずは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大きな流れで流れて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さらに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加速度をつけることで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独自性を発揮する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785440" cy="1865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協会の</a:t>
            </a:r>
            <a:r>
              <a:rPr b="0" lang="en-US" sz="11700" spc="-1" strike="noStrike">
                <a:solidFill>
                  <a:srgbClr val="000000"/>
                </a:solidFill>
                <a:latin typeface="HGPﾌﾞｰｹ"/>
              </a:rPr>
              <a:t>IT</a:t>
            </a: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化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1834560"/>
            <a:ext cx="8785440" cy="364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イントラネット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を使う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7-10-06T04:29:19Z</dcterms:modified>
  <cp:revision>1538</cp:revision>
  <dc:subject>Being Digital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