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C96AF3-796D-41E0-9B10-A77065E573E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DAA-FFBF-49E8-A6AC-47AD209A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AD4-CB24-476A-A682-F0CB2034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8BA-EC14-4738-812E-3FB28403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E39-A1C2-48D2-AC64-E86D26BB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C69-8FAD-47CD-83F6-BD29BE6B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9931-C810-40C3-9C79-C6182BEC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EE7A-9357-4107-86E0-79D98A0F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3EE-1D7B-45B5-A1BF-8399AA60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E2D5-1F7D-4ED2-A978-171BD2F0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B38B-564C-44D8-8453-E53FE20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F909-4CFB-4CF8-8830-75CAB99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EC6-A1CC-49A0-918A-E6DA6235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C6B-328B-4751-A46F-54B033B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D77-B57D-441C-B087-7FAB0FB6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E61-67B7-41C0-B82A-1B99B74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B65-A912-4AA8-86FA-FE4CE4A6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BA25-B04D-4DEB-8972-C7B0839F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A6B-0CA4-44F7-85D2-CF988B5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5E5-0390-4671-AE56-6B4110E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F80-9DDD-4149-83AA-74936983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36F-FF1C-4829-BD24-1750B45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E68-880F-4D4F-B3F2-465B512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79C-43AF-40EC-A532-EDC6E33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76B-7BA7-4D28-8DF0-E37E4C8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E4F0FA6-9332-4EAA-9F2C-4FED5F7CC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33557D7-DD93-4537-AB9F-98BC97049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067280" y="2276640"/>
            <a:ext cx="4536360" cy="4020120"/>
            <a:chOff x="4067280" y="2276640"/>
            <a:chExt cx="4536360" cy="4020120"/>
          </a:xfrm>
        </p:grpSpPr>
        <p:grpSp>
          <p:nvGrpSpPr>
            <p:cNvPr id="92" name=""/>
            <p:cNvGrpSpPr/>
            <p:nvPr/>
          </p:nvGrpSpPr>
          <p:grpSpPr>
            <a:xfrm>
              <a:off x="4497480" y="2477880"/>
              <a:ext cx="4106160" cy="3818880"/>
              <a:chOff x="4497480" y="2477880"/>
              <a:chExt cx="4106160" cy="3818880"/>
            </a:xfrm>
          </p:grpSpPr>
          <p:sp>
            <p:nvSpPr>
              <p:cNvPr id="93" name=""/>
              <p:cNvSpPr/>
              <p:nvPr/>
            </p:nvSpPr>
            <p:spPr>
              <a:xfrm>
                <a:off x="683424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5568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1500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0528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4532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40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4532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3388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0144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7320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9748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92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6204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2476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6072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3276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568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7668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8936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3808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7964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8416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9568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4896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8188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0156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0992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3776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0428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964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8620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8560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708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2880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8720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236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8652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9136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4772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6276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8572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2100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072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260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2800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5832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3876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9700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5100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1476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6444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1860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6236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352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2124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1884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1884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884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81884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67280" y="2276640"/>
              <a:ext cx="1171440" cy="968760"/>
              <a:chOff x="4067280" y="2276640"/>
              <a:chExt cx="1171440" cy="968760"/>
            </a:xfrm>
          </p:grpSpPr>
          <p:sp>
            <p:nvSpPr>
              <p:cNvPr id="153" name=""/>
              <p:cNvSpPr/>
              <p:nvPr/>
            </p:nvSpPr>
            <p:spPr>
              <a:xfrm>
                <a:off x="477720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0852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9472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2712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3244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3640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4736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1524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3764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972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7868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2224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6104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6976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6976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6728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520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9304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4552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7224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6748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9124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90932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2300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2300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8024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9032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1372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8024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9868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2472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7112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2244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6204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08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46544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6544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6544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6544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144480" y="2344320"/>
              <a:ext cx="1174680" cy="891360"/>
              <a:chOff x="6144480" y="2344320"/>
              <a:chExt cx="1174680" cy="89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30216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1144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1324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3248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9604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1448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0620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4976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0700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4400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5272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4876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4448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7780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7204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3028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7780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2656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9148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7644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9408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768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8256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1424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5924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1072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9452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8256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4204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5132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5304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1648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8256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3980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0020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1704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3824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4876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4876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4876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4876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548240" y="3965400"/>
              <a:ext cx="1151640" cy="786960"/>
              <a:chOff x="4548240" y="3965400"/>
              <a:chExt cx="1151640" cy="78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459540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6472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6292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8420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7988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3348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3712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6292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3712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7888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7188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8816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592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3292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9312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0716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9392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7992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764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1960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112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8612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5164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0808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4824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3896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0368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0808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8916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248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8588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59936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4460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2208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2208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2208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2208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中小建設業の受注を増やす経営戦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5781600"/>
            <a:ext cx="5013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南陽商工会議所　げん気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3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640" y="31413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グローバリズム金融資本主義</a:t>
            </a:r>
            <a:br>
              <a:rPr sz="10600"/>
            </a:b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グローバル経済圏への接続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勝ち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負け組）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今回は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外的要因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を語ることは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しません</a:t>
            </a:r>
            <a:endParaRPr b="0" lang="en-US" sz="65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私たち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が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今出来ること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を考えてみましょう</a:t>
            </a:r>
            <a:endParaRPr b="0" lang="en-US" sz="71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インターネット社会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の環境と原理</a:t>
            </a:r>
            <a:endParaRPr b="0" lang="en-US" sz="71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は約</a:t>
            </a: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年前に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インターネット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に出会い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建設業界にいた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には、それは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夢のようなもので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それから</a:t>
            </a:r>
            <a:r>
              <a:rPr b="0" lang="en-US" sz="80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年が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過ぎました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128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51280" y="6021000"/>
            <a:ext cx="4105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20462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7800" y="6159600"/>
            <a:ext cx="23749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7080" y="2852640"/>
            <a:ext cx="862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2937960"/>
            <a:ext cx="6445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そもそ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この演題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成立するのでしょうか</a:t>
            </a:r>
            <a:endParaRPr b="0" lang="en-US" sz="48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6" name=""/>
          <p:cNvSpPr/>
          <p:nvPr/>
        </p:nvSpPr>
        <p:spPr>
          <a:xfrm>
            <a:off x="2079000" y="836640"/>
            <a:ext cx="455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中小建設業の受注を増やす営業戦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んな時代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我々に要求しているものがありま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〈目的／目標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理解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　お金儲けである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このテーゼは正しいのでしょう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あり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ありません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2722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なんとかなる時代に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生きてきました</a:t>
            </a:r>
            <a:br>
              <a:rPr sz="6000"/>
            </a:b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目的と目標を取り違った例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ミートホープ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白い恋人たち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赤福 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and etc.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ありません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そして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178704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学習の高速道路と大渋滞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8" name=""/>
          <p:cNvSpPr/>
          <p:nvPr/>
        </p:nvSpPr>
        <p:spPr>
          <a:xfrm>
            <a:off x="7301160" y="2847960"/>
            <a:ext cx="10184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羽生善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869000"/>
            <a:ext cx="6445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乗るか乗らないのか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乗れば近道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しかしその先には大渋滞が待ってい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それも無償で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4" name=""/>
          <p:cNvSpPr/>
          <p:nvPr/>
        </p:nvSpPr>
        <p:spPr>
          <a:xfrm>
            <a:off x="108000" y="3860640"/>
            <a:ext cx="889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無料経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640" y="198864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れは如何にして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可能なの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（今までの経済学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7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（今までの経済学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普遍経済学ー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1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6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でしかありません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事業者団体の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贈与とは</a:t>
            </a:r>
            <a:br>
              <a:rPr sz="117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中景であり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である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中景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05" name=""/>
          <p:cNvSpPr/>
          <p:nvPr/>
        </p:nvSpPr>
        <p:spPr>
          <a:xfrm>
            <a:off x="260280" y="845640"/>
            <a:ext cx="8632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407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灰色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16" name=""/>
          <p:cNvSpPr/>
          <p:nvPr/>
        </p:nvSpPr>
        <p:spPr>
          <a:xfrm>
            <a:off x="283536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は（喪失した）贈与共同体を浮かび上がらせま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は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しかし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閉じているだけで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いけ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を知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現実化する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〈戦略〉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スピードで流れることで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〈お金〉は常に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　差異に対し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流れます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しかしそれ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な産業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建設業の場合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他者（顧客）とつなが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が前提で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恰も一身にして</a:t>
            </a:r>
            <a:br>
              <a:rPr sz="8800"/>
            </a:b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二生を経るが如く一人にして</a:t>
            </a:r>
            <a:br>
              <a:rPr sz="8800"/>
            </a:b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両身あるが如し</a:t>
            </a:r>
            <a:br>
              <a:rPr sz="8800"/>
            </a:br>
            <a:r>
              <a:rPr b="0" lang="ja-JP" sz="6000" spc="-1" strike="noStrike">
                <a:solidFill>
                  <a:srgbClr val="00004a"/>
                </a:solidFill>
                <a:latin typeface="HGPﾌﾞｰｹ"/>
              </a:rPr>
              <a:t>（福沢諭吉）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世の中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大きく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変わり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建設業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取り巻く環境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厳しさ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増していま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内的要因</a:t>
            </a:r>
            <a:br>
              <a:rPr sz="9400"/>
            </a:br>
            <a:br>
              <a:rPr sz="9400"/>
            </a:b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外的要因</a:t>
            </a:r>
            <a:endParaRPr b="0" lang="en-US" sz="9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11-12T00:30:56Z</dcterms:modified>
  <cp:revision>1521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