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image6.png" ContentType="image/png"/>
  <Override PartName="/ppt/media/J0097487.WAV" ContentType="audio/x-wav"/>
  <Override PartName="/ppt/media/CAMERA.WAV" ContentType="audio/x-wav"/>
  <Override PartName="/ppt/media/image5.png" ContentType="image/pn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54835EF-C812-4FBA-AF65-4A8150B0E2B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740-74F4-4180-8D77-3C999181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CFD-2828-4036-B836-0D325C69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4CC-A5C2-42C0-9EE5-C61FEA74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10A-0CCE-4554-A16E-61DB8A7F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04EB-763C-4F69-8CC8-6B4C1803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15CB-3932-41CD-9EF3-A61B6BA4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6489-D0AB-4D8B-AF7F-5CA4225A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C109-F918-4D69-BE6D-C4AE9EED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3B16-6B61-4E62-9434-05CBF2BD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1599-7A85-4093-9865-E81B1748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2E37-D960-4EB6-A6E9-3BB916A7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BE9-2822-47BA-83D5-5E1D2D1A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5DA0-7890-41E3-A7F1-13A4AA1A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D717-E39B-46C2-840A-DBCF37C8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7839-29E1-40A0-9B00-C15CEF2A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0586-7C18-401E-AA23-B62B24C7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D75E-87EB-4759-84A8-F325524D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065-701B-4F39-963D-0E623BFE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A97-819F-4180-A3E5-B57BEB0B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1DA-B03B-4262-8518-3C704BCF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E06-BB95-4DA7-8A61-3D8F5DEC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384-83F4-447B-9377-36A156D3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3285-CC52-4089-957A-D671EAAC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4433-862B-42AD-9541-376A27CE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8658002B-20E9-4E2D-81FF-A9FD9BD3E317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9EDDBD89-9995-4E8C-A8E5-78D060EE918F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0097487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917880" y="2060640"/>
            <a:ext cx="4685760" cy="4236120"/>
            <a:chOff x="3917880" y="2060640"/>
            <a:chExt cx="4685760" cy="4236120"/>
          </a:xfrm>
        </p:grpSpPr>
        <p:grpSp>
          <p:nvGrpSpPr>
            <p:cNvPr id="92" name=""/>
            <p:cNvGrpSpPr/>
            <p:nvPr/>
          </p:nvGrpSpPr>
          <p:grpSpPr>
            <a:xfrm>
              <a:off x="4362120" y="2272680"/>
              <a:ext cx="4241520" cy="4024080"/>
              <a:chOff x="4362120" y="2272680"/>
              <a:chExt cx="4241520" cy="4024080"/>
            </a:xfrm>
          </p:grpSpPr>
          <p:sp>
            <p:nvSpPr>
              <p:cNvPr id="93" name=""/>
              <p:cNvSpPr/>
              <p:nvPr/>
            </p:nvSpPr>
            <p:spPr>
              <a:xfrm>
                <a:off x="6775920" y="5239440"/>
                <a:ext cx="1811520" cy="103968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450640" y="5611680"/>
                <a:ext cx="138600" cy="35316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479000" y="5476680"/>
                <a:ext cx="1108080" cy="29304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8920" y="5513400"/>
                <a:ext cx="1085400" cy="4572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3640" y="4743000"/>
                <a:ext cx="990000" cy="22788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14280" y="4793400"/>
                <a:ext cx="158760" cy="83376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3640" y="4764240"/>
                <a:ext cx="875880" cy="86256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05080" y="4853160"/>
                <a:ext cx="686520" cy="62496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66080" y="2272680"/>
                <a:ext cx="2501640" cy="227376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989680" y="4042800"/>
                <a:ext cx="431640" cy="39168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362120" y="2816640"/>
                <a:ext cx="1087920" cy="95940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637240" y="2372760"/>
                <a:ext cx="1226520" cy="152100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48640" y="3830400"/>
                <a:ext cx="476640" cy="42624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75800" y="5901120"/>
                <a:ext cx="1454400" cy="39564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6640" y="5465160"/>
                <a:ext cx="505440" cy="23328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187760" y="5615280"/>
                <a:ext cx="1346760" cy="5637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19720" y="5756400"/>
                <a:ext cx="272880" cy="49788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03240" y="5746680"/>
                <a:ext cx="219600" cy="50184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419880" y="5513400"/>
                <a:ext cx="1283400" cy="75456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89840" y="6200640"/>
                <a:ext cx="617400" cy="8640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409440" y="5030640"/>
                <a:ext cx="724680" cy="58680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07840" y="4976640"/>
                <a:ext cx="498960" cy="43812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19720" y="4980600"/>
                <a:ext cx="486720" cy="13464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274800" y="5156280"/>
                <a:ext cx="146880" cy="25848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15280" y="5082480"/>
                <a:ext cx="109800" cy="27216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45400" y="5051880"/>
                <a:ext cx="291240" cy="15048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957720" y="5181120"/>
                <a:ext cx="44640" cy="28728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676200" y="5274000"/>
                <a:ext cx="85320" cy="1908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641640" y="5237280"/>
                <a:ext cx="52920" cy="5580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09440" y="5327640"/>
                <a:ext cx="413280" cy="28944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19600" y="5735160"/>
                <a:ext cx="666000" cy="22968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38800" y="5932080"/>
                <a:ext cx="87480" cy="2779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26960" y="5104080"/>
                <a:ext cx="6300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183440" y="6202440"/>
                <a:ext cx="507240" cy="6372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17360" y="5501520"/>
                <a:ext cx="185040" cy="77400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85040" y="5459040"/>
                <a:ext cx="378720" cy="22176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33240" y="5922720"/>
                <a:ext cx="211320" cy="28728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44560" y="5771880"/>
                <a:ext cx="690480" cy="18324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996240" y="5239440"/>
                <a:ext cx="592560" cy="8244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908400" y="5571000"/>
                <a:ext cx="170640" cy="21780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29200" y="5561640"/>
                <a:ext cx="113760" cy="11916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65560" y="5632920"/>
                <a:ext cx="163080" cy="15624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340400" y="5372280"/>
                <a:ext cx="154440" cy="12168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352640" y="5387760"/>
                <a:ext cx="144360" cy="13896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79400" y="5399640"/>
                <a:ext cx="391320" cy="19620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14040" y="5632920"/>
                <a:ext cx="1330560" cy="21024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503480" y="5951520"/>
                <a:ext cx="761760" cy="22356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460640" y="5487840"/>
                <a:ext cx="150480" cy="2916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86560" y="4005720"/>
                <a:ext cx="853560" cy="134892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80120" y="3328200"/>
                <a:ext cx="2402280" cy="41652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431240" y="2992680"/>
                <a:ext cx="2385360" cy="36252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82960" y="5655960"/>
                <a:ext cx="794520" cy="20628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251200" y="5854680"/>
                <a:ext cx="289080" cy="32796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47080" y="5929920"/>
                <a:ext cx="1324080" cy="335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175520" y="6014880"/>
                <a:ext cx="1040760" cy="262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792920" y="4943880"/>
                <a:ext cx="543600" cy="5364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792920" y="5040000"/>
                <a:ext cx="429480" cy="5580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792920" y="5146560"/>
                <a:ext cx="429480" cy="5184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2920" y="5268240"/>
                <a:ext cx="429480" cy="5760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917880" y="2060640"/>
              <a:ext cx="1209960" cy="1020600"/>
              <a:chOff x="3917880" y="2060640"/>
              <a:chExt cx="1209960" cy="1020600"/>
            </a:xfrm>
          </p:grpSpPr>
          <p:sp>
            <p:nvSpPr>
              <p:cNvPr id="153" name=""/>
              <p:cNvSpPr/>
              <p:nvPr/>
            </p:nvSpPr>
            <p:spPr>
              <a:xfrm>
                <a:off x="4651200" y="2878920"/>
                <a:ext cx="89280" cy="16560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683600" y="2861280"/>
                <a:ext cx="415440" cy="20988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979160" y="2841840"/>
                <a:ext cx="121680" cy="17352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83120" y="2280240"/>
                <a:ext cx="191160" cy="7164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85200" y="2556360"/>
                <a:ext cx="291240" cy="25848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989160" y="2546640"/>
                <a:ext cx="700560" cy="1774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7320" y="2612160"/>
                <a:ext cx="486720" cy="20232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70520" y="2282400"/>
                <a:ext cx="129960" cy="33372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197240" y="2266920"/>
                <a:ext cx="429480" cy="10008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188960" y="2282400"/>
                <a:ext cx="85320" cy="38196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39720" y="2280240"/>
                <a:ext cx="387000" cy="38412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84360" y="2320920"/>
                <a:ext cx="301320" cy="27360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221000" y="2652840"/>
                <a:ext cx="584640" cy="24264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33320" y="2670120"/>
                <a:ext cx="356400" cy="8856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3320" y="2708640"/>
                <a:ext cx="364320" cy="16596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17880" y="2612160"/>
                <a:ext cx="65520" cy="756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669560" y="2546640"/>
                <a:ext cx="115920" cy="7524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667400" y="2560320"/>
                <a:ext cx="101880" cy="7524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18440" y="2531160"/>
                <a:ext cx="61200" cy="1692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749120" y="2152800"/>
                <a:ext cx="221400" cy="41508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641120" y="2477160"/>
                <a:ext cx="486720" cy="47052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665600" y="2060640"/>
                <a:ext cx="415080" cy="37404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787640" y="2461680"/>
                <a:ext cx="171360" cy="13284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01680" y="2228040"/>
                <a:ext cx="75240" cy="9648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01680" y="2220480"/>
                <a:ext cx="1836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861080" y="2216520"/>
                <a:ext cx="20160" cy="17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71160" y="2319120"/>
                <a:ext cx="32760" cy="266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95640" y="2297520"/>
                <a:ext cx="12240" cy="381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61080" y="2143080"/>
                <a:ext cx="164880" cy="21204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83480" y="2623680"/>
                <a:ext cx="56520" cy="30096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700160" y="2598840"/>
                <a:ext cx="21960" cy="30492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231800" y="2762640"/>
                <a:ext cx="137880" cy="132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07960" y="3006000"/>
                <a:ext cx="21960" cy="381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048640" y="2957400"/>
                <a:ext cx="0" cy="96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83600" y="2922840"/>
                <a:ext cx="0" cy="158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29360" y="2365560"/>
                <a:ext cx="211680" cy="1908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329360" y="2421000"/>
                <a:ext cx="211680" cy="1728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29360" y="2471400"/>
                <a:ext cx="211680" cy="1332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329360" y="2509920"/>
                <a:ext cx="211680" cy="2304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063480" y="2131920"/>
              <a:ext cx="1213200" cy="939240"/>
              <a:chOff x="6063480" y="2131920"/>
              <a:chExt cx="1213200" cy="939240"/>
            </a:xfrm>
          </p:grpSpPr>
          <p:sp>
            <p:nvSpPr>
              <p:cNvPr id="193" name=""/>
              <p:cNvSpPr/>
              <p:nvPr/>
            </p:nvSpPr>
            <p:spPr>
              <a:xfrm>
                <a:off x="6226200" y="2436840"/>
                <a:ext cx="199440" cy="7848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132600" y="2729880"/>
                <a:ext cx="297360" cy="24480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134400" y="2712600"/>
                <a:ext cx="710640" cy="1735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360840" y="2768400"/>
                <a:ext cx="486720" cy="20628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19720" y="2440800"/>
                <a:ext cx="128160" cy="33336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342120" y="2423160"/>
                <a:ext cx="439920" cy="11376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33840" y="2440800"/>
                <a:ext cx="93600" cy="38196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78840" y="2436840"/>
                <a:ext cx="403560" cy="38592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437880" y="2483280"/>
                <a:ext cx="297360" cy="27144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72720" y="2816640"/>
                <a:ext cx="584640" cy="25452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85040" y="2830320"/>
                <a:ext cx="360000" cy="1040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80720" y="2882160"/>
                <a:ext cx="372600" cy="1526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063480" y="2768400"/>
                <a:ext cx="64800" cy="1512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820920" y="2706840"/>
                <a:ext cx="118080" cy="8460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814800" y="2737800"/>
                <a:ext cx="111960" cy="6912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771960" y="2687400"/>
                <a:ext cx="61200" cy="208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20920" y="2872440"/>
                <a:ext cx="399240" cy="19836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077600" y="2894040"/>
                <a:ext cx="118080" cy="1771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834960" y="2471400"/>
                <a:ext cx="441720" cy="54036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922800" y="2152800"/>
                <a:ext cx="244080" cy="35532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940800" y="2457720"/>
                <a:ext cx="177120" cy="31284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30880" y="2320920"/>
                <a:ext cx="28080" cy="766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928920" y="2241720"/>
                <a:ext cx="81000" cy="694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61680" y="2220480"/>
                <a:ext cx="21960" cy="20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008480" y="2220480"/>
                <a:ext cx="21960" cy="30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061400" y="2313000"/>
                <a:ext cx="18000" cy="3672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44840" y="233604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928920" y="2319120"/>
                <a:ext cx="44640" cy="10584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093800" y="2397960"/>
                <a:ext cx="24120" cy="6192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999840" y="2457720"/>
                <a:ext cx="162720" cy="29520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98320" y="2469600"/>
                <a:ext cx="75240" cy="29700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067520" y="2621880"/>
                <a:ext cx="118080" cy="37224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28920" y="2131920"/>
                <a:ext cx="264600" cy="21780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987960" y="2488680"/>
                <a:ext cx="60840" cy="6912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947280" y="2546640"/>
                <a:ext cx="77040" cy="23688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861600" y="2621880"/>
                <a:ext cx="46800" cy="32976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366600" y="2928600"/>
                <a:ext cx="138240" cy="13680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80720" y="2540880"/>
                <a:ext cx="213840" cy="1116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80720" y="2598480"/>
                <a:ext cx="213840" cy="1728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480720" y="2637000"/>
                <a:ext cx="213840" cy="2124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80720" y="2681640"/>
                <a:ext cx="213840" cy="1332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414680" y="3840120"/>
              <a:ext cx="1189800" cy="829440"/>
              <a:chOff x="4414680" y="3840120"/>
              <a:chExt cx="1189800" cy="829440"/>
            </a:xfrm>
          </p:grpSpPr>
          <p:sp>
            <p:nvSpPr>
              <p:cNvPr id="235" name=""/>
              <p:cNvSpPr/>
              <p:nvPr/>
            </p:nvSpPr>
            <p:spPr>
              <a:xfrm>
                <a:off x="4463640" y="4455360"/>
                <a:ext cx="417600" cy="20052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58160" y="4073040"/>
                <a:ext cx="187560" cy="7344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56360" y="4343040"/>
                <a:ext cx="280800" cy="23184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65040" y="4322160"/>
                <a:ext cx="667800" cy="16776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60720" y="4382280"/>
                <a:ext cx="464400" cy="19296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29080" y="4077000"/>
                <a:ext cx="124200" cy="30888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19760" y="4055760"/>
                <a:ext cx="411480" cy="1022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256360" y="4077000"/>
                <a:ext cx="87120" cy="3546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19760" y="4073040"/>
                <a:ext cx="372600" cy="35856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62960" y="4104360"/>
                <a:ext cx="286560" cy="26208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749120" y="4420800"/>
                <a:ext cx="561960" cy="23904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69000" y="4439880"/>
                <a:ext cx="331920" cy="9432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56760" y="4484160"/>
                <a:ext cx="350640" cy="15048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535360" y="4382280"/>
                <a:ext cx="69120" cy="1116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771080" y="4318200"/>
                <a:ext cx="111960" cy="8280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785480" y="4349160"/>
                <a:ext cx="101520" cy="6552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5120" y="4303080"/>
                <a:ext cx="59040" cy="1728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47440" y="3840120"/>
                <a:ext cx="297360" cy="27756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475880" y="3857040"/>
                <a:ext cx="248400" cy="52668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91800" y="3949920"/>
                <a:ext cx="67320" cy="8280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10440" y="3849480"/>
                <a:ext cx="178920" cy="9792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557240" y="4030920"/>
                <a:ext cx="111960" cy="6372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24560" y="3945960"/>
                <a:ext cx="20160" cy="9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579920" y="3949920"/>
                <a:ext cx="15840" cy="15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14680" y="4160160"/>
                <a:ext cx="439920" cy="44352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08280" y="4144680"/>
                <a:ext cx="222120" cy="23760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471920" y="4289400"/>
                <a:ext cx="195120" cy="29916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579920" y="4542480"/>
                <a:ext cx="140400" cy="8064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767120" y="4248720"/>
                <a:ext cx="28440" cy="31068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687560" y="4516920"/>
                <a:ext cx="140760" cy="9252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76800" y="454248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4467240" y="4559400"/>
                <a:ext cx="8280" cy="846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24360" y="4569120"/>
                <a:ext cx="0" cy="77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07600" y="4156200"/>
                <a:ext cx="213840" cy="1692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007600" y="4215960"/>
                <a:ext cx="213840" cy="1548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007600" y="4260600"/>
                <a:ext cx="213840" cy="1908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007600" y="4303080"/>
                <a:ext cx="213840" cy="1512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200" spc="-1" strike="noStrike">
                <a:solidFill>
                  <a:srgbClr val="00004a"/>
                </a:solidFill>
                <a:latin typeface="HGPﾌﾞｰｹ"/>
              </a:rPr>
              <a:t>Being Digital</a:t>
            </a:r>
            <a:endParaRPr b="0" lang="en-US" sz="62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1197000"/>
            <a:ext cx="8664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n the 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ｒｉｇｈｔ 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lace at the righ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16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640" y="2491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世の中は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大きく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変わりました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境界の時代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09440" y="2491920"/>
            <a:ext cx="752292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インターネットの精神文化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自発性（ボランティア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草の根（グラスルーツ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開放系（オープン） 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41440" y="44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</a:rPr>
              <a:t>キアスム交差図式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76832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68320" y="2190600"/>
            <a:ext cx="6188400" cy="339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768320" y="865080"/>
            <a:ext cx="6188400" cy="368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36000" y="129852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56320" y="2276640"/>
            <a:ext cx="0" cy="2109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51280" y="3357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851280" y="6021000"/>
            <a:ext cx="4105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95640" y="5300640"/>
            <a:ext cx="259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40160" y="1298520"/>
            <a:ext cx="253548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ウェ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ウェブ化する現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95640" y="218916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インターネッ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17800" y="6159600"/>
            <a:ext cx="237492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0</a:t>
            </a: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年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92360" y="2708280"/>
            <a:ext cx="648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2d2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7080" y="2852640"/>
            <a:ext cx="8622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現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7640" y="2491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5400" spc="-1" strike="noStrike">
                <a:solidFill>
                  <a:srgbClr val="00004a"/>
                </a:solidFill>
                <a:latin typeface="HGPﾌﾞｰｹ"/>
              </a:rPr>
              <a:t>恰も一身にして</a:t>
            </a:r>
            <a:br>
              <a:rPr sz="5400"/>
            </a:br>
            <a:r>
              <a:rPr b="0" lang="ja-JP" sz="5400" spc="-1" strike="noStrike">
                <a:solidFill>
                  <a:srgbClr val="00004a"/>
                </a:solidFill>
                <a:latin typeface="HGPﾌﾞｰｹ"/>
              </a:rPr>
              <a:t>二生を経るが如く一人にして</a:t>
            </a:r>
            <a:br>
              <a:rPr sz="5400"/>
            </a:br>
            <a:r>
              <a:rPr b="0" lang="ja-JP" sz="5400" spc="-1" strike="noStrike">
                <a:solidFill>
                  <a:srgbClr val="00004a"/>
                </a:solidFill>
                <a:latin typeface="HGPﾌﾞｰｹ"/>
              </a:rPr>
              <a:t>両身あるが如し</a:t>
            </a:r>
            <a:br>
              <a:rPr sz="5400"/>
            </a:b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（福沢諭吉）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064360" cy="1584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そんな時代が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我々に要求しているもの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920" y="2506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〈目的／目標〉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の差異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の理解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32000" y="2506320"/>
            <a:ext cx="67658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企業の目的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お金儲けである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お金儲けは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　目標であり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目的ではない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41440" y="54900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ドラッカー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2530800"/>
            <a:ext cx="8459640" cy="25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企業の目的は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顧客の創造であ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〈戦略〉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とりあえずは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大きな動きで流れて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　　　それ以上の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スピードで流れることで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　　　　独自性を保つ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2722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私達は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長い間、目的がなくと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なんとかなる時代に生きてきました。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目的と目標を取り違った例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ミートホープ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白い恋人たち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赤福 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耐震偽装 </a:t>
            </a: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and etc.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144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理念（哲学）なき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人には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　目的がない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2650680"/>
            <a:ext cx="8748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そして今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理念（哲学）なき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人に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生き辛い時代です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280" y="286668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何人も家卑の前では英雄足りえず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それは</a:t>
            </a:r>
            <a:r>
              <a:rPr b="0" lang="en-US" sz="6000" spc="-1" strike="noStrike">
                <a:solidFill>
                  <a:srgbClr val="00004a"/>
                </a:solidFill>
                <a:latin typeface="HGPﾌﾞｰｹ"/>
              </a:rPr>
              <a:t>Web</a:t>
            </a: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化する現実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現実化する</a:t>
            </a:r>
            <a:r>
              <a:rPr b="0" lang="en-US" sz="6000" spc="-1" strike="noStrike">
                <a:solidFill>
                  <a:srgbClr val="00004a"/>
                </a:solidFill>
                <a:latin typeface="HGPﾌﾞｰｹ"/>
              </a:rPr>
              <a:t>Web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という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　　　　大きな流れ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7640" y="1699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40053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／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する現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あれば便利だな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と思うものが</a:t>
            </a: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Web</a:t>
            </a: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にある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それも無償で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23" name=""/>
          <p:cNvSpPr/>
          <p:nvPr/>
        </p:nvSpPr>
        <p:spPr>
          <a:xfrm>
            <a:off x="108000" y="3860640"/>
            <a:ext cx="8891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無料経済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640" y="198864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それは如何にして可能なのでしょうか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280" y="2290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私の興味の対象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現場が</a:t>
            </a:r>
            <a:r>
              <a:rPr b="0" lang="en-US" sz="4400" spc="-1" strike="noStrike">
                <a:solidFill>
                  <a:srgbClr val="000000"/>
                </a:solidFill>
                <a:latin typeface="HGPﾌﾞｰｹ"/>
              </a:rPr>
              <a:t>CCPM</a:t>
            </a: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や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ワンデイレスポンスに取り組める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環境をつくる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76" name=""/>
          <p:cNvSpPr/>
          <p:nvPr/>
        </p:nvSpPr>
        <p:spPr>
          <a:xfrm>
            <a:off x="4694400" y="5880240"/>
            <a:ext cx="20851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正しいときに正しい場所に居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5300640"/>
            <a:ext cx="8893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n the </a:t>
            </a: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ｒｉｇｈｔ </a:t>
            </a:r>
            <a:r>
              <a:rPr b="0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lace at the righ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限定経済学（今までの経済学）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26" name=""/>
          <p:cNvSpPr/>
          <p:nvPr/>
        </p:nvSpPr>
        <p:spPr>
          <a:xfrm>
            <a:off x="2619360" y="2060640"/>
            <a:ext cx="4184640" cy="396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9640" y="1197000"/>
            <a:ext cx="8064720" cy="532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44720" y="12542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社会的交換（贈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92360" y="36450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経済的交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交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620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贈与／交換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〈贈与／交換〉の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バイナリーコード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（今までの経済学）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で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とらえきれません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1763640" y="1057320"/>
            <a:ext cx="5976720" cy="5540040"/>
            <a:chOff x="1763640" y="1057320"/>
            <a:chExt cx="5976720" cy="5540040"/>
          </a:xfrm>
        </p:grpSpPr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1763640" y="1057320"/>
              <a:ext cx="5976720" cy="55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841400" y="4254480"/>
              <a:ext cx="27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純粋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81200" y="4319640"/>
              <a:ext cx="1954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83360" y="1978200"/>
              <a:ext cx="257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62204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19640" y="3422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7672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普遍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979640" y="4005360"/>
              <a:ext cx="2536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土地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農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普遍経済学ー農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08000" y="2774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HGPﾌﾞｰｹ"/>
                <a:ea typeface="HGPﾌﾞｰｹ"/>
              </a:rPr>
              <a:t>農作作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56516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906560" y="979560"/>
            <a:ext cx="5544720" cy="5257440"/>
            <a:chOff x="1906560" y="979560"/>
            <a:chExt cx="5544720" cy="525744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1906560" y="979560"/>
              <a:ext cx="554472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978560" y="4013640"/>
              <a:ext cx="2554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69960" y="4075560"/>
              <a:ext cx="18126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02080" y="1853280"/>
              <a:ext cx="239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Goo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447768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48000" y="3141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31338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の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5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の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事業者団体の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946160" y="984240"/>
            <a:ext cx="5505480" cy="5108400"/>
            <a:chOff x="1946160" y="984240"/>
            <a:chExt cx="5505480" cy="5108400"/>
          </a:xfrm>
        </p:grpSpPr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1946160" y="98424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017800" y="393228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市民社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会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86520" y="399240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30520" y="183348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事業者団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事業者団体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種的基体」としての事業者団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92360" y="2622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28840" y="1052640"/>
            <a:ext cx="2855880" cy="2876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企業の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387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1979640" y="400536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市民社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社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企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企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技術的「種」としての企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568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280" y="1498320"/>
            <a:ext cx="88934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in the </a:t>
            </a: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ｒｉｇｈｔ </a:t>
            </a: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plac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 at the right time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79" name=""/>
          <p:cNvSpPr/>
          <p:nvPr/>
        </p:nvSpPr>
        <p:spPr>
          <a:xfrm>
            <a:off x="271440" y="3816360"/>
            <a:ext cx="84772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正しいときに正しい場所に居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br>
              <a:rPr sz="4800"/>
            </a:br>
            <a:br>
              <a:rPr sz="48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は（喪失した）贈与共同体を浮かび上がらせます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3640" y="257940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HGPﾌﾞｰｹ"/>
              </a:rPr>
              <a:t>贈与とは</a:t>
            </a:r>
            <a:br>
              <a:rPr sz="106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中景であり、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地域社会・学校・企業・事業者団体・家庭であり、灰色である。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中景の喪失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05" name=""/>
          <p:cNvSpPr/>
          <p:nvPr/>
        </p:nvSpPr>
        <p:spPr>
          <a:xfrm>
            <a:off x="260280" y="845640"/>
            <a:ext cx="8632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劇作家の別役実氏は 皮膚感覚でお互いに感じ取れる距離については「近景」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家族や地域社会といった共同体的な対人距離で構成される「中景」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神秘的なものや占いを信じるような態度は「遠景」につながり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していまや　近景と遠景を媒介するはずの「中景」が抜けてしまって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と遠景がネットワークを通じていきなり接続されると言います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611280" y="2997360"/>
            <a:ext cx="4030560" cy="3816360"/>
            <a:chOff x="611280" y="2997360"/>
            <a:chExt cx="4030560" cy="3816360"/>
          </a:xfrm>
        </p:grpSpPr>
        <p:sp>
          <p:nvSpPr>
            <p:cNvPr id="407" name=""/>
            <p:cNvSpPr/>
            <p:nvPr/>
          </p:nvSpPr>
          <p:spPr>
            <a:xfrm>
              <a:off x="611280" y="2997360"/>
              <a:ext cx="4030560" cy="3816360"/>
            </a:xfrm>
            <a:prstGeom prst="ellipse">
              <a:avLst/>
            </a:prstGeom>
            <a:solidFill>
              <a:srgbClr val="fffb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83160" y="3664800"/>
              <a:ext cx="3229200" cy="3148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59920" y="5813640"/>
              <a:ext cx="1032480" cy="1000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近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45240" y="3813840"/>
              <a:ext cx="86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中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45240" y="3098880"/>
              <a:ext cx="86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遠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33800" y="2924280"/>
            <a:ext cx="4030920" cy="381636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83160" y="5740560"/>
            <a:ext cx="1032120" cy="1000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67400" y="3025800"/>
            <a:ext cx="86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遠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灰色の喪失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16" name=""/>
          <p:cNvSpPr/>
          <p:nvPr/>
        </p:nvSpPr>
        <p:spPr>
          <a:xfrm>
            <a:off x="2835360" y="981000"/>
            <a:ext cx="4184640" cy="3960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dada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95640" y="981000"/>
            <a:ext cx="4319640" cy="3960720"/>
          </a:xfrm>
          <a:prstGeom prst="ellipse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94320" y="5190840"/>
            <a:ext cx="160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人生は黒か白かだけではなく、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黒と白の間にある灰色の部分に面白さがある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池波正太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332000" y="1406520"/>
            <a:ext cx="5976720" cy="49021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656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4a"/>
                </a:solidFill>
                <a:latin typeface="HGPﾌﾞｰｹ"/>
              </a:rPr>
              <a:t>まずは円環をつくる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しかし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閉じているだけでは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いけません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832360" cy="52326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198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メビウスの帯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1440" y="54900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P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・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F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・ドラッカー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2137320"/>
            <a:ext cx="8424720" cy="31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企業は二つの、そして二つだけの基本的な機能を持つ。それがマーケティングとイノベーションで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マーケティング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イノベーションだけが成果をもたら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つまり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コミュニケーション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コミュニケーション定義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〈情報</a:t>
            </a:r>
            <a:r>
              <a:rPr b="0" lang="en-US" sz="5400" spc="-1" strike="noStrike">
                <a:solidFill>
                  <a:srgbClr val="00004a"/>
                </a:solidFill>
                <a:latin typeface="HGPﾌﾞｰｹ"/>
              </a:rPr>
              <a:t>/</a:t>
            </a: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伝達〉の差異の理解</a:t>
            </a:r>
            <a:br>
              <a:rPr sz="5400"/>
            </a:br>
            <a:br>
              <a:rPr sz="5400"/>
            </a:br>
            <a:r>
              <a:rPr b="0" lang="zh-CN" sz="2800" spc="-1" strike="noStrike">
                <a:solidFill>
                  <a:srgbClr val="00004a"/>
                </a:solidFill>
                <a:latin typeface="HGPﾌﾞｰｹ"/>
              </a:rPr>
              <a:t>二クラス・ルーマン</a:t>
            </a:r>
            <a:endParaRPr b="0" lang="en-US" sz="2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893440" cy="562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昨日は新南陽（山口県）で講演でした。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1" name=""/>
          <p:cNvSpPr/>
          <p:nvPr/>
        </p:nvSpPr>
        <p:spPr>
          <a:xfrm>
            <a:off x="3489120" y="2316240"/>
            <a:ext cx="987840" cy="17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お題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中小建設業の受注を増やす営業戦略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7080" y="301104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理念と目的をもって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情報を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発信すること！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7440" y="3011040"/>
            <a:ext cx="7523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ブログ化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7080" y="301104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閉じから開放へ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73200" y="6093000"/>
            <a:ext cx="7427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7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1536480"/>
            <a:ext cx="72784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ja-JP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</a:t>
            </a: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3687840" y="1955880"/>
            <a:ext cx="10461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280" y="2937960"/>
            <a:ext cx="64454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HGPﾌﾞｰｹ"/>
              </a:rPr>
              <a:t>そもそも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HGPﾌﾞｰｹ"/>
              </a:rPr>
              <a:t>こんな演題は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HGPﾌﾞｰｹ"/>
              </a:rPr>
              <a:t>成立するのだろうか</a:t>
            </a:r>
            <a:endParaRPr b="0" lang="en-US" sz="48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3" name=""/>
          <p:cNvSpPr/>
          <p:nvPr/>
        </p:nvSpPr>
        <p:spPr>
          <a:xfrm>
            <a:off x="2079000" y="836640"/>
            <a:ext cx="45540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中小建設業の受注を増やす営業戦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280" y="1787040"/>
            <a:ext cx="88934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学習の高速道路と大渋滞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5" name=""/>
          <p:cNvSpPr/>
          <p:nvPr/>
        </p:nvSpPr>
        <p:spPr>
          <a:xfrm>
            <a:off x="7301160" y="2847960"/>
            <a:ext cx="10184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羽生善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2920" y="2491920"/>
            <a:ext cx="795672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好きなことを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仕事として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貫くことで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食っていけるのか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843280" y="1787040"/>
            <a:ext cx="62294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HGPﾌﾞｰｹ"/>
              </a:rPr>
              <a:t>高く険しい道</a:t>
            </a:r>
            <a:br>
              <a:rPr sz="6000"/>
            </a:br>
            <a:br>
              <a:rPr sz="6000"/>
            </a:br>
            <a:r>
              <a:rPr b="0" lang="ja-JP" sz="6000" spc="-1" strike="noStrike">
                <a:solidFill>
                  <a:srgbClr val="000000"/>
                </a:solidFill>
                <a:latin typeface="HGPﾌﾞｰｹ"/>
              </a:rPr>
              <a:t>けもの道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8" name=""/>
          <p:cNvSpPr/>
          <p:nvPr/>
        </p:nvSpPr>
        <p:spPr>
          <a:xfrm>
            <a:off x="7156800" y="3927600"/>
            <a:ext cx="10184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梅田望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桃知利男</dc:creator>
  <dc:description/>
  <dc:language>en-US</dc:language>
  <cp:lastModifiedBy>桃知利男</cp:lastModifiedBy>
  <cp:lastPrinted>1999-08-20T13:59:28Z</cp:lastPrinted>
  <dcterms:modified xsi:type="dcterms:W3CDTF">2007-11-12T02:27:35Z</dcterms:modified>
  <cp:revision>1540</cp:revision>
  <dc:subject>Being Digital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