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J0097487.WAV" ContentType="audio/x-wav"/>
  <Override PartName="/ppt/media/CAMERA.WAV" ContentType="audio/x-wav"/>
  <Override PartName="/ppt/media/image5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FF843D3-390A-4BEB-870A-47F458A7ECF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EA6-C795-4011-A1AC-B936BC99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52D-60E2-4AB1-BF7A-59B4546A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8F6-26DA-4F4C-8992-7052AC3B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0D1-2DCE-4898-A564-C86F75DF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A6FF-EC14-4CBD-B324-82AE331C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70F8-E6EF-4283-938F-F3D3463E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9916-6BF2-4F81-AF13-F6A23766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411E-1039-4E56-AB44-8BC76B2E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F422-F2D3-4317-A263-48A0F4E2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5F63-FF68-4CB2-8CDB-2F245B0D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E5AB-3415-4CB8-BCA5-53A04AEA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F479-619E-47A5-8825-D6F890B3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70B4-CD27-44D7-AE06-81F3D2E0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2933-7FC2-4FDD-A2F4-C9BCA498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C04E-920A-46E6-95DD-E344A664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305E-8D28-4118-A1AD-8883AFC6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F48D-E502-4E7A-A545-C30F60DB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E0C-CB87-4AD8-9AED-4847D113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6AE-A8F6-4C84-AB43-86A4FAC0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37D8-10DD-48F1-9D13-BD5DBD38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213-F62A-47EC-A23F-1A42FE78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260-8CB6-4CCE-AA29-B18FE4BE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2FE-0EBA-461A-9655-0D8BCD71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525-8989-4074-8E75-81FB08FA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345115BA-4ECC-4781-B5E7-A543E55CA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A15DD278-3A97-4AC8-8624-2A3ABB8B7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amazon.co.jp/exec/obidos/ASIN/4140807431/momotidottoko-22" TargetMode="External"/><Relationship Id="rId4" Type="http://schemas.openxmlformats.org/officeDocument/2006/relationships/hyperlink" Target="http://www.amazon.co.jp/exec/obidos/ASIN/4140807431/momotidottoko-22" TargetMode="External"/><Relationship Id="rId5" Type="http://schemas.openxmlformats.org/officeDocument/2006/relationships/image" Target="../media/image6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amazon.co.jp/exec/obidos/ASIN/4140807431/momotidottoko-22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hyperlink" Target="http://www.amazon.co.jp/exec/obidos/ASIN/4140807431/momotidottoko-22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5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067280" y="2276640"/>
            <a:ext cx="4536360" cy="4020120"/>
            <a:chOff x="4067280" y="2276640"/>
            <a:chExt cx="4536360" cy="4020120"/>
          </a:xfrm>
        </p:grpSpPr>
        <p:grpSp>
          <p:nvGrpSpPr>
            <p:cNvPr id="92" name=""/>
            <p:cNvGrpSpPr/>
            <p:nvPr/>
          </p:nvGrpSpPr>
          <p:grpSpPr>
            <a:xfrm>
              <a:off x="4497480" y="2477880"/>
              <a:ext cx="4106160" cy="3818880"/>
              <a:chOff x="4497480" y="2477880"/>
              <a:chExt cx="4106160" cy="3818880"/>
            </a:xfrm>
          </p:grpSpPr>
          <p:sp>
            <p:nvSpPr>
              <p:cNvPr id="93" name=""/>
              <p:cNvSpPr/>
              <p:nvPr/>
            </p:nvSpPr>
            <p:spPr>
              <a:xfrm>
                <a:off x="6834240" y="5293440"/>
                <a:ext cx="1753560" cy="9867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455680" y="5646960"/>
                <a:ext cx="133920" cy="335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515000" y="5518440"/>
                <a:ext cx="1072800" cy="278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05280" y="5553360"/>
                <a:ext cx="1050840" cy="4338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45320" y="4822200"/>
                <a:ext cx="958320" cy="21636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400" y="4870080"/>
                <a:ext cx="153720" cy="79128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45320" y="4842720"/>
                <a:ext cx="847800" cy="818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33880" y="4926960"/>
                <a:ext cx="664560" cy="59292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01440" y="2477880"/>
                <a:ext cx="2421720" cy="21578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73200" y="4157640"/>
                <a:ext cx="417960" cy="371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97480" y="2994120"/>
                <a:ext cx="1053000" cy="910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31920" y="2572920"/>
                <a:ext cx="1187280" cy="14432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62040" y="3956040"/>
                <a:ext cx="461520" cy="4042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24760" y="5921280"/>
                <a:ext cx="1407960" cy="3754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60720" y="5507640"/>
                <a:ext cx="489240" cy="221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32760" y="5650200"/>
                <a:ext cx="1303560" cy="5349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95680" y="5783760"/>
                <a:ext cx="264240" cy="4726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76680" y="5774760"/>
                <a:ext cx="212760" cy="4762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89360" y="5553360"/>
                <a:ext cx="1242360" cy="7160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38080" y="6205320"/>
                <a:ext cx="597960" cy="8208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79640" y="5095080"/>
                <a:ext cx="701640" cy="5569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84160" y="5043960"/>
                <a:ext cx="482760" cy="415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95680" y="5047920"/>
                <a:ext cx="471240" cy="127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48960" y="5214240"/>
                <a:ext cx="142200" cy="2451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81880" y="5144400"/>
                <a:ext cx="106200" cy="2581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01560" y="5115600"/>
                <a:ext cx="281880" cy="142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09920" y="5238000"/>
                <a:ext cx="43200" cy="2728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37760" y="5326200"/>
                <a:ext cx="8244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704280" y="5291280"/>
                <a:ext cx="51120" cy="52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79640" y="5377320"/>
                <a:ext cx="399960" cy="2746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86200" y="5763960"/>
                <a:ext cx="644760" cy="2178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85600" y="5950800"/>
                <a:ext cx="84960" cy="2635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87080" y="5164920"/>
                <a:ext cx="6120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28800" y="6207120"/>
                <a:ext cx="491040" cy="604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87200" y="5542200"/>
                <a:ext cx="179280" cy="7347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2360" y="5501880"/>
                <a:ext cx="366480" cy="210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86520" y="5941800"/>
                <a:ext cx="204840" cy="2728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91360" y="5798880"/>
                <a:ext cx="668520" cy="173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47720" y="5293440"/>
                <a:ext cx="573840" cy="7848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962760" y="5608080"/>
                <a:ext cx="165240" cy="2066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85720" y="5599080"/>
                <a:ext cx="110160" cy="1134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21000" y="5666760"/>
                <a:ext cx="157680" cy="1479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80720" y="5419440"/>
                <a:ext cx="149760" cy="1152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92600" y="5434200"/>
                <a:ext cx="139680" cy="131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128000" y="5445360"/>
                <a:ext cx="378720" cy="18648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58320" y="5666760"/>
                <a:ext cx="1288080" cy="1998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538760" y="5969160"/>
                <a:ext cx="737280" cy="2120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497000" y="5529240"/>
                <a:ext cx="145800" cy="277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51000" y="4122720"/>
                <a:ext cx="826560" cy="1280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14760" y="3479760"/>
                <a:ext cx="2325600" cy="39528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64440" y="3161160"/>
                <a:ext cx="2309040" cy="34416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18600" y="5688720"/>
                <a:ext cx="768960" cy="1958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262360" y="5877360"/>
                <a:ext cx="279720" cy="3114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93520" y="5948640"/>
                <a:ext cx="1281600" cy="318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21240" y="6029280"/>
                <a:ext cx="1007640" cy="249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818840" y="5013000"/>
                <a:ext cx="526320" cy="5076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18840" y="5104440"/>
                <a:ext cx="415800" cy="5292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18840" y="5205240"/>
                <a:ext cx="415800" cy="493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818840" y="5320800"/>
                <a:ext cx="415800" cy="5472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067280" y="2276640"/>
              <a:ext cx="1171440" cy="968760"/>
              <a:chOff x="4067280" y="2276640"/>
              <a:chExt cx="1171440" cy="968760"/>
            </a:xfrm>
          </p:grpSpPr>
          <p:sp>
            <p:nvSpPr>
              <p:cNvPr id="153" name=""/>
              <p:cNvSpPr/>
              <p:nvPr/>
            </p:nvSpPr>
            <p:spPr>
              <a:xfrm>
                <a:off x="4777200" y="3053160"/>
                <a:ext cx="86760" cy="15732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08520" y="3036600"/>
                <a:ext cx="402480" cy="1990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94720" y="3018240"/>
                <a:ext cx="117720" cy="164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27120" y="2485080"/>
                <a:ext cx="185040" cy="680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32440" y="2747160"/>
                <a:ext cx="281880" cy="2451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36400" y="2737800"/>
                <a:ext cx="678240" cy="168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47360" y="2800080"/>
                <a:ext cx="471240" cy="1922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15240" y="2486880"/>
                <a:ext cx="126000" cy="3168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37640" y="2472480"/>
                <a:ext cx="415800" cy="9504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9720" y="2486880"/>
                <a:ext cx="82440" cy="3625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78680" y="2485080"/>
                <a:ext cx="374760" cy="3646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22240" y="2523600"/>
                <a:ext cx="291960" cy="259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61040" y="2838960"/>
                <a:ext cx="565920" cy="2304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69760" y="2855160"/>
                <a:ext cx="345240" cy="842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69760" y="2891520"/>
                <a:ext cx="352800" cy="15768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67280" y="2800080"/>
                <a:ext cx="6336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95200" y="2737800"/>
                <a:ext cx="111960" cy="71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93040" y="275076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45520" y="2723400"/>
                <a:ext cx="5940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72240" y="2364120"/>
                <a:ext cx="214560" cy="3938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67480" y="2671920"/>
                <a:ext cx="471240" cy="446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791240" y="2276640"/>
                <a:ext cx="401760" cy="35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909320" y="2657520"/>
                <a:ext cx="165600" cy="1260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23000" y="2435400"/>
                <a:ext cx="72720" cy="914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23000" y="2428560"/>
                <a:ext cx="176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80240" y="2424600"/>
                <a:ext cx="19440" cy="1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90320" y="25218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13720" y="250164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80240" y="2355120"/>
                <a:ext cx="159480" cy="2012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098680" y="2810880"/>
                <a:ext cx="54720" cy="2854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24720" y="2787480"/>
                <a:ext cx="21240" cy="2894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371120" y="2943000"/>
                <a:ext cx="133560" cy="126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22440" y="3174120"/>
                <a:ext cx="21240" cy="36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162040" y="3128040"/>
                <a:ext cx="0" cy="91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08520" y="3095280"/>
                <a:ext cx="0" cy="15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465440" y="2566080"/>
                <a:ext cx="20520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465440" y="2618640"/>
                <a:ext cx="205200" cy="1656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65440" y="2666520"/>
                <a:ext cx="20520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465440" y="2702880"/>
                <a:ext cx="205200" cy="219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144480" y="2344320"/>
              <a:ext cx="1174680" cy="891360"/>
              <a:chOff x="6144480" y="2344320"/>
              <a:chExt cx="1174680" cy="891360"/>
            </a:xfrm>
          </p:grpSpPr>
          <p:sp>
            <p:nvSpPr>
              <p:cNvPr id="193" name=""/>
              <p:cNvSpPr/>
              <p:nvPr/>
            </p:nvSpPr>
            <p:spPr>
              <a:xfrm>
                <a:off x="6302160" y="2633760"/>
                <a:ext cx="192960" cy="74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11440" y="2912040"/>
                <a:ext cx="288000" cy="2325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13240" y="2895120"/>
                <a:ext cx="687960" cy="164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432480" y="2948400"/>
                <a:ext cx="471240" cy="1958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96040" y="2637360"/>
                <a:ext cx="124200" cy="3164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14480" y="2620800"/>
                <a:ext cx="425880" cy="1076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06200" y="2637360"/>
                <a:ext cx="90720" cy="3625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49760" y="2633760"/>
                <a:ext cx="390600" cy="3661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507000" y="2677680"/>
                <a:ext cx="288000" cy="2577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44000" y="2994120"/>
                <a:ext cx="565920" cy="2415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52720" y="3007080"/>
                <a:ext cx="348480" cy="986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48760" y="3056400"/>
                <a:ext cx="360720" cy="144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144480" y="2948400"/>
                <a:ext cx="63000" cy="144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877800" y="2889720"/>
                <a:ext cx="114480" cy="802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872040" y="2919240"/>
                <a:ext cx="108360" cy="65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30280" y="2871720"/>
                <a:ext cx="59400" cy="198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77800" y="3047400"/>
                <a:ext cx="386640" cy="18828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26560" y="3067560"/>
                <a:ext cx="114480" cy="168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91480" y="2666520"/>
                <a:ext cx="427680" cy="5126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76440" y="2364120"/>
                <a:ext cx="236520" cy="3369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94080" y="2653560"/>
                <a:ext cx="171720" cy="296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77680" y="2523600"/>
                <a:ext cx="27000" cy="73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982560" y="2448360"/>
                <a:ext cx="78480" cy="65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14240" y="2428560"/>
                <a:ext cx="2124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59240" y="2428560"/>
                <a:ext cx="2124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10720" y="2516040"/>
                <a:ext cx="17280" cy="345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94520" y="2538000"/>
                <a:ext cx="2340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82560" y="2521800"/>
                <a:ext cx="43200" cy="1004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42040" y="2596680"/>
                <a:ext cx="23400" cy="5868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051320" y="2653560"/>
                <a:ext cx="157680" cy="280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953040" y="2664720"/>
                <a:ext cx="72720" cy="281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116480" y="2809440"/>
                <a:ext cx="114480" cy="353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82560" y="2344320"/>
                <a:ext cx="255960" cy="20664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39800" y="2683080"/>
                <a:ext cx="58680" cy="655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00200" y="2737800"/>
                <a:ext cx="74520" cy="2250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17040" y="2809440"/>
                <a:ext cx="45360" cy="3128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38240" y="3100320"/>
                <a:ext cx="133920" cy="1299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48760" y="2732400"/>
                <a:ext cx="20700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48760" y="2787120"/>
                <a:ext cx="207000" cy="1656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48760" y="2823840"/>
                <a:ext cx="207000" cy="2016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48760" y="2866320"/>
                <a:ext cx="20700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548240" y="3965400"/>
              <a:ext cx="1151640" cy="786960"/>
              <a:chOff x="4548240" y="3965400"/>
              <a:chExt cx="1151640" cy="786960"/>
            </a:xfrm>
          </p:grpSpPr>
          <p:sp>
            <p:nvSpPr>
              <p:cNvPr id="235" name=""/>
              <p:cNvSpPr/>
              <p:nvPr/>
            </p:nvSpPr>
            <p:spPr>
              <a:xfrm>
                <a:off x="4595400" y="4548960"/>
                <a:ext cx="403920" cy="190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64720" y="4186440"/>
                <a:ext cx="181440" cy="69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362920" y="4442760"/>
                <a:ext cx="271800" cy="2199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984200" y="4422960"/>
                <a:ext cx="646560" cy="159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79880" y="4479840"/>
                <a:ext cx="449640" cy="1828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33480" y="4190400"/>
                <a:ext cx="120240" cy="2930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37120" y="4169880"/>
                <a:ext cx="398160" cy="968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362920" y="4190400"/>
                <a:ext cx="84240" cy="336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37120" y="4186440"/>
                <a:ext cx="360720" cy="34020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78880" y="4215960"/>
                <a:ext cx="277560" cy="248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71880" y="4516200"/>
                <a:ext cx="543960" cy="22680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88160" y="4534560"/>
                <a:ext cx="321480" cy="896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75920" y="4576320"/>
                <a:ext cx="339120" cy="142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32920" y="4479840"/>
                <a:ext cx="6696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893120" y="4419000"/>
                <a:ext cx="108360" cy="7884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907160" y="4448520"/>
                <a:ext cx="98280" cy="6228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93920" y="4404600"/>
                <a:ext cx="56880" cy="1656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79920" y="3965400"/>
                <a:ext cx="287640" cy="2635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07640" y="3981240"/>
                <a:ext cx="240480" cy="499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19600" y="4069440"/>
                <a:ext cx="65160" cy="788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41120" y="3974400"/>
                <a:ext cx="173160" cy="92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86120" y="4146120"/>
                <a:ext cx="108360" cy="604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51640" y="4065840"/>
                <a:ext cx="1944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08080" y="4069440"/>
                <a:ext cx="1548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48240" y="4269240"/>
                <a:ext cx="425880" cy="420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638960" y="4254120"/>
                <a:ext cx="214920" cy="2253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03680" y="4391640"/>
                <a:ext cx="189000" cy="2836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08080" y="4631760"/>
                <a:ext cx="135720" cy="766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89160" y="4353120"/>
                <a:ext cx="27720" cy="2944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12480" y="4607640"/>
                <a:ext cx="136080" cy="878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85880" y="4631760"/>
                <a:ext cx="129960" cy="1206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4599360" y="4647960"/>
                <a:ext cx="7920" cy="80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44600" y="4656960"/>
                <a:ext cx="0" cy="73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22080" y="4265280"/>
                <a:ext cx="20700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22080" y="4321800"/>
                <a:ext cx="207000" cy="147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22080" y="4364280"/>
                <a:ext cx="20700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22080" y="4404600"/>
                <a:ext cx="20700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HGPﾌﾞｰｹ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197000"/>
            <a:ext cx="8664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これからの時代の建設業のビジネスモデル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5373720"/>
            <a:ext cx="5013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7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株）ｴﾙ・ｼｰ・ｴｰ・ｺﾝｽﾄﾗｸｼｮ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回 ルネス プラチナ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38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560" y="234900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グローバル経済圏への接続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　　　　　（勝ち組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ドメスティック経済圏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　　　　　　（負け組）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6360" y="315396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500" spc="-1" strike="noStrike">
                <a:solidFill>
                  <a:srgbClr val="000000"/>
                </a:solidFill>
                <a:latin typeface="HGPﾌﾞｰｹ"/>
              </a:rPr>
              <a:t>今回は</a:t>
            </a:r>
            <a:br>
              <a:rPr sz="6500"/>
            </a:br>
            <a:r>
              <a:rPr b="0" lang="zh-CN" sz="6500" spc="-1" strike="noStrike">
                <a:solidFill>
                  <a:srgbClr val="000000"/>
                </a:solidFill>
                <a:latin typeface="HGPﾌﾞｰｹ"/>
              </a:rPr>
              <a:t>外的要因</a:t>
            </a:r>
            <a:br>
              <a:rPr sz="6500"/>
            </a:br>
            <a:r>
              <a:rPr b="0" lang="zh-CN" sz="6500" spc="-1" strike="noStrike">
                <a:solidFill>
                  <a:srgbClr val="000000"/>
                </a:solidFill>
                <a:latin typeface="HGPﾌﾞｰｹ"/>
              </a:rPr>
              <a:t>を語ることは</a:t>
            </a:r>
            <a:br>
              <a:rPr sz="6500"/>
            </a:br>
            <a:r>
              <a:rPr b="0" lang="zh-CN" sz="6500" spc="-1" strike="noStrike">
                <a:solidFill>
                  <a:srgbClr val="000000"/>
                </a:solidFill>
                <a:latin typeface="HGPﾌﾞｰｹ"/>
              </a:rPr>
              <a:t>しません</a:t>
            </a:r>
            <a:endParaRPr b="0" lang="en-US" sz="65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6360" y="315396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私たち</a:t>
            </a:r>
            <a:br>
              <a:rPr sz="7100"/>
            </a:b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が</a:t>
            </a:r>
            <a:br>
              <a:rPr sz="7100"/>
            </a:b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今出来ること</a:t>
            </a:r>
            <a:br>
              <a:rPr sz="7100"/>
            </a:b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を考えてみましょう</a:t>
            </a:r>
            <a:endParaRPr b="0" lang="en-US" sz="71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6360" y="315396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インターネット社会</a:t>
            </a:r>
            <a:br>
              <a:rPr sz="7100"/>
            </a:b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という</a:t>
            </a:r>
            <a:br>
              <a:rPr sz="7100"/>
            </a:br>
            <a:r>
              <a:rPr b="0" lang="zh-CN" sz="7100" spc="-1" strike="noStrike">
                <a:solidFill>
                  <a:srgbClr val="000000"/>
                </a:solidFill>
                <a:latin typeface="HGPﾌﾞｰｹ"/>
              </a:rPr>
              <a:t>環境と原理</a:t>
            </a:r>
            <a:endParaRPr b="0" lang="en-US" sz="71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私は約</a:t>
            </a:r>
            <a:r>
              <a:rPr b="0" lang="en-US" sz="7200" spc="-1" strike="noStrike">
                <a:solidFill>
                  <a:srgbClr val="00004a"/>
                </a:solidFill>
                <a:latin typeface="HGPﾌﾞｰｹ"/>
              </a:rPr>
              <a:t>10</a:t>
            </a: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年前に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インターネット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に出会いました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9440" y="2491920"/>
            <a:ext cx="752292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インターネットの精神文化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自発性（ボランティア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草の根（グラスルーツ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開放系（オープン） 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建設業界にいた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私には、それは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夢のようなものでした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それから</a:t>
            </a:r>
            <a:r>
              <a:rPr b="0" lang="en-US" sz="8000" spc="-1" strike="noStrike">
                <a:solidFill>
                  <a:srgbClr val="00004a"/>
                </a:solidFill>
                <a:latin typeface="HGPﾌﾞｰｹ"/>
              </a:rPr>
              <a:t>10</a:t>
            </a: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年が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過ぎました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41440" y="44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キアスム交差図式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76832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68320" y="2190600"/>
            <a:ext cx="6188400" cy="339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768320" y="865080"/>
            <a:ext cx="6188400" cy="36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36000" y="129852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2276640"/>
            <a:ext cx="0" cy="21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51280" y="3357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851280" y="6021000"/>
            <a:ext cx="4105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95640" y="5300640"/>
            <a:ext cx="259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40160" y="1298520"/>
            <a:ext cx="253548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20462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17800" y="6159600"/>
            <a:ext cx="237492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92360" y="2708280"/>
            <a:ext cx="648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2d2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7080" y="2852640"/>
            <a:ext cx="8622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現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891640" cy="1584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そんな時代が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我々に要求しているものがありま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280" y="1498320"/>
            <a:ext cx="88934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in the 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ｒｉｇｈｔ 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plac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 at the right time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6" name=""/>
          <p:cNvSpPr/>
          <p:nvPr/>
        </p:nvSpPr>
        <p:spPr>
          <a:xfrm>
            <a:off x="271440" y="3816360"/>
            <a:ext cx="84772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正しいときに正しい場所に居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0920" y="2506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〈目的／目標〉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の差異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の理解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29239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企業の目的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　　お金儲けである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このテーゼは正しいのでしょうか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お金儲けは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　目標であり</a:t>
            </a:r>
            <a:br>
              <a:rPr sz="7200"/>
            </a:b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目的ではありません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41440" y="54900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ドラッカー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2530800"/>
            <a:ext cx="8459640" cy="25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企業の目的は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顧客の創造であ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920" y="272232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私達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長い間、目的がなくとも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なんとかなる時代に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生きてきました</a:t>
            </a:r>
            <a:br>
              <a:rPr sz="6000"/>
            </a:b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目的と目標を取り違った例</a:t>
            </a:r>
            <a:br>
              <a:rPr sz="5400"/>
            </a:br>
            <a:br>
              <a:rPr sz="5400"/>
            </a:b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耐震偽装・ミートホープ・白い恋人たち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赤福</a:t>
            </a:r>
            <a:br>
              <a:rPr sz="3600"/>
            </a:b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ニチアス・東洋ゴム工業</a:t>
            </a:r>
            <a:br>
              <a:rPr sz="3600"/>
            </a:b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の耐火材性能偽装</a:t>
            </a:r>
            <a:br>
              <a:rPr sz="3600"/>
            </a:b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</a:rPr>
              <a:t>and etc.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1440" y="265068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理念（哲学）なき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人には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　目的がありません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265068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そして今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理念（哲学）なき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　人に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生き辛い時代で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280" y="286668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何人も家卑の前では英雄足りえず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7640" y="169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4005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／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する現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8800" spc="-1" strike="noStrike">
                <a:solidFill>
                  <a:srgbClr val="00004a"/>
                </a:solidFill>
                <a:latin typeface="HGPﾌﾞｰｹ"/>
              </a:rPr>
              <a:t>恰も一身にして</a:t>
            </a:r>
            <a:br>
              <a:rPr sz="8800"/>
            </a:br>
            <a:r>
              <a:rPr b="0" lang="ja-JP" sz="8800" spc="-1" strike="noStrike">
                <a:solidFill>
                  <a:srgbClr val="00004a"/>
                </a:solidFill>
                <a:latin typeface="HGPﾌﾞｰｹ"/>
              </a:rPr>
              <a:t>二生を経るが如く一人にして</a:t>
            </a:r>
            <a:br>
              <a:rPr sz="8800"/>
            </a:br>
            <a:r>
              <a:rPr b="0" lang="ja-JP" sz="8800" spc="-1" strike="noStrike">
                <a:solidFill>
                  <a:srgbClr val="00004a"/>
                </a:solidFill>
                <a:latin typeface="HGPﾌﾞｰｹ"/>
              </a:rPr>
              <a:t>両身あるが如し</a:t>
            </a:r>
            <a:br>
              <a:rPr sz="8800"/>
            </a:br>
            <a:r>
              <a:rPr b="0" lang="ja-JP" sz="6000" spc="-1" strike="noStrike">
                <a:solidFill>
                  <a:srgbClr val="00004a"/>
                </a:solidFill>
                <a:latin typeface="HGPﾌﾞｰｹ"/>
              </a:rPr>
              <a:t>（福沢諭吉）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あれば便利だな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と思うものが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Web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にある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それも無償で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1" name=""/>
          <p:cNvSpPr/>
          <p:nvPr/>
        </p:nvSpPr>
        <p:spPr>
          <a:xfrm>
            <a:off x="108000" y="3860640"/>
            <a:ext cx="889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無料経済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700280"/>
            <a:ext cx="889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時価総額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44720" y="4005360"/>
            <a:ext cx="6696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4a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トヨタ：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22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兆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4a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三菱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UFJ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：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1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兆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4a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任天堂：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8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兆</a:t>
            </a: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7400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億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640" y="198864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それは如何にして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</a:rPr>
              <a:t>可能なのか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限定経済学（今までの経済学）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27" name=""/>
          <p:cNvSpPr/>
          <p:nvPr/>
        </p:nvSpPr>
        <p:spPr>
          <a:xfrm>
            <a:off x="2619360" y="2060640"/>
            <a:ext cx="4184640" cy="39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1197000"/>
            <a:ext cx="806472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44720" y="1254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社会的交換（贈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92360" y="36450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済的交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交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620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贈与／交換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〈贈与／交換〉の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バイナリーコード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（今までの経済学）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で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とらえきれません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763640" y="1057320"/>
            <a:ext cx="5976720" cy="5540040"/>
            <a:chOff x="1763640" y="1057320"/>
            <a:chExt cx="5976720" cy="554004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7320"/>
              <a:ext cx="597672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841400" y="4254480"/>
              <a:ext cx="27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純粋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81200" y="4319640"/>
              <a:ext cx="195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83360" y="1978200"/>
              <a:ext cx="25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62204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19640" y="3422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7672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43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979640" y="400536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土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農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3600" spc="-1" strike="noStrike">
                <a:solidFill>
                  <a:srgbClr val="00004a"/>
                </a:solidFill>
                <a:latin typeface="HGPﾌﾞｰｹ"/>
              </a:rPr>
              <a:t>普遍経済学ー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08000" y="2774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08360" y="5651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1906560" y="979560"/>
            <a:ext cx="5544720" cy="5257440"/>
            <a:chOff x="1906560" y="979560"/>
            <a:chExt cx="5544720" cy="5257440"/>
          </a:xfrm>
        </p:grpSpPr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1906560" y="979560"/>
              <a:ext cx="554472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1978560" y="4013640"/>
              <a:ext cx="255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69960" y="4075560"/>
              <a:ext cx="18126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02080" y="1853280"/>
              <a:ext cx="239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47768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48000" y="3141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32360" y="31338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の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6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640" y="2491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世の中は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大きく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変わりました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プラチナ会の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資産活用大学の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1946160" y="984240"/>
            <a:ext cx="5505480" cy="5108400"/>
            <a:chOff x="1946160" y="984240"/>
            <a:chExt cx="5505480" cy="510840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1946160" y="98424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017800" y="393228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会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86520" y="399240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30520" y="183348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事業者団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事業者団体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種的基体」としての事業者団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92360" y="2622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28840" y="1052640"/>
            <a:ext cx="2855880" cy="2876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企業の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目的とは？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979640" y="4005360"/>
              <a:ext cx="25369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市民社会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自然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社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企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企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企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79640" y="25686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信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03640" y="1128600"/>
            <a:ext cx="2855880" cy="2876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3640" y="28666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品質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</a:rPr>
              <a:t>技術</a:t>
            </a:r>
            <a:endParaRPr b="0" lang="en-US" sz="117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3640" y="257940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まずは贈与共同体（種的基体）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贈与共同体とは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中景であり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HGPﾌﾞｰｹ"/>
              </a:rPr>
              <a:t>地域社会・学校・企業・事業者団体・家庭である</a:t>
            </a:r>
            <a:endParaRPr b="0" lang="en-US" sz="4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中景の喪失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07" name=""/>
          <p:cNvSpPr/>
          <p:nvPr/>
        </p:nvSpPr>
        <p:spPr>
          <a:xfrm>
            <a:off x="260280" y="845640"/>
            <a:ext cx="8632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劇作家の別役実氏は 皮膚感覚でお互いに感じ取れる距離については「近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家族や地域社会といった共同体的な対人距離で構成される「中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神秘的なものや占いを信じるような態度は「遠景」につながり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していまや　近景と遠景を媒介するはずの「中景」が抜けてしまっ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と遠景がネットワークを通じていきなり接続されると言います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11280" y="2997360"/>
            <a:ext cx="4030560" cy="3816360"/>
            <a:chOff x="611280" y="2997360"/>
            <a:chExt cx="4030560" cy="3816360"/>
          </a:xfrm>
        </p:grpSpPr>
        <p:sp>
          <p:nvSpPr>
            <p:cNvPr id="409" name=""/>
            <p:cNvSpPr/>
            <p:nvPr/>
          </p:nvSpPr>
          <p:spPr>
            <a:xfrm>
              <a:off x="611280" y="2997360"/>
              <a:ext cx="4030560" cy="381636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83160" y="3664800"/>
              <a:ext cx="3229200" cy="314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9920" y="5813640"/>
              <a:ext cx="1032480" cy="1000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45240" y="381384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45240" y="309888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933800" y="2924280"/>
            <a:ext cx="4030920" cy="381636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383160" y="5740560"/>
            <a:ext cx="1032120" cy="1000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67400" y="3025800"/>
            <a:ext cx="86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遠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灰色の喪失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18" name=""/>
          <p:cNvSpPr/>
          <p:nvPr/>
        </p:nvSpPr>
        <p:spPr>
          <a:xfrm>
            <a:off x="2835360" y="981000"/>
            <a:ext cx="4184640" cy="3960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dada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195640" y="981000"/>
            <a:ext cx="4319640" cy="3960720"/>
          </a:xfrm>
          <a:prstGeom prst="ellipse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94320" y="5190840"/>
            <a:ext cx="160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人生は黒か白かだけではなく、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黒と白の間にある灰色の部分に面白さがある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池波正太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br>
              <a:rPr sz="4800"/>
            </a:br>
            <a:br>
              <a:rPr sz="48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は（喪失した）贈与共同体を浮かび上がらせます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82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経営＝環境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×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原理</a:t>
            </a:r>
            <a:br>
              <a:rPr sz="7200"/>
            </a:br>
            <a:br>
              <a:rPr sz="72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経営とは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環境と原理の乗数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332000" y="1406520"/>
            <a:ext cx="5976720" cy="49021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656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ﾌﾞｰｹ"/>
              </a:rPr>
              <a:t>まずは円環をつくる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50560" y="3082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イントラネットという方法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しかし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閉じているだけでは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いけません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クラスターの限界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rcRect l="7761" t="11855" r="5491" b="32952"/>
          <a:stretch/>
        </p:blipFill>
        <p:spPr>
          <a:xfrm>
            <a:off x="1042920" y="1125360"/>
            <a:ext cx="6913800" cy="3167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645320" y="4941720"/>
            <a:ext cx="1463760" cy="18720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66560" y="4508640"/>
            <a:ext cx="7921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他者とつながら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仕事の源泉はクラスターの外にあ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つまり 閉じた円環には強度は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71640" y="4077720"/>
            <a:ext cx="734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図： </a:t>
            </a:r>
            <a:r>
              <a:rPr b="0" lang="zh-CN" sz="1200" spc="-1" strike="noStrike" u="sng">
                <a:solidFill>
                  <a:srgbClr val="00a000"/>
                </a:solidFill>
                <a:uFillTx/>
                <a:latin typeface="Times New Roman"/>
                <a:hlinkClick r:id="rId3"/>
              </a:rPr>
              <a:t>新ネットワーク思考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アルバート＝ラズロ・バラバシ（著）青木薫（訳）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日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出版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新ネットワーク思考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2000" y="5213520"/>
            <a:ext cx="109692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6" name="CAMERA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〈お金〉は常に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　　差異に対して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流れます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それは</a:t>
            </a:r>
            <a:r>
              <a:rPr b="0" lang="en-US" sz="60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化する現実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現実化する</a:t>
            </a:r>
            <a:r>
              <a:rPr b="0" lang="en-US" sz="6000" spc="-1" strike="noStrike">
                <a:solidFill>
                  <a:srgbClr val="00004a"/>
                </a:solidFill>
                <a:latin typeface="HGPﾌﾞｰｹ"/>
              </a:rPr>
              <a:t>Web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という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　大きな流れ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〈戦略〉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とりあえずは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大きな動きで流れて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それ以上の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スピードで流れることで</a:t>
            </a:r>
            <a:br>
              <a:rPr sz="60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</a:rPr>
              <a:t>　　　　独自性を保つ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しかしそれは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ドメスティックな産業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建設業の場合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他者（顧客）とつながる</a:t>
            </a: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ことが前提です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rcRect l="14388" t="12663" r="12607" b="26609"/>
          <a:stretch/>
        </p:blipFill>
        <p:spPr>
          <a:xfrm>
            <a:off x="1042920" y="843120"/>
            <a:ext cx="7201080" cy="58896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079640" y="6298200"/>
            <a:ext cx="38876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図： </a:t>
            </a:r>
            <a:r>
              <a:rPr b="0" lang="zh-CN" sz="1000" spc="-1" strike="noStrike" u="sng">
                <a:solidFill>
                  <a:srgbClr val="00a000"/>
                </a:solidFill>
                <a:uFillTx/>
                <a:latin typeface="Times New Roman"/>
                <a:hlinkClick r:id="rId2"/>
              </a:rPr>
              <a:t>新ネットワーク思考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アルバート＝ラズロ・バラバシ（著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青木薫（訳）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日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HK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出版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78200" y="1125360"/>
            <a:ext cx="2304720" cy="22323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93840" y="3716280"/>
            <a:ext cx="2305080" cy="2232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1840" y="1125360"/>
            <a:ext cx="2305080" cy="22323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59280" y="3860640"/>
            <a:ext cx="2305080" cy="223236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280" y="52560"/>
            <a:ext cx="8964720" cy="790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つながる力</a:t>
            </a: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＝</a:t>
            </a:r>
            <a:r>
              <a:rPr b="0" lang="en-US" sz="4400" spc="-1" strike="noStrike">
                <a:solidFill>
                  <a:srgbClr val="000000"/>
                </a:solidFill>
                <a:latin typeface="HGPﾌﾞｰｹ"/>
              </a:rPr>
              <a:t>HUB</a:t>
            </a: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能力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7080" y="30110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</a:rPr>
              <a:t>閉じから開放へ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3082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環境と原理を知る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832360" cy="52326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5280" y="198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メビウスの帯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</a:rPr>
              <a:t>クラスターを強くする＝自らひねる</a:t>
            </a:r>
            <a:endParaRPr b="0" lang="en-US" sz="32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7761" t="11855" r="5491" b="32952"/>
          <a:stretch/>
        </p:blipFill>
        <p:spPr>
          <a:xfrm>
            <a:off x="754200" y="836640"/>
            <a:ext cx="3817800" cy="1749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448" name=""/>
          <p:cNvGrpSpPr/>
          <p:nvPr/>
        </p:nvGrpSpPr>
        <p:grpSpPr>
          <a:xfrm>
            <a:off x="558720" y="2995560"/>
            <a:ext cx="4176720" cy="3828600"/>
            <a:chOff x="558720" y="2995560"/>
            <a:chExt cx="4176720" cy="382860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rcRect l="14388" t="12663" r="12607" b="26609"/>
            <a:stretch/>
          </p:blipFill>
          <p:spPr>
            <a:xfrm>
              <a:off x="558720" y="2995560"/>
              <a:ext cx="4176720" cy="33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1644480" y="4767120"/>
              <a:ext cx="501840" cy="371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21040" y="5014800"/>
              <a:ext cx="417240" cy="371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7280" y="4971960"/>
              <a:ext cx="376200" cy="371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65440" y="4971960"/>
              <a:ext cx="376200" cy="371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32080" y="5632200"/>
              <a:ext cx="374760" cy="371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16320" y="3735360"/>
              <a:ext cx="374760" cy="371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6800" y="3446280"/>
              <a:ext cx="376200" cy="247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11160" y="3485880"/>
              <a:ext cx="376560" cy="371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93920" y="3859200"/>
              <a:ext cx="376200" cy="371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93920" y="3485880"/>
              <a:ext cx="376200" cy="371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77800" y="5386320"/>
              <a:ext cx="417600" cy="369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97280" y="3735360"/>
              <a:ext cx="376200" cy="371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9600" y="6405840"/>
              <a:ext cx="353052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図： </a:t>
              </a:r>
              <a:r>
                <a:rPr b="0" lang="zh-CN" sz="1000" spc="-1" strike="noStrike" u="sng">
                  <a:solidFill>
                    <a:srgbClr val="00a000"/>
                  </a:solidFill>
                  <a:uFillTx/>
                  <a:latin typeface="Times New Roman"/>
                  <a:hlinkClick r:id="rId3"/>
                </a:rPr>
                <a:t>新ネットワーク思考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　アルバート＝ラズロ・バラバシ（著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青木薫（訳）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年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日　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HK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出版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01600" y="3157560"/>
              <a:ext cx="1336680" cy="1279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27240" y="4641840"/>
              <a:ext cx="1336680" cy="1279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46360" y="3157560"/>
              <a:ext cx="1336680" cy="1279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71640" y="4724280"/>
              <a:ext cx="1338480" cy="1279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124000" y="2492280"/>
            <a:ext cx="1170000" cy="571680"/>
          </a:xfrm>
          <a:prstGeom prst="downArrow">
            <a:avLst>
              <a:gd name="adj1" fmla="val 50000"/>
              <a:gd name="adj2" fmla="val 25000"/>
            </a:avLst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5267160" y="765000"/>
            <a:ext cx="2378160" cy="19497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850000" y="2425680"/>
            <a:ext cx="1170000" cy="571680"/>
          </a:xfrm>
          <a:prstGeom prst="downArrow">
            <a:avLst>
              <a:gd name="adj1" fmla="val 50000"/>
              <a:gd name="adj2" fmla="val 25000"/>
            </a:avLst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5"/>
          <a:stretch/>
        </p:blipFill>
        <p:spPr>
          <a:xfrm>
            <a:off x="4849920" y="2997360"/>
            <a:ext cx="3251160" cy="29178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6"/>
          <a:stretch/>
        </p:blipFill>
        <p:spPr>
          <a:xfrm>
            <a:off x="7645320" y="4941720"/>
            <a:ext cx="1463760" cy="187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CAMERA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560" y="308268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ﾌﾞｰｹ"/>
              </a:rPr>
              <a:t>ブログ化という方法</a:t>
            </a:r>
            <a:endParaRPr b="0" lang="en-US" sz="4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ja-JP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920" y="2435040"/>
            <a:ext cx="82072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建設業を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取り巻く環境は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厳しさを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増しています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6360" y="3153960"/>
            <a:ext cx="820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400" spc="-1" strike="noStrike">
                <a:solidFill>
                  <a:srgbClr val="000000"/>
                </a:solidFill>
                <a:latin typeface="HGPﾌﾞｰｹ"/>
              </a:rPr>
              <a:t>内的要因</a:t>
            </a:r>
            <a:br>
              <a:rPr sz="9400"/>
            </a:br>
            <a:br>
              <a:rPr sz="9400"/>
            </a:br>
            <a:r>
              <a:rPr b="0" lang="zh-CN" sz="9400" spc="-1" strike="noStrike">
                <a:solidFill>
                  <a:srgbClr val="000000"/>
                </a:solidFill>
                <a:latin typeface="HGPﾌﾞｰｹ"/>
              </a:rPr>
              <a:t>外的要因</a:t>
            </a:r>
            <a:endParaRPr b="0" lang="en-US" sz="9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640" y="31413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グローバリズム金融資本主義</a:t>
            </a:r>
            <a:br>
              <a:rPr sz="10600"/>
            </a:b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桃知利男</dc:creator>
  <dc:description/>
  <dc:language>en-US</dc:language>
  <cp:lastModifiedBy>桃知利男</cp:lastModifiedBy>
  <cp:lastPrinted>1999-08-20T13:59:28Z</cp:lastPrinted>
  <dcterms:modified xsi:type="dcterms:W3CDTF">2007-11-28T05:04:49Z</dcterms:modified>
  <cp:revision>1535</cp:revision>
  <dc:subject>Being Digital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