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J0097487.WAV" ContentType="audio/x-wav"/>
  <Override PartName="/ppt/media/image2.wmf" ContentType="image/x-wmf"/>
  <Override PartName="/ppt/media/CAMERA.WAV" ContentType="audio/x-wav"/>
  <Override PartName="/ppt/media/image4.png" ContentType="image/pn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07D884D-571A-4F48-A109-5B0BB30C547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363-6C54-498A-A32D-2FFDD5DD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88F-9A02-47C0-BB06-AF6307C9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BC6-D05C-4BFA-BEAB-41693DE6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445-6D5D-4D5B-87D7-546142E0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8F7-AEA7-4622-8D5F-E134B821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DCF-8AF7-49C7-8FA5-30CCE2A7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489-BD50-4210-A24D-60C5583E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2E7-B655-43FB-84BD-3C2D52B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F5B-2BA2-41D5-989C-9B250A1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497-844F-495E-AD2F-576D420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BCB-F920-4603-B9CD-F5BED994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1BD-34DC-481D-AEB0-DA3772BE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DC0AFB31-E072-4F0B-8335-526203479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067280" y="2276640"/>
            <a:ext cx="4536360" cy="4020120"/>
            <a:chOff x="4067280" y="2276640"/>
            <a:chExt cx="4536360" cy="4020120"/>
          </a:xfrm>
        </p:grpSpPr>
        <p:grpSp>
          <p:nvGrpSpPr>
            <p:cNvPr id="50" name=""/>
            <p:cNvGrpSpPr/>
            <p:nvPr/>
          </p:nvGrpSpPr>
          <p:grpSpPr>
            <a:xfrm>
              <a:off x="4497480" y="2477880"/>
              <a:ext cx="4106160" cy="3818880"/>
              <a:chOff x="4497480" y="2477880"/>
              <a:chExt cx="4106160" cy="3818880"/>
            </a:xfrm>
          </p:grpSpPr>
          <p:sp>
            <p:nvSpPr>
              <p:cNvPr id="51" name=""/>
              <p:cNvSpPr/>
              <p:nvPr/>
            </p:nvSpPr>
            <p:spPr>
              <a:xfrm>
                <a:off x="6834240" y="5293440"/>
                <a:ext cx="175356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455680" y="5646960"/>
                <a:ext cx="1339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515000" y="5518440"/>
                <a:ext cx="107280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05280" y="5553360"/>
                <a:ext cx="10508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45320" y="4822200"/>
                <a:ext cx="95832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420400" y="4870080"/>
                <a:ext cx="1537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45320" y="4842720"/>
                <a:ext cx="84780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33880" y="4926960"/>
                <a:ext cx="66456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01440" y="2477880"/>
                <a:ext cx="24217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073200" y="4157640"/>
                <a:ext cx="41796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497480" y="2994120"/>
                <a:ext cx="10530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920" y="2572920"/>
                <a:ext cx="118728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62040" y="3956040"/>
                <a:ext cx="4615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4760" y="5921280"/>
                <a:ext cx="140796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660720" y="5507640"/>
                <a:ext cx="48924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2760" y="5650200"/>
                <a:ext cx="130356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95680" y="5783760"/>
                <a:ext cx="2642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76680" y="5774760"/>
                <a:ext cx="21276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489360" y="5553360"/>
                <a:ext cx="124236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38080" y="6205320"/>
                <a:ext cx="59796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79640" y="5095080"/>
                <a:ext cx="70164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84160" y="5043960"/>
                <a:ext cx="48276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295680" y="5047920"/>
                <a:ext cx="47124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48960" y="5214240"/>
                <a:ext cx="14220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81880" y="5144400"/>
                <a:ext cx="10620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901560" y="5115600"/>
                <a:ext cx="28188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09920" y="5238000"/>
                <a:ext cx="432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37760" y="5326200"/>
                <a:ext cx="8244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4280" y="5291280"/>
                <a:ext cx="511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79640" y="5377320"/>
                <a:ext cx="39996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86200" y="5763960"/>
                <a:ext cx="64476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85600" y="5950800"/>
                <a:ext cx="849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87080" y="5164920"/>
                <a:ext cx="6120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28800" y="6207120"/>
                <a:ext cx="4910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87200" y="5542200"/>
                <a:ext cx="1792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52360" y="5501880"/>
                <a:ext cx="3664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86520" y="594180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91360" y="5798880"/>
                <a:ext cx="66852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047720" y="5293440"/>
                <a:ext cx="57384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62760" y="5608080"/>
                <a:ext cx="16524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85720" y="5599080"/>
                <a:ext cx="11016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21000" y="5666760"/>
                <a:ext cx="1576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80720" y="5419440"/>
                <a:ext cx="1497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92600" y="5434200"/>
                <a:ext cx="1396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28000" y="5445360"/>
                <a:ext cx="378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58320" y="5666760"/>
                <a:ext cx="12880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538760" y="5969160"/>
                <a:ext cx="73728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97000" y="5529240"/>
                <a:ext cx="14580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51000" y="4122720"/>
                <a:ext cx="82656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14760" y="3479760"/>
                <a:ext cx="232560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64440" y="3161160"/>
                <a:ext cx="230904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18600" y="5688720"/>
                <a:ext cx="7689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62360" y="5877360"/>
                <a:ext cx="27972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93520" y="5948640"/>
                <a:ext cx="12816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21240" y="6029280"/>
                <a:ext cx="100764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8840" y="5013000"/>
                <a:ext cx="5263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818840" y="5104440"/>
                <a:ext cx="41580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18840" y="5205240"/>
                <a:ext cx="41580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18840" y="5320800"/>
                <a:ext cx="41580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067280" y="2276640"/>
              <a:ext cx="1171440" cy="968760"/>
              <a:chOff x="4067280" y="2276640"/>
              <a:chExt cx="1171440" cy="9687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77200" y="3053160"/>
                <a:ext cx="867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8520" y="3036600"/>
                <a:ext cx="4024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94720" y="3018240"/>
                <a:ext cx="11772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27120" y="2485080"/>
                <a:ext cx="18504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32440" y="2747160"/>
                <a:ext cx="28188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36400" y="2737800"/>
                <a:ext cx="678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47360" y="2800080"/>
                <a:ext cx="47124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215240" y="2486880"/>
                <a:ext cx="12600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37640" y="2472480"/>
                <a:ext cx="41580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29720" y="2486880"/>
                <a:ext cx="8244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78680" y="2485080"/>
                <a:ext cx="37476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422240" y="2523600"/>
                <a:ext cx="29196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61040" y="2838960"/>
                <a:ext cx="56592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69760" y="2855160"/>
                <a:ext cx="34524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469760" y="2891520"/>
                <a:ext cx="35280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67280" y="2800080"/>
                <a:ext cx="6336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95200" y="273780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93040" y="275076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45520" y="2723400"/>
                <a:ext cx="5940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72240" y="2364120"/>
                <a:ext cx="21456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67480" y="2671920"/>
                <a:ext cx="47124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91240" y="2276640"/>
                <a:ext cx="40176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09320" y="2657520"/>
                <a:ext cx="16560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23000" y="243540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23000" y="2428560"/>
                <a:ext cx="176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80240" y="242460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90320" y="25218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13720" y="250164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80240" y="2355120"/>
                <a:ext cx="1594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98680" y="2810880"/>
                <a:ext cx="5472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24720" y="2787480"/>
                <a:ext cx="2124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1120" y="2943000"/>
                <a:ext cx="1335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22440" y="3174120"/>
                <a:ext cx="2124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6204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0852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5440" y="2566080"/>
                <a:ext cx="20520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65440" y="2618640"/>
                <a:ext cx="20520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65440" y="2666520"/>
                <a:ext cx="20520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65440" y="2702880"/>
                <a:ext cx="20520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144480" y="2344320"/>
              <a:ext cx="1174680" cy="891360"/>
              <a:chOff x="6144480" y="2344320"/>
              <a:chExt cx="1174680" cy="891360"/>
            </a:xfrm>
          </p:grpSpPr>
          <p:sp>
            <p:nvSpPr>
              <p:cNvPr id="151" name=""/>
              <p:cNvSpPr/>
              <p:nvPr/>
            </p:nvSpPr>
            <p:spPr>
              <a:xfrm>
                <a:off x="6302160" y="2633760"/>
                <a:ext cx="19296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11440" y="2912040"/>
                <a:ext cx="28800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13240" y="2895120"/>
                <a:ext cx="68796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2480" y="2948400"/>
                <a:ext cx="47124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96040" y="2637360"/>
                <a:ext cx="12420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14480" y="2620800"/>
                <a:ext cx="42588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406200" y="2637360"/>
                <a:ext cx="907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49760" y="2633760"/>
                <a:ext cx="39060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07000" y="2677680"/>
                <a:ext cx="28800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44000" y="2994120"/>
                <a:ext cx="56592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52720" y="3007080"/>
                <a:ext cx="34848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48760" y="3056400"/>
                <a:ext cx="3607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44480" y="2948400"/>
                <a:ext cx="6300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77800" y="2889720"/>
                <a:ext cx="11448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72040" y="291924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30280" y="2871720"/>
                <a:ext cx="5940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77800" y="3047400"/>
                <a:ext cx="38664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26560" y="3067560"/>
                <a:ext cx="11448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91480" y="2666520"/>
                <a:ext cx="42768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976440" y="2364120"/>
                <a:ext cx="2365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94080" y="2653560"/>
                <a:ext cx="1717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7680" y="252360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82560" y="2448360"/>
                <a:ext cx="784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14240" y="2428560"/>
                <a:ext cx="2124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59240" y="2428560"/>
                <a:ext cx="212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10720" y="2516040"/>
                <a:ext cx="1728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94520" y="2538000"/>
                <a:ext cx="2340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82560" y="252180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2040" y="2596680"/>
                <a:ext cx="2340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51320" y="2653560"/>
                <a:ext cx="15768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53040" y="2664720"/>
                <a:ext cx="727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16480" y="2809440"/>
                <a:ext cx="11448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82560" y="2344320"/>
                <a:ext cx="25596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39800" y="2683080"/>
                <a:ext cx="5868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00200" y="2737800"/>
                <a:ext cx="745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17040" y="2809440"/>
                <a:ext cx="453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38240" y="3100320"/>
                <a:ext cx="1339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48760" y="2732400"/>
                <a:ext cx="20700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48760" y="2787120"/>
                <a:ext cx="20700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48760" y="2823840"/>
                <a:ext cx="20700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48760" y="2866320"/>
                <a:ext cx="20700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548240" y="3965400"/>
              <a:ext cx="1151640" cy="786960"/>
              <a:chOff x="4548240" y="3965400"/>
              <a:chExt cx="1151640" cy="78696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5400" y="4548960"/>
                <a:ext cx="4039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4720" y="4186440"/>
                <a:ext cx="1814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2920" y="4442760"/>
                <a:ext cx="2718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84200" y="4422960"/>
                <a:ext cx="64656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79880" y="4479840"/>
                <a:ext cx="449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33480" y="4190400"/>
                <a:ext cx="12024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37120" y="4169880"/>
                <a:ext cx="39816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62920" y="4190400"/>
                <a:ext cx="8424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37120" y="4186440"/>
                <a:ext cx="3607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078880" y="4215960"/>
                <a:ext cx="27756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71880" y="4516200"/>
                <a:ext cx="5439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88160" y="4534560"/>
                <a:ext cx="32148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75920" y="4576320"/>
                <a:ext cx="33912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32920" y="447984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93120" y="4419000"/>
                <a:ext cx="10836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7160" y="4448520"/>
                <a:ext cx="9828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93920" y="4404600"/>
                <a:ext cx="5688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79920" y="3965400"/>
                <a:ext cx="28764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07640" y="3981240"/>
                <a:ext cx="24048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19600" y="4069440"/>
                <a:ext cx="6516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41120" y="3974400"/>
                <a:ext cx="17316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86120" y="4146120"/>
                <a:ext cx="10836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51640" y="4065840"/>
                <a:ext cx="1944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08080" y="4069440"/>
                <a:ext cx="1548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48240" y="4269240"/>
                <a:ext cx="42588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38960" y="4254120"/>
                <a:ext cx="21492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03680" y="4391640"/>
                <a:ext cx="18900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08080" y="4631760"/>
                <a:ext cx="1357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89160" y="4353120"/>
                <a:ext cx="2772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12480" y="4607640"/>
                <a:ext cx="1360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85880" y="4631760"/>
                <a:ext cx="12996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59936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4460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22080" y="4265280"/>
                <a:ext cx="20700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22080" y="4321800"/>
                <a:ext cx="20700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22080" y="4364280"/>
                <a:ext cx="20700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22080" y="4404600"/>
                <a:ext cx="20700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HGPﾌﾞｰｹ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197000"/>
            <a:ext cx="866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料経済の衝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5373720"/>
            <a:ext cx="5013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空知建設業協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地域再生フォーラム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3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1640" cy="53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2436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891640" cy="158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の無料経済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全て無料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891640" cy="12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341360"/>
            <a:ext cx="8891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時価総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4720" y="4005360"/>
            <a:ext cx="78469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4a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トヨタ：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8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兆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4a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三菱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UFJ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：１０兆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4a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日本電信電話：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7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兆８０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00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億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8000" y="2565360"/>
            <a:ext cx="8891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＄</a:t>
            </a:r>
            <a:r>
              <a:rPr b="0" lang="en-US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71.63B</a:t>
            </a:r>
            <a:r>
              <a:rPr b="0" lang="en-US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それは如何にして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可能なのか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（今までの経済学）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5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コー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（今までの経済学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普遍経済学ー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906560" y="979560"/>
            <a:ext cx="5544720" cy="5257440"/>
            <a:chOff x="1906560" y="979560"/>
            <a:chExt cx="5544720" cy="525744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1906560" y="979560"/>
              <a:ext cx="55447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978560" y="4013640"/>
              <a:ext cx="255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69960" y="4075560"/>
              <a:ext cx="1812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02080" y="1853280"/>
              <a:ext cx="23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3133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の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4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目的／目標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とりちがえないこと。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640" y="6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花見酒の経済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3353040" cy="3025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92720" y="5661000"/>
            <a:ext cx="38512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笠信太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の目的とは？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9" name=""/>
          <p:cNvSpPr/>
          <p:nvPr/>
        </p:nvSpPr>
        <p:spPr>
          <a:xfrm>
            <a:off x="684360" y="3429000"/>
            <a:ext cx="7704000" cy="22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世界中の未整理なモノを整理す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空知建設業協会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946160" y="984240"/>
            <a:ext cx="5505480" cy="5108400"/>
            <a:chOff x="1946160" y="984240"/>
            <a:chExt cx="5505480" cy="510840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1946160" y="98424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017800" y="393228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6520" y="399240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30520" y="183348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事業者団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事業者団体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種的基体」としての事業者団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2622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28840" y="1052640"/>
            <a:ext cx="2855880" cy="2876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</a:rPr>
              <a:t>企業の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社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企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企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2568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640" y="475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熊さんと辰つぁんがそれぞれ別々に</a:t>
            </a:r>
            <a:br>
              <a:rPr sz="3600"/>
            </a:b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酒樽を担いで花見客に酒を売りに来た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2797200" cy="3149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2797200" cy="3149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71640" y="2279520"/>
            <a:ext cx="2663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熊さ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276640"/>
            <a:ext cx="2663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辰つぁ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辰つぁんが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</a:rPr>
              <a:t>1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円で熊さんの酒を一杯買って飲んだ</a:t>
            </a:r>
            <a:br>
              <a:rPr sz="3200"/>
            </a:b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熊さんはそのお金で辰つぁんの酒一杯買って飲んだ</a:t>
            </a:r>
            <a:endParaRPr b="0" lang="en-US" sz="32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2797200" cy="3149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076720" y="2205000"/>
            <a:ext cx="2797200" cy="3149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71640" y="1631880"/>
            <a:ext cx="2663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熊さ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1628640"/>
            <a:ext cx="2663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辰つぁ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5738760"/>
            <a:ext cx="88916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これを一期間とすると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2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杯の酒が供給され消費さ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640" y="40428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熊さんが一杯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</a:rPr>
              <a:t>2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円に値上げした。辰つぁんは酒が買えない。そこに銀行がやってきて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</a:rPr>
              <a:t>1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円を貸してくれた。辰つぁんは酒を一杯飲めた。熊さんはその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</a:rPr>
              <a:t>2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円で辰つぁんの酒を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</a:rPr>
              <a:t>2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杯買って飲んだ。</a:t>
            </a:r>
            <a:endParaRPr b="0" lang="en-US" sz="32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01840" y="2689200"/>
            <a:ext cx="2367000" cy="2665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445000" y="2689200"/>
            <a:ext cx="2367000" cy="26654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187280" y="2155680"/>
            <a:ext cx="2664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熊さん 一杯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2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1440" y="2138400"/>
            <a:ext cx="266364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辰つぁん 一杯</a:t>
            </a:r>
            <a:br>
              <a:rPr sz="3200"/>
            </a:b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8000" y="5738760"/>
            <a:ext cx="889164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これを一期間とすると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3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杯の酒が供給され消費される</a:t>
            </a:r>
            <a:br>
              <a:rPr sz="2800"/>
            </a:b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実質経済活動は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.5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倍の成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熊さんが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</a:rPr>
              <a:t>1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円ポケットにしまいこんで辰つぁんの酒を一杯だけ買って飲んだ。もう銀行からお金をかりられない辰つぁんは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</a:rPr>
              <a:t>1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円分（半分）しか酒を買えない</a:t>
            </a:r>
            <a:endParaRPr b="0" lang="en-US" sz="32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01840" y="2689200"/>
            <a:ext cx="2367000" cy="2665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445000" y="2689200"/>
            <a:ext cx="2367000" cy="2665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187280" y="2155680"/>
            <a:ext cx="2664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熊さん 一杯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2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21440" y="2138400"/>
            <a:ext cx="266364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辰つぁん 一杯</a:t>
            </a:r>
            <a:br>
              <a:rPr sz="3200"/>
            </a:b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000" y="5738760"/>
            <a:ext cx="889164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これを一期間とすると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.5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杯の酒が供給され消費される</a:t>
            </a:r>
            <a:br>
              <a:rPr sz="2800"/>
            </a:b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経済は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25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％収縮する＝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スタグフレーション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銀行が辰つぁんに</a:t>
            </a: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100</a:t>
            </a: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円返してくれと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01840" y="2689200"/>
            <a:ext cx="2367000" cy="2665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445000" y="2689200"/>
            <a:ext cx="2367000" cy="2665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87280" y="2155680"/>
            <a:ext cx="2664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熊さん 一杯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2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21440" y="2138400"/>
            <a:ext cx="266364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辰つぁん 一杯</a:t>
            </a:r>
            <a:br>
              <a:rPr sz="3200"/>
            </a:b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640" y="220464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銀行の皆さん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仲良くしてください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7640" y="220464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お金を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使わないはなし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8-01-24T04:27:25Z</dcterms:modified>
  <cp:revision>1547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