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J0097487.WAV" ContentType="audio/x-wav"/>
  <Override PartName="/ppt/media/image2.png" ContentType="image/png"/>
  <Override PartName="/ppt/media/CAMERA.WAV" ContentType="audio/x-wav"/>
  <Override PartName="/ppt/media/image4.jpeg" ContentType="image/jpe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0DF1AA6-BFF6-4A7E-80C3-82A9245BC47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E23-9CBE-4ECE-9594-A7680A08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192-8985-4F8F-A950-01C58A0F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695-0F85-416A-9A5C-56E9DEB3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8F0-D401-429E-930C-A535DE8F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D16-40FB-4217-AA3F-4362293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BF6-1692-4F52-A82E-23A0E94B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B2F-53E9-48A4-A7D6-01094E99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261-AABF-4A87-84AB-A09B79BF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7F5-1DC6-47FC-BF75-0F6EE4E9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EEA-C7F1-43CD-8FDE-3C1C662D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3C2-40C5-4214-B7A2-EDCD2A0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6E2-6F1A-47B7-A1EE-962E9DD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C6EC5B0-167E-400B-AD53-7273ADA5D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067280" y="2276640"/>
            <a:ext cx="4536360" cy="4020120"/>
            <a:chOff x="4067280" y="2276640"/>
            <a:chExt cx="4536360" cy="4020120"/>
          </a:xfrm>
        </p:grpSpPr>
        <p:grpSp>
          <p:nvGrpSpPr>
            <p:cNvPr id="50" name=""/>
            <p:cNvGrpSpPr/>
            <p:nvPr/>
          </p:nvGrpSpPr>
          <p:grpSpPr>
            <a:xfrm>
              <a:off x="4497480" y="2477880"/>
              <a:ext cx="4106160" cy="3818880"/>
              <a:chOff x="4497480" y="2477880"/>
              <a:chExt cx="4106160" cy="3818880"/>
            </a:xfrm>
          </p:grpSpPr>
          <p:sp>
            <p:nvSpPr>
              <p:cNvPr id="51" name=""/>
              <p:cNvSpPr/>
              <p:nvPr/>
            </p:nvSpPr>
            <p:spPr>
              <a:xfrm>
                <a:off x="683424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45568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51500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0528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4532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42040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4532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3388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144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07320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49748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92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6204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476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66072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276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9568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7668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8936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3808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7964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8416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29568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4896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8188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90156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0992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3776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428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7964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8620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8560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708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2880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8720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5236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8652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136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4772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6276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8572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2100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8072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9260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2800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5832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3876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9700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5100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1476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6444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860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6236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9352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2124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884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81884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1884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1884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067280" y="2276640"/>
              <a:ext cx="1171440" cy="968760"/>
              <a:chOff x="4067280" y="2276640"/>
              <a:chExt cx="1171440" cy="96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7720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852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9472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2712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3244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3640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4736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1524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3764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2972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7868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2224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6104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6976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6976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6728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9520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9304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4552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7224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6748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9124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0932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2300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2300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8024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9032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1372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8024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9868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2472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112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2244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6204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852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544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6544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6544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6544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144480" y="2344320"/>
              <a:ext cx="1174680" cy="891360"/>
              <a:chOff x="6144480" y="2344320"/>
              <a:chExt cx="1174680" cy="891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30216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1144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1324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248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9604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1448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0620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4976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0700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4400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5272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4876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4448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7780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7204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3028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7780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2656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9148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97644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9408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768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8256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1424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5924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1072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9452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8256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204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5132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304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1648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8256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3980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0020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1704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3824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4876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4876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4876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4876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548240" y="3965400"/>
              <a:ext cx="1151640" cy="786960"/>
              <a:chOff x="4548240" y="3965400"/>
              <a:chExt cx="1151640" cy="78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540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472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292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8420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7988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3348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3712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6292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3712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7888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7188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8816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7592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3292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9312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716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9392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7992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0764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1960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4112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8612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5164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0808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4824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3896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0368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0808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8916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1248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8588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59936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4460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2208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2208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2208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2208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HGPﾌﾞｰｹ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197000"/>
            <a:ext cx="86648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小建設業の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を考える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440" y="4329000"/>
            <a:ext cx="7080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北海道</a:t>
            </a:r>
            <a:r>
              <a:rPr b="1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営応援隊「</a:t>
            </a:r>
            <a:r>
              <a:rPr b="1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営セミナー </a:t>
            </a:r>
            <a:r>
              <a:rPr b="1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n </a:t>
            </a:r>
            <a:r>
              <a:rPr b="1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岩見沢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3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0560" y="2506320"/>
            <a:ext cx="676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検索エンジン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ナビゲーション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2506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岩見沢＋建設企業名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検索結果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640" y="29239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岩見沢生活空間創造システム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の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目標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640" y="29239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単なる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技術論で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終わらせないために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それも無償で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1640" cy="53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2436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89164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の無料経済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全て無料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891640" cy="12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341360"/>
            <a:ext cx="8891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時価総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44720" y="4005360"/>
            <a:ext cx="78469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トヨタ：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8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兆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三菱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UFJ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１０兆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日本電信電話：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7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兆８０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00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億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2565360"/>
            <a:ext cx="8891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＄</a:t>
            </a:r>
            <a:r>
              <a:rPr b="0" lang="en-US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71.63B</a:t>
            </a:r>
            <a:r>
              <a:rPr b="0" lang="en-US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それは如何にして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可能なのか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経営＝環境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×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原理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経営とは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と原理の乗数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（今までの経済学）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59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（今までの経済学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普遍経済学ー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4800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3133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の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054080"/>
            <a:ext cx="3024360" cy="28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の目的とは？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3429000"/>
            <a:ext cx="7704000" cy="22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世界中の未整理なモノを整理す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岩見沢建設協会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事業者団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事業者団体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2579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まずは贈与共同体（種的基体）であること</a:t>
            </a:r>
            <a:endParaRPr b="0" lang="en-US" sz="4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br>
              <a:rPr sz="4800"/>
            </a:br>
            <a:br>
              <a:rPr sz="48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は（喪失した）贈与共同体を浮かび上がらせます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2506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環境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ハイブリッド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</a:rPr>
              <a:t>まずは円環をつく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イントラネットという方法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閉じから開放へ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52326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98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メビウスの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ブログ化という方法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あちら側／こちら側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3803760"/>
            <a:ext cx="8893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</a:t>
            </a:r>
            <a:r>
              <a:rPr b="0" lang="en-US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現実）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境界ははっきりしな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506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こちら側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皆さんご存知の通り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06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あちら側は？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ja-JP" sz="7200" spc="-1" strike="noStrike">
                <a:solidFill>
                  <a:srgbClr val="00004a"/>
                </a:solidFill>
                <a:latin typeface="HGPﾌﾞｰｹ"/>
              </a:rPr>
              <a:t>Data as the</a:t>
            </a:r>
            <a:br>
              <a:rPr sz="7200"/>
            </a:br>
            <a:r>
              <a:rPr b="1" i="1" lang="ja-JP" sz="7200" spc="-1" strike="noStrike">
                <a:solidFill>
                  <a:srgbClr val="00004a"/>
                </a:solidFill>
                <a:latin typeface="HGPﾌﾞｰｹ"/>
              </a:rPr>
              <a:t>"intel inside"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4800" spc="-1" strike="noStrike">
                <a:solidFill>
                  <a:srgbClr val="00004a"/>
                </a:solidFill>
                <a:latin typeface="HGPﾌﾞｰｹ"/>
              </a:rPr>
              <a:t>Tagging</a:t>
            </a:r>
            <a:r>
              <a:rPr b="0" lang="ja-JP" sz="4800" spc="-1" strike="noStrike">
                <a:solidFill>
                  <a:srgbClr val="00004a"/>
                </a:solidFill>
                <a:latin typeface="HGPﾌﾞｰｹ"/>
              </a:rPr>
              <a:t>＝</a:t>
            </a:r>
            <a:r>
              <a:rPr b="0" lang="ja-JP" sz="4800" spc="-1" strike="noStrike">
                <a:solidFill>
                  <a:srgbClr val="00004a"/>
                </a:solidFill>
                <a:latin typeface="HGPﾌﾞｰｹ"/>
              </a:rPr>
              <a:t>Folksonomy</a:t>
            </a:r>
            <a:br>
              <a:rPr sz="4800"/>
            </a:br>
            <a:br>
              <a:rPr sz="48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階層分類学としての分類ではない。つまりユーザーの手で自由に分類するということ。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8-01-25T22:20:17Z</dcterms:modified>
  <cp:revision>1552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