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image6.png" ContentType="image/png"/>
  <Override PartName="/ppt/media/image2.jpeg" ContentType="image/jpeg"/>
  <Override PartName="/ppt/media/CAMERA.WAV" ContentType="audio/x-wav"/>
  <Override PartName="/ppt/media/image5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431A370-B0DD-4E9D-83D5-572FFF430F3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B1B-0FDC-4DF8-B9EB-22E8AED4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A25-DEBC-4B90-8EB9-374AD29F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501-02D9-45EA-B2BC-2A180D79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AA8-1F03-4B0A-ACC3-F0E2FBF9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8F1-EA45-4035-BCCB-67A60799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B6A-B2FD-4248-AC55-D6BF8AF8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E3B-59D2-4AA4-B5FA-12295931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889-9D3A-4EA2-9D55-CEDE5847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2DB-0B95-41CF-AEE7-CD811627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127-B5FE-49D0-932C-808EDC7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ED3-10F5-435B-9847-E52A6A3B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D78-FFB1-484D-9EF6-785CB0D8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BDC376D2-2CC9-4FA5-BDC3-1D6FDD2287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momoti.com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419640" y="2544840"/>
            <a:ext cx="4833000" cy="3963240"/>
            <a:chOff x="3419640" y="2544840"/>
            <a:chExt cx="4833000" cy="3963240"/>
          </a:xfrm>
        </p:grpSpPr>
        <p:grpSp>
          <p:nvGrpSpPr>
            <p:cNvPr id="50" name=""/>
            <p:cNvGrpSpPr/>
            <p:nvPr/>
          </p:nvGrpSpPr>
          <p:grpSpPr>
            <a:xfrm>
              <a:off x="3877920" y="2743200"/>
              <a:ext cx="4374720" cy="3764880"/>
              <a:chOff x="3877920" y="2743200"/>
              <a:chExt cx="4374720" cy="3764880"/>
            </a:xfrm>
          </p:grpSpPr>
          <p:sp>
            <p:nvSpPr>
              <p:cNvPr id="51" name=""/>
              <p:cNvSpPr/>
              <p:nvPr/>
            </p:nvSpPr>
            <p:spPr>
              <a:xfrm>
                <a:off x="6367680" y="5518800"/>
                <a:ext cx="1868400" cy="97272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94960" y="5867280"/>
                <a:ext cx="142920" cy="33048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92720" y="5740920"/>
                <a:ext cx="1143000" cy="27432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82280" y="5775120"/>
                <a:ext cx="1119600" cy="42768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231680" y="5054400"/>
                <a:ext cx="1020960" cy="21312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057160" y="5101560"/>
                <a:ext cx="163800" cy="78012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231680" y="5074560"/>
                <a:ext cx="903240" cy="80712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326000" y="5157720"/>
                <a:ext cx="707760" cy="58464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81880" y="2743200"/>
                <a:ext cx="2580120" cy="21272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56600" y="4399200"/>
                <a:ext cx="445320" cy="36648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77920" y="3252240"/>
                <a:ext cx="1122120" cy="89748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193000" y="2836800"/>
                <a:ext cx="1265040" cy="142308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585680" y="4200480"/>
                <a:ext cx="491760" cy="39852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676920" y="6138000"/>
                <a:ext cx="1499760" cy="3700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182640" y="5730120"/>
                <a:ext cx="521280" cy="21816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92120" y="5870520"/>
                <a:ext cx="1388880" cy="52740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93840" y="6002280"/>
                <a:ext cx="281520" cy="46584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80240" y="5993280"/>
                <a:ext cx="226800" cy="46944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000120" y="5775120"/>
                <a:ext cx="1323720" cy="70596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690960" y="6418080"/>
                <a:ext cx="636840" cy="810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989680" y="5323320"/>
                <a:ext cx="747360" cy="5490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81600" y="5272920"/>
                <a:ext cx="514440" cy="40968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793840" y="5276880"/>
                <a:ext cx="502200" cy="1260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50720" y="5441040"/>
                <a:ext cx="151200" cy="24192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098760" y="5372280"/>
                <a:ext cx="113400" cy="2545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38960" y="5343480"/>
                <a:ext cx="300600" cy="1407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4880" y="5464440"/>
                <a:ext cx="46080" cy="26892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264720" y="5551200"/>
                <a:ext cx="8784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29080" y="5516640"/>
                <a:ext cx="54720" cy="522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989680" y="5601600"/>
                <a:ext cx="426240" cy="2710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103080" y="5982840"/>
                <a:ext cx="686880" cy="21492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41720" y="6167160"/>
                <a:ext cx="90360" cy="2599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316920" y="5392080"/>
                <a:ext cx="65160" cy="50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7800" y="6419880"/>
                <a:ext cx="523080" cy="5976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997960" y="5763960"/>
                <a:ext cx="190800" cy="72432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067440" y="5724360"/>
                <a:ext cx="390600" cy="20736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29680" y="6158160"/>
                <a:ext cx="218160" cy="26892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47840" y="6017040"/>
                <a:ext cx="712080" cy="17136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94840" y="5518800"/>
                <a:ext cx="611280" cy="7740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04480" y="5829120"/>
                <a:ext cx="176040" cy="20376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22400" y="5820120"/>
                <a:ext cx="117360" cy="1116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60200" y="5887080"/>
                <a:ext cx="168120" cy="1461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49800" y="5643360"/>
                <a:ext cx="159480" cy="11376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962400" y="5657760"/>
                <a:ext cx="149040" cy="1299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680520" y="5668560"/>
                <a:ext cx="403560" cy="18360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19480" y="5887080"/>
                <a:ext cx="1372320" cy="19692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18280" y="6185160"/>
                <a:ext cx="785520" cy="20916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073640" y="5751360"/>
                <a:ext cx="155160" cy="2736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172200" y="4364640"/>
                <a:ext cx="880560" cy="1262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96280" y="3730680"/>
                <a:ext cx="2477880" cy="38952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49200" y="3416760"/>
                <a:ext cx="2460240" cy="33948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096680" y="5908680"/>
                <a:ext cx="819360" cy="19296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889040" y="6094440"/>
                <a:ext cx="298080" cy="30708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50360" y="6165000"/>
                <a:ext cx="1365480" cy="314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79880" y="6244560"/>
                <a:ext cx="1073520" cy="2455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16360" y="5242320"/>
                <a:ext cx="560520" cy="500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16360" y="5332320"/>
                <a:ext cx="443160" cy="5220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416360" y="5432040"/>
                <a:ext cx="443160" cy="486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416360" y="5545800"/>
                <a:ext cx="443160" cy="5400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419640" y="2544840"/>
              <a:ext cx="1248120" cy="955080"/>
              <a:chOff x="3419640" y="2544840"/>
              <a:chExt cx="1248120" cy="955080"/>
            </a:xfrm>
          </p:grpSpPr>
          <p:sp>
            <p:nvSpPr>
              <p:cNvPr id="111" name=""/>
              <p:cNvSpPr/>
              <p:nvPr/>
            </p:nvSpPr>
            <p:spPr>
              <a:xfrm>
                <a:off x="4176000" y="3310560"/>
                <a:ext cx="92160" cy="15516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09480" y="3294000"/>
                <a:ext cx="428760" cy="19656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14400" y="3276000"/>
                <a:ext cx="125640" cy="16236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89920" y="2750400"/>
                <a:ext cx="196920" cy="6696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89120" y="3008520"/>
                <a:ext cx="300600" cy="24192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93440" y="2999520"/>
                <a:ext cx="722520" cy="1659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18080" y="3061080"/>
                <a:ext cx="502200" cy="18936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77320" y="2752200"/>
                <a:ext cx="134280" cy="31212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07640" y="2737800"/>
                <a:ext cx="442800" cy="9360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99000" y="2752200"/>
                <a:ext cx="87840" cy="35748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51560" y="2750400"/>
                <a:ext cx="399240" cy="3592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97640" y="2788200"/>
                <a:ext cx="311040" cy="2563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2480" y="3099240"/>
                <a:ext cx="603000" cy="22716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48400" y="3115080"/>
                <a:ext cx="367560" cy="828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48400" y="3151080"/>
                <a:ext cx="375840" cy="1555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19640" y="3061080"/>
                <a:ext cx="6732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95080" y="2999520"/>
                <a:ext cx="119520" cy="7020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92920" y="3012480"/>
                <a:ext cx="105120" cy="7020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42160" y="2985120"/>
                <a:ext cx="6336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77160" y="2631240"/>
                <a:ext cx="228600" cy="3884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65560" y="2934360"/>
                <a:ext cx="502200" cy="44028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90760" y="2544840"/>
                <a:ext cx="428040" cy="3499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16760" y="2920320"/>
                <a:ext cx="176760" cy="1242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31520" y="2701440"/>
                <a:ext cx="77400" cy="903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31520" y="2694600"/>
                <a:ext cx="1872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92360" y="2691000"/>
                <a:ext cx="20880" cy="16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02800" y="2786760"/>
                <a:ext cx="33480" cy="248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28000" y="2766600"/>
                <a:ext cx="12600" cy="36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92360" y="2621880"/>
                <a:ext cx="169920" cy="1983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18720" y="3071880"/>
                <a:ext cx="58320" cy="2815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26760" y="3048480"/>
                <a:ext cx="22680" cy="28512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43640" y="3201840"/>
                <a:ext cx="142200" cy="1242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43920" y="3429720"/>
                <a:ext cx="22680" cy="360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86040" y="3384000"/>
                <a:ext cx="0" cy="90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09480" y="3351960"/>
                <a:ext cx="0" cy="147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44080" y="2829960"/>
                <a:ext cx="21852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44080" y="2882160"/>
                <a:ext cx="218520" cy="1620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844080" y="2929320"/>
                <a:ext cx="21852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44080" y="2965320"/>
                <a:ext cx="218520" cy="2160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32560" y="2611440"/>
              <a:ext cx="1251720" cy="878760"/>
              <a:chOff x="5632560" y="2611440"/>
              <a:chExt cx="1251720" cy="878760"/>
            </a:xfrm>
          </p:grpSpPr>
          <p:sp>
            <p:nvSpPr>
              <p:cNvPr id="151" name=""/>
              <p:cNvSpPr/>
              <p:nvPr/>
            </p:nvSpPr>
            <p:spPr>
              <a:xfrm>
                <a:off x="5800680" y="2896560"/>
                <a:ext cx="205560" cy="7344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03840" y="3170880"/>
                <a:ext cx="306720" cy="2289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05640" y="3154680"/>
                <a:ext cx="732960" cy="16236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39280" y="3206880"/>
                <a:ext cx="501840" cy="19296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93840" y="2900160"/>
                <a:ext cx="132120" cy="31176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920200" y="2883960"/>
                <a:ext cx="453960" cy="10620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11560" y="2900160"/>
                <a:ext cx="96480" cy="3571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57640" y="2896560"/>
                <a:ext cx="416160" cy="36108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8840" y="2940120"/>
                <a:ext cx="306720" cy="2541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51520" y="3251880"/>
                <a:ext cx="603000" cy="2379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67440" y="3264840"/>
                <a:ext cx="371520" cy="9720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63120" y="3313440"/>
                <a:ext cx="384120" cy="14256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32560" y="3206880"/>
                <a:ext cx="66960" cy="1404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13760" y="3149280"/>
                <a:ext cx="121680" cy="7920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07640" y="3178440"/>
                <a:ext cx="115560" cy="6444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63000" y="3131280"/>
                <a:ext cx="63360" cy="1944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13760" y="3304440"/>
                <a:ext cx="411840" cy="18576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78720" y="3324600"/>
                <a:ext cx="121680" cy="1656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28520" y="2928960"/>
                <a:ext cx="455760" cy="5054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18880" y="2630880"/>
                <a:ext cx="252000" cy="33228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537600" y="2916360"/>
                <a:ext cx="182880" cy="29268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733440" y="2788200"/>
                <a:ext cx="28800" cy="7200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25000" y="2714040"/>
                <a:ext cx="83520" cy="64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558840" y="2694240"/>
                <a:ext cx="22680" cy="19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07080" y="2694240"/>
                <a:ext cx="22680" cy="28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61800" y="2780640"/>
                <a:ext cx="18360" cy="342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44880" y="280260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25000" y="2786400"/>
                <a:ext cx="46080" cy="990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95280" y="2860200"/>
                <a:ext cx="25200" cy="5796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598440" y="2916360"/>
                <a:ext cx="168120" cy="27612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3680" y="2927520"/>
                <a:ext cx="77400" cy="27792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67920" y="3069720"/>
                <a:ext cx="121680" cy="34812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25000" y="2611440"/>
                <a:ext cx="272880" cy="20376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86200" y="2945520"/>
                <a:ext cx="62640" cy="644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44080" y="2999520"/>
                <a:ext cx="79200" cy="22176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55520" y="3069720"/>
                <a:ext cx="48240" cy="30852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45400" y="3357000"/>
                <a:ext cx="142560" cy="12780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63120" y="2994120"/>
                <a:ext cx="22032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63120" y="3048120"/>
                <a:ext cx="220320" cy="162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63120" y="3084120"/>
                <a:ext cx="220320" cy="1980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63120" y="3125880"/>
                <a:ext cx="22032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932280" y="4209840"/>
              <a:ext cx="1226880" cy="775440"/>
              <a:chOff x="3932280" y="4209840"/>
              <a:chExt cx="1226880" cy="775440"/>
            </a:xfrm>
          </p:grpSpPr>
          <p:sp>
            <p:nvSpPr>
              <p:cNvPr id="193" name=""/>
              <p:cNvSpPr/>
              <p:nvPr/>
            </p:nvSpPr>
            <p:spPr>
              <a:xfrm>
                <a:off x="3982680" y="4785120"/>
                <a:ext cx="430560" cy="18756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02040" y="4428000"/>
                <a:ext cx="193320" cy="6876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99880" y="4680360"/>
                <a:ext cx="289440" cy="21672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96680" y="4660920"/>
                <a:ext cx="688680" cy="15696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92360" y="4716720"/>
                <a:ext cx="479160" cy="18036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75480" y="4431600"/>
                <a:ext cx="127800" cy="28872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53200" y="4411440"/>
                <a:ext cx="424440" cy="9576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99880" y="4431600"/>
                <a:ext cx="90000" cy="33192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53200" y="4428000"/>
                <a:ext cx="384120" cy="33552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97480" y="4456800"/>
                <a:ext cx="295560" cy="24516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277160" y="4752720"/>
                <a:ext cx="579600" cy="22356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01000" y="4770720"/>
                <a:ext cx="342360" cy="8820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88040" y="4812120"/>
                <a:ext cx="361440" cy="1407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087880" y="4716720"/>
                <a:ext cx="7128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299840" y="4656960"/>
                <a:ext cx="115560" cy="7776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4600" y="4686120"/>
                <a:ext cx="104760" cy="612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07120" y="4642920"/>
                <a:ext cx="60840" cy="162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65760" y="4209840"/>
                <a:ext cx="306720" cy="2599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95280" y="4225680"/>
                <a:ext cx="255960" cy="49284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15160" y="4312440"/>
                <a:ext cx="69480" cy="7776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031280" y="4218840"/>
                <a:ext cx="184680" cy="9144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79160" y="4388040"/>
                <a:ext cx="115560" cy="5976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49000" y="4308840"/>
                <a:ext cx="2088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02560" y="4312440"/>
                <a:ext cx="16560" cy="1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2280" y="4509360"/>
                <a:ext cx="453960" cy="41472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28760" y="4494600"/>
                <a:ext cx="228960" cy="22212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91320" y="4629960"/>
                <a:ext cx="201240" cy="27972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02560" y="4866480"/>
                <a:ext cx="144720" cy="7560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95520" y="4592160"/>
                <a:ext cx="29520" cy="29052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213800" y="4843080"/>
                <a:ext cx="145080" cy="8676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18160" y="4866480"/>
                <a:ext cx="138600" cy="1188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986640" y="4882680"/>
                <a:ext cx="8280" cy="79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354560" y="4891680"/>
                <a:ext cx="0" cy="72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543920" y="4505760"/>
                <a:ext cx="22032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543920" y="4561200"/>
                <a:ext cx="22032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43920" y="4602960"/>
                <a:ext cx="22032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43920" y="4642920"/>
                <a:ext cx="220320" cy="1404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5013360"/>
            <a:ext cx="56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１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空知建設業協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141300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技術者のための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プレゼンテーション力向上講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080" y="270792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自分で物語を書いて、それを他人にうまく伝えること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3080" y="270792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物語は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右脳に訴える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8840" y="3141360"/>
            <a:ext cx="74282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右脳に訴える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とは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勝手に想像してもらうこと</a:t>
            </a:r>
            <a:br>
              <a:rPr sz="7200"/>
            </a:b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88840" y="3141360"/>
            <a:ext cx="74282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しかし、効果的な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プレゼンテーションには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141360"/>
            <a:ext cx="8496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語彙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画像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音楽（音）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つまりデータと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8840" y="2650680"/>
            <a:ext cx="74282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して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ストーリー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が必要です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3080" y="270792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例題：僕は三船のかしわ鍋が好きです。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88840" y="2650680"/>
            <a:ext cx="74282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創造する力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593712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14720" y="414972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統合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42228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象徴（界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177336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並列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38160" y="25653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外的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4160" y="458136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内的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800">
            <a:off x="1908000" y="694800"/>
            <a:ext cx="951120" cy="4749840"/>
          </a:xfrm>
          <a:custGeom>
            <a:avLst/>
            <a:gdLst>
              <a:gd name="textAreaLeft" fmla="*/ 607680 w 951120"/>
              <a:gd name="textAreaRight" fmla="*/ 951480 w 951120"/>
              <a:gd name="textAreaTop" fmla="*/ 123840 h 4749840"/>
              <a:gd name="textAreaBottom" fmla="*/ 4626000 h 474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63840" y="3444840"/>
            <a:ext cx="11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2e18"/>
                </a:solidFill>
                <a:latin typeface="HGP明朝B"/>
                <a:ea typeface="HGP明朝B"/>
              </a:rPr>
              <a:t>創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2365200"/>
            <a:ext cx="214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近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想像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9840" y="4741920"/>
            <a:ext cx="214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遠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現実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4040"/>
            <a:ext cx="8929800" cy="75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400" spc="-1" strike="noStrike">
                <a:solidFill>
                  <a:srgbClr val="00004a"/>
                </a:solidFill>
                <a:latin typeface="HGP明朝B"/>
                <a:ea typeface="HGP明朝B"/>
              </a:rPr>
              <a:t>創造性のしくみ</a:t>
            </a:r>
            <a:endParaRPr b="0" lang="en-US" sz="24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795640" y="4237200"/>
            <a:ext cx="863640" cy="57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19640" y="2941200"/>
            <a:ext cx="0" cy="21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63640" y="510048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64000" y="53895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明朝B"/>
              </a:rPr>
              <a:t>デー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4000" y="4932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明朝B"/>
                <a:ea typeface="HGP明朝B"/>
              </a:rPr>
              <a:t>語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88840" y="2795400"/>
            <a:ext cx="74282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れには</a:t>
            </a:r>
            <a:br>
              <a:rPr sz="8000"/>
            </a:br>
            <a:r>
              <a:rPr b="0" lang="zh-CN" sz="8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常日頃の観察と情報発信が大切です。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080" y="11556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おぼんのような世界</a:t>
            </a:r>
            <a:endParaRPr b="0" lang="en-US" sz="6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056720" cy="52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920" y="2502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データありき！</a:t>
            </a:r>
            <a:br>
              <a:rPr sz="8000"/>
            </a:br>
            <a:br>
              <a:rPr sz="8000"/>
            </a:b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ためには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164360" y="4508640"/>
            <a:ext cx="180180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920" y="2502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常日頃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観察すること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164360" y="4508640"/>
            <a:ext cx="180180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920" y="250200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常日頃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言葉に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すること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164360" y="4508640"/>
            <a:ext cx="180180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0720" y="1916280"/>
            <a:ext cx="87850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トラや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ブログを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活用しましょう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164360" y="4508640"/>
            <a:ext cx="180180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88840" y="2349000"/>
            <a:ext cx="74282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して、自分の型をもつこと。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920" y="2506320"/>
            <a:ext cx="86421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型のない人は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うまいな、と思う人の型を徹底して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真似しましょう。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12960" y="2492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情報を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発信せよ！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380360" y="4581360"/>
            <a:ext cx="16668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821120" y="6359400"/>
            <a:ext cx="42260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 Copyright TOSIO MOMOTI 2008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ＭＳ Ｐゴシック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1326960"/>
            <a:ext cx="7278480" cy="33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　　　　　　　　</a:t>
            </a:r>
            <a:r>
              <a:rPr b="1" lang="ja-JP" sz="34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桃知　利男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pinkhip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200" spc="-1" strike="noStrike" u="sng">
                <a:solidFill>
                  <a:srgbClr val="00a000"/>
                </a:solidFill>
                <a:uFillTx/>
                <a:latin typeface="Times New Roman"/>
                <a:hlinkClick r:id="rId1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1281240" cy="1361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080" y="250632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内 ／ 外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37018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あかね平成丸ｺﾞｼｯｸ体W8"/>
                <a:ea typeface="HGあかね平成丸ｺﾞｼｯｸ体W8"/>
              </a:rPr>
              <a:t>（発注者・受注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371628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あかね平成丸ｺﾞｼｯｸ体W8"/>
                <a:ea typeface="HGあかね平成丸ｺﾞｼｯｸ体W8"/>
              </a:rPr>
              <a:t>（市民社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417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円環の外にいる人達にとって、建設業は「なんだかわからないもの」になっていないだろか？</a:t>
            </a:r>
            <a:endParaRPr b="0" lang="en-US" sz="54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417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発注者ばかりでなく、壁を突き抜け、外に届くようなプレゼンを期待します。</a:t>
            </a:r>
            <a:endParaRPr b="0" lang="en-US" sz="54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080" y="270792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プレゼンテーション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重要性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3080" y="270792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裁判員制度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での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プレゼンテーション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採用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080" y="270792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プレゼンテーション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できによっては有罪が無罪になるような時代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3080" y="2707920"/>
            <a:ext cx="8820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プレゼンテーション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って何？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8-06-10T05:15:10Z</dcterms:modified>
  <cp:revision>1881</cp:revision>
  <dc:subject>中小建設業IT化概論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